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5AFD-DE47-447D-982F-2498A395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back through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s path through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eeded for likely matching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bability 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BF1-4C42-4AEA-8F44-8350EDCF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3839040"/>
            <a:ext cx="8915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7BB-D002-4DCD-A141-F69649CB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38390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360" y="38390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7E9-8C63-4741-8B1E-8F69F22C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0600" y="13712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5240" y="13712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38390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0600" y="38390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5240" y="38390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8C6-C2B6-491E-B240-93F7FF79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96A3-111D-4EC5-9D9A-B5D838C3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4545-C8FB-4D26-8BA3-9B686919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5779-1A37-4CE1-8CCD-FACDCABD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3264-410E-48DC-8B68-EF109E91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6CB5-848B-41B5-A7C7-E56FA6B7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1E2C-F143-4EE9-9A76-9515D6EB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5960" y="38390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FD38-1030-4C7F-9F7B-8447CC6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E7B-CEBC-4F4C-9F5B-127133FE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4360" y="38390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EC53-5970-477E-A671-4FC2EBA1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5960" y="3839040"/>
            <a:ext cx="8915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BF17-2E4B-419A-9E27-615C8D4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5960" y="3839040"/>
            <a:ext cx="8915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3A99-EA25-40ED-889F-D707B5BC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5960" y="38390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4360" y="38390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75B1-7AF3-41A2-BA7C-43A69416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90600" y="13712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5240" y="13712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5960" y="38390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90600" y="38390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5240" y="3839040"/>
            <a:ext cx="28706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7F44-383A-4034-946E-8C6D10F0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0C1-E5F3-4009-8D79-8C97E2A6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FD5-B8D6-48C7-B2B8-2555845C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A02-21CB-41DE-BE9B-AA345762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B5F-DDB1-4CE6-8545-7D321ABE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38390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64B-83D3-4E67-8286-8A96558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360" y="38390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E80-DE34-4228-B0E2-DE1E303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3839040"/>
            <a:ext cx="8915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ABE-1E65-4F67-8C69-1C4E459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3691-DA34-4A63-BD98-0EC4F460B1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>
                  <a:alpha val="45098"/>
                </a:srgbClr>
              </a:gs>
              <a:gs pos="100000">
                <a:srgbClr val="600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6689-34C9-4006-BC1A-74A1113E3A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828440" y="7162920"/>
            <a:ext cx="15228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1981080" y="7162560"/>
            <a:ext cx="7632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981080" y="7391160"/>
            <a:ext cx="15264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752480" y="7391160"/>
            <a:ext cx="15264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76520" y="7619760"/>
            <a:ext cx="15228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76520" y="7772040"/>
            <a:ext cx="15228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752480" y="8000640"/>
            <a:ext cx="76320" cy="30492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447920" y="8305560"/>
            <a:ext cx="304560" cy="7596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19320" y="8381520"/>
            <a:ext cx="228600" cy="30492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19320" y="8686800"/>
            <a:ext cx="609480" cy="4572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00200" y="9220320"/>
            <a:ext cx="228600" cy="30456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219320" y="9524520"/>
            <a:ext cx="38088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219320" y="9829440"/>
            <a:ext cx="45720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066680" y="10134360"/>
            <a:ext cx="22860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447920" y="10134360"/>
            <a:ext cx="30456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19320" y="10362960"/>
            <a:ext cx="22860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295280" y="10591560"/>
            <a:ext cx="15264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43000" y="10743840"/>
            <a:ext cx="15228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990720" y="10896120"/>
            <a:ext cx="152280" cy="30492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828800" y="10896480"/>
            <a:ext cx="76320" cy="15264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28800" y="11048760"/>
            <a:ext cx="76320" cy="10666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133360" y="11048760"/>
            <a:ext cx="75960" cy="10666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209680" y="12115800"/>
            <a:ext cx="457200" cy="3808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371600" y="12115800"/>
            <a:ext cx="457200" cy="3808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33720" y="10820160"/>
            <a:ext cx="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819160" y="10743840"/>
            <a:ext cx="152280" cy="30492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666880" y="10591560"/>
            <a:ext cx="15264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437920" y="10439280"/>
            <a:ext cx="228600" cy="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285640" y="10210320"/>
            <a:ext cx="15228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62320" y="9829440"/>
            <a:ext cx="45720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209680" y="9677160"/>
            <a:ext cx="15264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438280" y="9524880"/>
            <a:ext cx="152640" cy="15264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209320" y="9295920"/>
            <a:ext cx="22860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590560" y="8915040"/>
            <a:ext cx="152280" cy="30492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285640" y="8762760"/>
            <a:ext cx="30492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133360" y="8534160"/>
            <a:ext cx="15228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286000" y="8381520"/>
            <a:ext cx="380880" cy="30492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057040" y="8305560"/>
            <a:ext cx="228600" cy="7596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057400" y="8076960"/>
            <a:ext cx="76320" cy="22860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057040" y="7848360"/>
            <a:ext cx="228600" cy="15228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133360" y="7696080"/>
            <a:ext cx="75960" cy="76320"/>
          </a:xfrm>
          <a:prstGeom prst="line">
            <a:avLst/>
          </a:prstGeom>
          <a:ln w="38160">
            <a:solidFill>
              <a:srgbClr val="03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awHMMer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886200" y="1828800"/>
            <a:ext cx="54100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aming protein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ke Hous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 Hanr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halleng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search algorithm doesn’t map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quire lots of fine-grained parallel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,000 kernel invocation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 Arithmetic inten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:1 compute:fetch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gment processors have limited resour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nels need to be 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idden Markov Model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cxnSp>
        <p:nvCxnSpPr>
          <p:cNvPr id="242" name=""/>
          <p:cNvCxnSpPr/>
          <p:nvPr/>
        </p:nvCxnSpPr>
        <p:spPr>
          <a:xfrm flipH="1" rot="16200000">
            <a:off x="4647960" y="5104440"/>
            <a:ext cx="76680" cy="419148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57240">
            <a:solidFill>
              <a:srgbClr val="ff9900"/>
            </a:solidFill>
            <a:miter/>
            <a:tailEnd len="lg" type="stealth" w="lg"/>
          </a:ln>
        </p:spPr>
      </p:cxnSp>
      <p:cxnSp>
        <p:nvCxnSpPr>
          <p:cNvPr id="243" name=""/>
          <p:cNvCxnSpPr/>
          <p:nvPr/>
        </p:nvCxnSpPr>
        <p:spPr>
          <a:xfrm flipH="1" flipV="1">
            <a:off x="7619400" y="7390800"/>
            <a:ext cx="346680" cy="324360"/>
          </a:xfrm>
          <a:prstGeom prst="curvedConnector5">
            <a:avLst>
              <a:gd name="adj1" fmla="val -66008"/>
              <a:gd name="adj2" fmla="val 105777"/>
              <a:gd name="adj3" fmla="val -66008"/>
            </a:avLst>
          </a:prstGeom>
          <a:ln w="57240">
            <a:solidFill>
              <a:srgbClr val="008000"/>
            </a:solidFill>
            <a:miter/>
            <a:tailEnd len="lg" type="triangle" w="lg"/>
          </a:ln>
        </p:spPr>
      </p:cxn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chine represents unobservable world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438280"/>
            <a:ext cx="2362320" cy="914400"/>
          </a:xfrm>
          <a:prstGeom prst="ellipse">
            <a:avLst/>
          </a:prstGeom>
          <a:solidFill>
            <a:srgbClr val="4a4a4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e6e6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2438280"/>
            <a:ext cx="2362320" cy="914400"/>
          </a:xfrm>
          <a:prstGeom prst="ellipse">
            <a:avLst/>
          </a:prstGeom>
          <a:solidFill>
            <a:srgbClr val="4a4a4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ransition probabiliti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2438280"/>
            <a:ext cx="2362320" cy="914400"/>
          </a:xfrm>
          <a:prstGeom prst="ellipse">
            <a:avLst/>
          </a:prstGeom>
          <a:solidFill>
            <a:srgbClr val="4a4a4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e6e6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2438280"/>
            <a:ext cx="2362320" cy="914400"/>
          </a:xfrm>
          <a:prstGeom prst="ellipse">
            <a:avLst/>
          </a:prstGeom>
          <a:solidFill>
            <a:srgbClr val="4a4a4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8" idx="0"/>
            <a:endCxn id="249" idx="0"/>
          </p:cNvCxnSpPr>
          <p:nvPr/>
        </p:nvCxnSpPr>
        <p:spPr>
          <a:xfrm flipH="1" rot="16200000">
            <a:off x="4570920" y="342360"/>
            <a:ext cx="2520" cy="4191840"/>
          </a:xfrm>
          <a:prstGeom prst="curvedConnector5">
            <a:avLst>
              <a:gd name="adj1" fmla="val -32400000"/>
              <a:gd name="adj2" fmla="val 49995"/>
              <a:gd name="adj3" fmla="val -32400000"/>
            </a:avLst>
          </a:prstGeom>
          <a:ln w="57240">
            <a:solidFill>
              <a:srgbClr val="ffbd00"/>
            </a:solidFill>
            <a:miter/>
            <a:tailEnd len="lg" type="triangle" w="lg"/>
          </a:ln>
        </p:spPr>
      </p:cxnSp>
      <p:cxnSp>
        <p:nvCxnSpPr>
          <p:cNvPr id="251" name=""/>
          <p:cNvCxnSpPr>
            <a:stCxn id="249" idx="4"/>
            <a:endCxn id="248" idx="4"/>
          </p:cNvCxnSpPr>
          <p:nvPr/>
        </p:nvCxnSpPr>
        <p:spPr>
          <a:xfrm rot="5400000">
            <a:off x="4570560" y="1257840"/>
            <a:ext cx="2520" cy="4191840"/>
          </a:xfrm>
          <a:prstGeom prst="curvedConnector5">
            <a:avLst>
              <a:gd name="adj1" fmla="val 27983333"/>
              <a:gd name="adj2" fmla="val 49995"/>
              <a:gd name="adj3" fmla="val 27983333"/>
            </a:avLst>
          </a:prstGeom>
          <a:ln w="57240">
            <a:solidFill>
              <a:srgbClr val="008aef"/>
            </a:solidFill>
            <a:miter/>
            <a:tailEnd len="lg" type="triangle" w="lg"/>
          </a:ln>
        </p:spPr>
      </p:cxnSp>
      <p:cxnSp>
        <p:nvCxnSpPr>
          <p:cNvPr id="252" name=""/>
          <p:cNvCxnSpPr/>
          <p:nvPr/>
        </p:nvCxnSpPr>
        <p:spPr>
          <a:xfrm flipH="1" rot="10800000">
            <a:off x="1294920" y="2513880"/>
            <a:ext cx="347040" cy="324720"/>
          </a:xfrm>
          <a:prstGeom prst="curvedConnector5">
            <a:avLst>
              <a:gd name="adj1" fmla="val -110072"/>
              <a:gd name="adj2" fmla="val 105771"/>
              <a:gd name="adj3" fmla="val -110072"/>
            </a:avLst>
          </a:prstGeom>
          <a:ln w="57240">
            <a:solidFill>
              <a:srgbClr val="ffbd00"/>
            </a:solidFill>
            <a:miter/>
            <a:tailEnd len="lg" type="triangle" w="lg"/>
          </a:ln>
        </p:spPr>
      </p:cxnSp>
      <p:cxnSp>
        <p:nvCxnSpPr>
          <p:cNvPr id="253" name=""/>
          <p:cNvCxnSpPr/>
          <p:nvPr/>
        </p:nvCxnSpPr>
        <p:spPr>
          <a:xfrm flipH="1" flipV="1">
            <a:off x="7467120" y="2590200"/>
            <a:ext cx="347040" cy="324360"/>
          </a:xfrm>
          <a:prstGeom prst="curvedConnector5">
            <a:avLst>
              <a:gd name="adj1" fmla="val -104569"/>
              <a:gd name="adj2" fmla="val 105777"/>
              <a:gd name="adj3" fmla="val -104569"/>
            </a:avLst>
          </a:prstGeom>
          <a:ln w="57240">
            <a:solidFill>
              <a:srgbClr val="008aef"/>
            </a:solidFill>
            <a:miter/>
            <a:tailEnd len="lg" type="triangle" w="lg"/>
          </a:ln>
        </p:spPr>
      </p:cxnSp>
      <p:sp>
        <p:nvSpPr>
          <p:cNvPr id="254" name=""/>
          <p:cNvSpPr/>
          <p:nvPr/>
        </p:nvSpPr>
        <p:spPr>
          <a:xfrm>
            <a:off x="4343400" y="14158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4480" y="38098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200" y="236232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7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51920" y="2362320"/>
            <a:ext cx="587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bservation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396252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coat|Rainy)=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nothing|Rainy)=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umbrella|Rainy)=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96252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coat|Sunny)=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nothing|Sunny)=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umbrella|Sunny)=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70840" y="696420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ies of ob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70102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ble clues as to the world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2438280"/>
            <a:ext cx="2362320" cy="914400"/>
          </a:xfrm>
          <a:prstGeom prst="ellipse">
            <a:avLst/>
          </a:prstGeom>
          <a:solidFill>
            <a:srgbClr val="4a4a4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e6e6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2438280"/>
            <a:ext cx="2362320" cy="914400"/>
          </a:xfrm>
          <a:prstGeom prst="ellipse">
            <a:avLst/>
          </a:prstGeom>
          <a:solidFill>
            <a:srgbClr val="4a4a4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3" idx="0"/>
            <a:endCxn id="264" idx="0"/>
          </p:cNvCxnSpPr>
          <p:nvPr/>
        </p:nvCxnSpPr>
        <p:spPr>
          <a:xfrm flipH="1" rot="16200000">
            <a:off x="4570920" y="342360"/>
            <a:ext cx="2520" cy="4191840"/>
          </a:xfrm>
          <a:prstGeom prst="curvedConnector5">
            <a:avLst>
              <a:gd name="adj1" fmla="val -32400000"/>
              <a:gd name="adj2" fmla="val 49995"/>
              <a:gd name="adj3" fmla="val -32400000"/>
            </a:avLst>
          </a:prstGeom>
          <a:ln w="57240">
            <a:solidFill>
              <a:srgbClr val="ffbd00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64" idx="4"/>
            <a:endCxn id="263" idx="4"/>
          </p:cNvCxnSpPr>
          <p:nvPr/>
        </p:nvCxnSpPr>
        <p:spPr>
          <a:xfrm rot="5400000">
            <a:off x="4570560" y="1257840"/>
            <a:ext cx="2520" cy="4191840"/>
          </a:xfrm>
          <a:prstGeom prst="curvedConnector5">
            <a:avLst>
              <a:gd name="adj1" fmla="val 27983333"/>
              <a:gd name="adj2" fmla="val 49995"/>
              <a:gd name="adj3" fmla="val 27983333"/>
            </a:avLst>
          </a:prstGeom>
          <a:ln w="57240">
            <a:solidFill>
              <a:srgbClr val="008aef"/>
            </a:solidFill>
            <a:miter/>
            <a:tailEnd len="lg" type="triangle" w="lg"/>
          </a:ln>
        </p:spPr>
      </p:cxnSp>
      <p:cxnSp>
        <p:nvCxnSpPr>
          <p:cNvPr id="267" name=""/>
          <p:cNvCxnSpPr/>
          <p:nvPr/>
        </p:nvCxnSpPr>
        <p:spPr>
          <a:xfrm flipH="1" rot="10800000">
            <a:off x="1294920" y="2513880"/>
            <a:ext cx="347040" cy="324720"/>
          </a:xfrm>
          <a:prstGeom prst="curvedConnector5">
            <a:avLst>
              <a:gd name="adj1" fmla="val -110072"/>
              <a:gd name="adj2" fmla="val 105771"/>
              <a:gd name="adj3" fmla="val -110072"/>
            </a:avLst>
          </a:prstGeom>
          <a:ln w="57240">
            <a:solidFill>
              <a:srgbClr val="ffbd00"/>
            </a:solidFill>
            <a:miter/>
            <a:tailEnd len="lg" type="triangle" w="lg"/>
          </a:ln>
        </p:spPr>
      </p:cxnSp>
      <p:cxnSp>
        <p:nvCxnSpPr>
          <p:cNvPr id="268" name=""/>
          <p:cNvCxnSpPr/>
          <p:nvPr/>
        </p:nvCxnSpPr>
        <p:spPr>
          <a:xfrm flipH="1" flipV="1">
            <a:off x="7467120" y="2590200"/>
            <a:ext cx="347040" cy="324360"/>
          </a:xfrm>
          <a:prstGeom prst="curvedConnector5">
            <a:avLst>
              <a:gd name="adj1" fmla="val -104569"/>
              <a:gd name="adj2" fmla="val 105777"/>
              <a:gd name="adj3" fmla="val -104569"/>
            </a:avLst>
          </a:prstGeom>
          <a:ln w="57240">
            <a:solidFill>
              <a:srgbClr val="008aef"/>
            </a:solidFill>
            <a:miter/>
            <a:tailEnd len="lg" type="triangle" w="lg"/>
          </a:ln>
        </p:spPr>
      </p:cxnSp>
      <p:sp>
        <p:nvSpPr>
          <p:cNvPr id="269" name=""/>
          <p:cNvSpPr/>
          <p:nvPr/>
        </p:nvSpPr>
        <p:spPr>
          <a:xfrm>
            <a:off x="4343400" y="14158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4480" y="38098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200" y="236232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7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51920" y="2362320"/>
            <a:ext cx="587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erbi algorith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HMM and observation sequence, Viterbi fi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likely path through world st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ability of this 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ls probability t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observ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 over incoming tran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state machine taking the most likely path to this current state while emitting given observation seq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2819520" y="1371600"/>
            <a:ext cx="5752440" cy="534960"/>
            <a:chOff x="2819520" y="1371600"/>
            <a:chExt cx="5752440" cy="534960"/>
          </a:xfrm>
        </p:grpSpPr>
        <p:sp>
          <p:nvSpPr>
            <p:cNvPr id="276" name=""/>
            <p:cNvSpPr/>
            <p:nvPr/>
          </p:nvSpPr>
          <p:spPr>
            <a:xfrm>
              <a:off x="5183640" y="1386000"/>
              <a:ext cx="97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a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680" y="1371600"/>
              <a:ext cx="15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oth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19520" y="13716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mbrell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 flipV="1">
            <a:off x="4572000" y="1218960"/>
            <a:ext cx="4572000" cy="1752480"/>
          </a:xfrm>
          <a:custGeom>
            <a:avLst/>
            <a:gdLst>
              <a:gd name="textAreaLeft" fmla="*/ 0 w 4572000"/>
              <a:gd name="textAreaRight" fmla="*/ 3916440 w 4572000"/>
              <a:gd name="textAreaTop" fmla="*/ 118728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6567"/>
                </a:moveTo>
                <a:lnTo>
                  <a:pt x="0" y="11534"/>
                </a:lnTo>
                <a:lnTo>
                  <a:pt x="0" y="14632"/>
                </a:lnTo>
                <a:lnTo>
                  <a:pt x="14632" y="14632"/>
                </a:lnTo>
                <a:lnTo>
                  <a:pt x="14632" y="0"/>
                </a:lnTo>
                <a:lnTo>
                  <a:pt x="11534" y="0"/>
                </a:lnTo>
                <a:lnTo>
                  <a:pt x="16567" y="0"/>
                </a:lnTo>
                <a:lnTo>
                  <a:pt x="21600" y="0"/>
                </a:lnTo>
                <a:lnTo>
                  <a:pt x="18502" y="0"/>
                </a:lnTo>
                <a:lnTo>
                  <a:pt x="18502" y="18502"/>
                </a:lnTo>
                <a:lnTo>
                  <a:pt x="0" y="18502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101680" y="2646360"/>
            <a:ext cx="436680" cy="2743200"/>
            <a:chOff x="2101680" y="2646360"/>
            <a:chExt cx="436680" cy="2743200"/>
          </a:xfrm>
        </p:grpSpPr>
        <p:sp>
          <p:nvSpPr>
            <p:cNvPr id="281" name=""/>
            <p:cNvSpPr/>
            <p:nvPr/>
          </p:nvSpPr>
          <p:spPr>
            <a:xfrm>
              <a:off x="2103120" y="33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01680" y="4932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01680" y="4170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03120" y="2646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981080" y="1752480"/>
            <a:ext cx="6705720" cy="1008000"/>
            <a:chOff x="1981080" y="1752480"/>
            <a:chExt cx="6705720" cy="1008000"/>
          </a:xfrm>
        </p:grpSpPr>
        <p:sp>
          <p:nvSpPr>
            <p:cNvPr id="286" name=""/>
            <p:cNvSpPr/>
            <p:nvPr/>
          </p:nvSpPr>
          <p:spPr>
            <a:xfrm>
              <a:off x="2870280" y="1752480"/>
              <a:ext cx="58165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.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                             .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3009600" y="1104480"/>
              <a:ext cx="228600" cy="2286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5696640" y="1008360"/>
              <a:ext cx="228600" cy="24782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4440 h 2478240"/>
                <a:gd name="textAreaBottom" fmla="*/ 2413800 h 247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erbi Exampl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4419720"/>
            <a:ext cx="1752840" cy="914400"/>
          </a:xfrm>
          <a:prstGeom prst="ellipse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0600" y="3581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40600" y="52275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2743200"/>
            <a:ext cx="1752840" cy="914400"/>
          </a:xfrm>
          <a:prstGeom prst="ellipse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875240" y="2585880"/>
            <a:ext cx="2544480" cy="2849400"/>
            <a:chOff x="1875240" y="2585880"/>
            <a:chExt cx="2544480" cy="2849400"/>
          </a:xfrm>
        </p:grpSpPr>
        <p:sp>
          <p:nvSpPr>
            <p:cNvPr id="296" name=""/>
            <p:cNvSpPr/>
            <p:nvPr/>
          </p:nvSpPr>
          <p:spPr>
            <a:xfrm>
              <a:off x="2590920" y="2743200"/>
              <a:ext cx="1752480" cy="914400"/>
            </a:xfrm>
            <a:prstGeom prst="ellipse">
              <a:avLst/>
            </a:prstGeom>
            <a:solidFill>
              <a:srgbClr val="3e3e3e"/>
            </a:solidFill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Rai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4419720"/>
              <a:ext cx="1752840" cy="914400"/>
            </a:xfrm>
            <a:prstGeom prst="ellipse">
              <a:avLst/>
            </a:prstGeom>
            <a:solidFill>
              <a:srgbClr val="3e3e3e"/>
            </a:solidFill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un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98" name=""/>
            <p:cNvCxnSpPr>
              <a:stCxn id="294" idx="7"/>
              <a:endCxn id="296" idx="1"/>
            </p:cNvCxnSpPr>
            <p:nvPr/>
          </p:nvCxnSpPr>
          <p:spPr>
            <a:xfrm flipH="1" rot="16200000">
              <a:off x="2360880" y="2390400"/>
              <a:ext cx="2520" cy="972360"/>
            </a:xfrm>
            <a:prstGeom prst="curvedConnector5">
              <a:avLst>
                <a:gd name="adj1" fmla="val -13400000"/>
                <a:gd name="adj2" fmla="val 50000"/>
                <a:gd name="adj3" fmla="val -13400000"/>
              </a:avLst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4" idx="5"/>
              <a:endCxn id="297" idx="2"/>
            </p:cNvCxnSpPr>
            <p:nvPr/>
          </p:nvCxnSpPr>
          <p:spPr>
            <a:xfrm flipH="1" rot="16200000">
              <a:off x="1595160" y="3804840"/>
              <a:ext cx="1353240" cy="791280"/>
            </a:xfrm>
            <a:prstGeom prst="curvedConnector2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1" idx="7"/>
              <a:endCxn id="296" idx="2"/>
            </p:cNvCxnSpPr>
            <p:nvPr/>
          </p:nvCxnSpPr>
          <p:spPr>
            <a:xfrm flipH="1" flipV="1" rot="5400000">
              <a:off x="1557000" y="3518640"/>
              <a:ext cx="1353240" cy="715320"/>
            </a:xfrm>
            <a:prstGeom prst="curvedConnector2">
              <a:avLst/>
            </a:prstGeom>
            <a:ln w="38160">
              <a:solidFill>
                <a:srgbClr val="008aef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1" idx="5"/>
              <a:endCxn id="297" idx="3"/>
            </p:cNvCxnSpPr>
            <p:nvPr/>
          </p:nvCxnSpPr>
          <p:spPr>
            <a:xfrm flipH="1" rot="16200000">
              <a:off x="2397960" y="4677120"/>
              <a:ext cx="2520" cy="1048320"/>
            </a:xfrm>
            <a:prstGeom prst="curvedConnector5">
              <a:avLst>
                <a:gd name="adj1" fmla="val 10883333"/>
                <a:gd name="adj2" fmla="val 49982"/>
                <a:gd name="adj3" fmla="val 10883333"/>
              </a:avLst>
            </a:prstGeom>
            <a:ln w="38160">
              <a:solidFill>
                <a:srgbClr val="008aef"/>
              </a:solidFill>
              <a:miter/>
              <a:tailEnd len="med" type="triangle" w="med"/>
            </a:ln>
          </p:spPr>
        </p:cxnSp>
      </p:grpSp>
      <p:grpSp>
        <p:nvGrpSpPr>
          <p:cNvPr id="302" name=""/>
          <p:cNvGrpSpPr/>
          <p:nvPr/>
        </p:nvGrpSpPr>
        <p:grpSpPr>
          <a:xfrm>
            <a:off x="2103120" y="2646360"/>
            <a:ext cx="435240" cy="2745720"/>
            <a:chOff x="2103120" y="2646360"/>
            <a:chExt cx="435240" cy="2745720"/>
          </a:xfrm>
        </p:grpSpPr>
        <p:sp>
          <p:nvSpPr>
            <p:cNvPr id="303" name=""/>
            <p:cNvSpPr/>
            <p:nvPr/>
          </p:nvSpPr>
          <p:spPr>
            <a:xfrm>
              <a:off x="2103120" y="33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03120" y="4932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03120" y="417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03120" y="2646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974320" y="3581280"/>
            <a:ext cx="890280" cy="2227680"/>
            <a:chOff x="2974320" y="3581280"/>
            <a:chExt cx="890280" cy="2227680"/>
          </a:xfrm>
        </p:grpSpPr>
        <p:sp>
          <p:nvSpPr>
            <p:cNvPr id="308" name=""/>
            <p:cNvSpPr/>
            <p:nvPr/>
          </p:nvSpPr>
          <p:spPr>
            <a:xfrm>
              <a:off x="2974320" y="522756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0120" y="358128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2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981080" y="1752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(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7,1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5654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(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3,1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6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(Umbrella | Sunny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32160" y="17524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Umbrella|Rai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0" y="5700600"/>
            <a:ext cx="6934320" cy="1008000"/>
            <a:chOff x="2286000" y="5700600"/>
            <a:chExt cx="6934320" cy="1008000"/>
          </a:xfrm>
        </p:grpSpPr>
        <p:sp>
          <p:nvSpPr>
            <p:cNvPr id="314" name=""/>
            <p:cNvSpPr/>
            <p:nvPr/>
          </p:nvSpPr>
          <p:spPr>
            <a:xfrm>
              <a:off x="3176640" y="5700600"/>
              <a:ext cx="60436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.0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6                                 .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429000" y="4876560"/>
              <a:ext cx="304560" cy="25909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67320 h 2590920"/>
                <a:gd name="textAreaBottom" fmla="*/ 252360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6400800" y="4800600"/>
              <a:ext cx="304560" cy="27432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87"/>
                  </a:lnTo>
                  <a:cubicBezTo>
                    <a:pt x="10800" y="10287"/>
                    <a:pt x="5400" y="11187"/>
                    <a:pt x="0" y="11187"/>
                  </a:cubicBezTo>
                  <a:cubicBezTo>
                    <a:pt x="5400" y="11187"/>
                    <a:pt x="10800" y="12087"/>
                    <a:pt x="10800" y="1298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0" y="91440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day           Monday        Tuesday     Wednes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6521400" y="2646360"/>
            <a:ext cx="436680" cy="2745720"/>
            <a:chOff x="6521400" y="2646360"/>
            <a:chExt cx="436680" cy="2745720"/>
          </a:xfrm>
        </p:grpSpPr>
        <p:sp>
          <p:nvSpPr>
            <p:cNvPr id="319" name=""/>
            <p:cNvSpPr/>
            <p:nvPr/>
          </p:nvSpPr>
          <p:spPr>
            <a:xfrm>
              <a:off x="6521400" y="3332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22840" y="4932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22840" y="417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21400" y="2646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387680" y="2646360"/>
            <a:ext cx="436680" cy="2743200"/>
            <a:chOff x="4387680" y="2646360"/>
            <a:chExt cx="436680" cy="2743200"/>
          </a:xfrm>
        </p:grpSpPr>
        <p:sp>
          <p:nvSpPr>
            <p:cNvPr id="324" name=""/>
            <p:cNvSpPr/>
            <p:nvPr/>
          </p:nvSpPr>
          <p:spPr>
            <a:xfrm>
              <a:off x="4389120" y="33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87680" y="4932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87680" y="4170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89120" y="2646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101680" y="2646360"/>
            <a:ext cx="436680" cy="2743200"/>
            <a:chOff x="2101680" y="2646360"/>
            <a:chExt cx="436680" cy="2743200"/>
          </a:xfrm>
        </p:grpSpPr>
        <p:sp>
          <p:nvSpPr>
            <p:cNvPr id="329" name=""/>
            <p:cNvSpPr/>
            <p:nvPr/>
          </p:nvSpPr>
          <p:spPr>
            <a:xfrm>
              <a:off x="2103120" y="33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01680" y="4932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01680" y="4170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03120" y="2646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erbi Exampl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4419720"/>
            <a:ext cx="1752840" cy="914400"/>
          </a:xfrm>
          <a:prstGeom prst="ellipse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0600" y="3581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0600" y="52275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2743200"/>
            <a:ext cx="1752840" cy="914400"/>
          </a:xfrm>
          <a:prstGeom prst="ellipse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743200"/>
            <a:ext cx="1752480" cy="914400"/>
          </a:xfrm>
          <a:prstGeom prst="ellipse">
            <a:avLst/>
          </a:prstGeom>
          <a:solidFill>
            <a:srgbClr val="3e3e3e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4419720"/>
            <a:ext cx="1752840" cy="914400"/>
          </a:xfrm>
          <a:prstGeom prst="ellipse">
            <a:avLst/>
          </a:prstGeom>
          <a:solidFill>
            <a:srgbClr val="3e3e3e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8" idx="7"/>
            <a:endCxn id="339" idx="1"/>
          </p:cNvCxnSpPr>
          <p:nvPr/>
        </p:nvCxnSpPr>
        <p:spPr>
          <a:xfrm flipH="1" rot="16200000">
            <a:off x="2360880" y="2390400"/>
            <a:ext cx="2520" cy="972360"/>
          </a:xfrm>
          <a:prstGeom prst="curvedConnector5">
            <a:avLst>
              <a:gd name="adj1" fmla="val -13600000"/>
              <a:gd name="adj2" fmla="val 50000"/>
              <a:gd name="adj3" fmla="val -13600000"/>
            </a:avLst>
          </a:prstGeom>
          <a:ln w="3816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8" idx="5"/>
            <a:endCxn id="340" idx="2"/>
          </p:cNvCxnSpPr>
          <p:nvPr/>
        </p:nvCxnSpPr>
        <p:spPr>
          <a:xfrm flipH="1" rot="16200000">
            <a:off x="1595160" y="3804840"/>
            <a:ext cx="1353240" cy="791280"/>
          </a:xfrm>
          <a:prstGeom prst="curvedConnector2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5" idx="7"/>
            <a:endCxn id="339" idx="2"/>
          </p:cNvCxnSpPr>
          <p:nvPr/>
        </p:nvCxnSpPr>
        <p:spPr>
          <a:xfrm flipH="1" flipV="1" rot="5400000">
            <a:off x="1557000" y="3518640"/>
            <a:ext cx="1353240" cy="715320"/>
          </a:xfrm>
          <a:prstGeom prst="curvedConnector2">
            <a:avLst/>
          </a:prstGeom>
          <a:ln w="38160">
            <a:solidFill>
              <a:srgbClr val="008aef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5" idx="5"/>
            <a:endCxn id="340" idx="3"/>
          </p:cNvCxnSpPr>
          <p:nvPr/>
        </p:nvCxnSpPr>
        <p:spPr>
          <a:xfrm flipH="1" rot="16200000">
            <a:off x="2397960" y="4677120"/>
            <a:ext cx="2520" cy="1048320"/>
          </a:xfrm>
          <a:prstGeom prst="curvedConnector5">
            <a:avLst>
              <a:gd name="adj1" fmla="val 11783333"/>
              <a:gd name="adj2" fmla="val 49982"/>
              <a:gd name="adj3" fmla="val 11783333"/>
            </a:avLst>
          </a:prstGeom>
          <a:ln w="38160">
            <a:solidFill>
              <a:srgbClr val="008aef"/>
            </a:solidFill>
            <a:miter/>
            <a:tailEnd len="med" type="triangle" w="med"/>
          </a:ln>
        </p:spPr>
      </p:cxnSp>
      <p:grpSp>
        <p:nvGrpSpPr>
          <p:cNvPr id="345" name=""/>
          <p:cNvGrpSpPr/>
          <p:nvPr/>
        </p:nvGrpSpPr>
        <p:grpSpPr>
          <a:xfrm>
            <a:off x="2974320" y="3581280"/>
            <a:ext cx="890280" cy="2227680"/>
            <a:chOff x="2974320" y="3581280"/>
            <a:chExt cx="890280" cy="2227680"/>
          </a:xfrm>
        </p:grpSpPr>
        <p:sp>
          <p:nvSpPr>
            <p:cNvPr id="346" name=""/>
            <p:cNvSpPr/>
            <p:nvPr/>
          </p:nvSpPr>
          <p:spPr>
            <a:xfrm>
              <a:off x="2974320" y="522756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0120" y="358128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2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183640" y="138600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51680" y="137160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183640" y="3611520"/>
            <a:ext cx="970200" cy="2196000"/>
            <a:chOff x="5183640" y="3611520"/>
            <a:chExt cx="970200" cy="2196000"/>
          </a:xfrm>
        </p:grpSpPr>
        <p:sp>
          <p:nvSpPr>
            <p:cNvPr id="352" name=""/>
            <p:cNvSpPr/>
            <p:nvPr/>
          </p:nvSpPr>
          <p:spPr>
            <a:xfrm>
              <a:off x="5183640" y="3611520"/>
              <a:ext cx="970200" cy="21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5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18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57800" y="522756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238880" y="3641760"/>
            <a:ext cx="1752840" cy="2197440"/>
            <a:chOff x="7238880" y="3641760"/>
            <a:chExt cx="1752840" cy="2197440"/>
          </a:xfrm>
        </p:grpSpPr>
        <p:sp>
          <p:nvSpPr>
            <p:cNvPr id="355" name=""/>
            <p:cNvSpPr/>
            <p:nvPr/>
          </p:nvSpPr>
          <p:spPr>
            <a:xfrm>
              <a:off x="7238880" y="525780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102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8880" y="364176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0399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6252840" y="624852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01026&gt;.003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318560" y="6095880"/>
            <a:ext cx="4825440" cy="1600200"/>
            <a:chOff x="4318560" y="6095880"/>
            <a:chExt cx="4825440" cy="1600200"/>
          </a:xfrm>
        </p:grpSpPr>
        <p:sp>
          <p:nvSpPr>
            <p:cNvPr id="359" name=""/>
            <p:cNvSpPr/>
            <p:nvPr/>
          </p:nvSpPr>
          <p:spPr>
            <a:xfrm>
              <a:off x="6248520" y="6095880"/>
              <a:ext cx="2895480" cy="160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18560" y="6279840"/>
              <a:ext cx="3170880" cy="58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18·.6 &lt; .056·.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58360" y="6242040"/>
            <a:ext cx="5109120" cy="1301760"/>
            <a:chOff x="2358360" y="6242040"/>
            <a:chExt cx="5109120" cy="1301760"/>
          </a:xfrm>
        </p:grpSpPr>
        <p:sp>
          <p:nvSpPr>
            <p:cNvPr id="362" name=""/>
            <p:cNvSpPr/>
            <p:nvPr/>
          </p:nvSpPr>
          <p:spPr>
            <a:xfrm>
              <a:off x="3429000" y="6248520"/>
              <a:ext cx="4038480" cy="12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8360" y="6242040"/>
              <a:ext cx="253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6*.4 &lt; .2*.7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114440" y="2615760"/>
            <a:ext cx="2543400" cy="2802240"/>
            <a:chOff x="4114440" y="2615760"/>
            <a:chExt cx="2543400" cy="2802240"/>
          </a:xfrm>
        </p:grpSpPr>
        <p:sp>
          <p:nvSpPr>
            <p:cNvPr id="365" name=""/>
            <p:cNvSpPr/>
            <p:nvPr/>
          </p:nvSpPr>
          <p:spPr>
            <a:xfrm>
              <a:off x="4829040" y="2743200"/>
              <a:ext cx="1752840" cy="914400"/>
            </a:xfrm>
            <a:prstGeom prst="ellipse">
              <a:avLst/>
            </a:prstGeom>
            <a:solidFill>
              <a:srgbClr val="3e3e3e"/>
            </a:solidFill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Rai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5360" y="4419720"/>
              <a:ext cx="1752480" cy="914400"/>
            </a:xfrm>
            <a:prstGeom prst="ellipse">
              <a:avLst/>
            </a:prstGeom>
            <a:solidFill>
              <a:srgbClr val="3e3e3e"/>
            </a:solidFill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un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endCxn id="365" idx="1"/>
            </p:cNvCxnSpPr>
            <p:nvPr/>
          </p:nvCxnSpPr>
          <p:spPr>
            <a:xfrm flipH="1" rot="16200000">
              <a:off x="4599720" y="2389680"/>
              <a:ext cx="2160" cy="97236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endCxn id="366" idx="2"/>
            </p:cNvCxnSpPr>
            <p:nvPr/>
          </p:nvCxnSpPr>
          <p:spPr>
            <a:xfrm flipH="1" rot="16200000">
              <a:off x="3833640" y="3804840"/>
              <a:ext cx="1353240" cy="791280"/>
            </a:xfrm>
            <a:prstGeom prst="curvedConnector2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40" idx="7"/>
              <a:endCxn id="365" idx="2"/>
            </p:cNvCxnSpPr>
            <p:nvPr/>
          </p:nvCxnSpPr>
          <p:spPr>
            <a:xfrm flipH="1" flipV="1" rot="5400000">
              <a:off x="3819240" y="3542760"/>
              <a:ext cx="1353240" cy="667440"/>
            </a:xfrm>
            <a:prstGeom prst="curvedConnector2">
              <a:avLst/>
            </a:prstGeom>
            <a:ln w="38160">
              <a:solidFill>
                <a:srgbClr val="008aef"/>
              </a:solidFill>
              <a:miter/>
              <a:tailEnd len="med" type="triangle" w="med"/>
            </a:ln>
          </p:spPr>
        </p:cxnSp>
        <p:cxnSp>
          <p:nvCxnSpPr>
            <p:cNvPr id="370" name=""/>
            <p:cNvCxnSpPr/>
            <p:nvPr/>
          </p:nvCxnSpPr>
          <p:spPr>
            <a:xfrm flipH="1" rot="16200000">
              <a:off x="4661280" y="4700880"/>
              <a:ext cx="2520" cy="1000800"/>
            </a:xfrm>
            <a:prstGeom prst="curvedConnector5">
              <a:avLst>
                <a:gd name="adj1" fmla="val 10083333"/>
                <a:gd name="adj2" fmla="val 49982"/>
                <a:gd name="adj3" fmla="val 10083333"/>
              </a:avLst>
            </a:prstGeom>
            <a:ln w="38160">
              <a:solidFill>
                <a:srgbClr val="008aef"/>
              </a:solidFill>
              <a:miter/>
              <a:tailEnd len="med" type="triangle" w="med"/>
            </a:ln>
          </p:spPr>
        </p:cxnSp>
      </p:grpSp>
      <p:grpSp>
        <p:nvGrpSpPr>
          <p:cNvPr id="371" name=""/>
          <p:cNvGrpSpPr/>
          <p:nvPr/>
        </p:nvGrpSpPr>
        <p:grpSpPr>
          <a:xfrm>
            <a:off x="6295680" y="2613960"/>
            <a:ext cx="2543400" cy="2804400"/>
            <a:chOff x="6295680" y="2613960"/>
            <a:chExt cx="2543400" cy="2804400"/>
          </a:xfrm>
        </p:grpSpPr>
        <p:sp>
          <p:nvSpPr>
            <p:cNvPr id="372" name=""/>
            <p:cNvSpPr/>
            <p:nvPr/>
          </p:nvSpPr>
          <p:spPr>
            <a:xfrm>
              <a:off x="7010280" y="2743200"/>
              <a:ext cx="1752840" cy="914400"/>
            </a:xfrm>
            <a:prstGeom prst="ellipse">
              <a:avLst/>
            </a:prstGeom>
            <a:solidFill>
              <a:srgbClr val="3e3e3e"/>
            </a:solidFill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Rai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86600" y="4419720"/>
              <a:ext cx="1752480" cy="914400"/>
            </a:xfrm>
            <a:prstGeom prst="ellipse">
              <a:avLst/>
            </a:prstGeom>
            <a:solidFill>
              <a:srgbClr val="3e3e3e"/>
            </a:solidFill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un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74" name=""/>
            <p:cNvCxnSpPr>
              <a:endCxn id="372" idx="1"/>
            </p:cNvCxnSpPr>
            <p:nvPr/>
          </p:nvCxnSpPr>
          <p:spPr>
            <a:xfrm flipH="1" rot="16200000">
              <a:off x="6780960" y="2389680"/>
              <a:ext cx="2160" cy="972360"/>
            </a:xfrm>
            <a:prstGeom prst="curvedConnector5">
              <a:avLst>
                <a:gd name="adj1" fmla="val -14500000"/>
                <a:gd name="adj2" fmla="val 50000"/>
                <a:gd name="adj3" fmla="val -14500000"/>
              </a:avLst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endCxn id="373" idx="2"/>
            </p:cNvCxnSpPr>
            <p:nvPr/>
          </p:nvCxnSpPr>
          <p:spPr>
            <a:xfrm flipH="1" rot="16200000">
              <a:off x="6014880" y="3804840"/>
              <a:ext cx="1353240" cy="791280"/>
            </a:xfrm>
            <a:prstGeom prst="curvedConnector2">
              <a:avLst/>
            </a:prstGeom>
            <a:ln w="38160">
              <a:solidFill>
                <a:srgbClr val="ff8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endCxn id="372" idx="2"/>
            </p:cNvCxnSpPr>
            <p:nvPr/>
          </p:nvCxnSpPr>
          <p:spPr>
            <a:xfrm flipH="1" flipV="1" rot="5400000">
              <a:off x="6000480" y="3542760"/>
              <a:ext cx="1353240" cy="667440"/>
            </a:xfrm>
            <a:prstGeom prst="curvedConnector2">
              <a:avLst/>
            </a:prstGeom>
            <a:ln w="38160">
              <a:solidFill>
                <a:srgbClr val="008aef"/>
              </a:solidFill>
              <a:miter/>
              <a:tailEnd len="med" type="triangle" w="med"/>
            </a:ln>
          </p:spPr>
        </p:cxnSp>
        <p:cxnSp>
          <p:nvCxnSpPr>
            <p:cNvPr id="377" name=""/>
            <p:cNvCxnSpPr/>
            <p:nvPr/>
          </p:nvCxnSpPr>
          <p:spPr>
            <a:xfrm flipH="1" rot="16200000">
              <a:off x="6842880" y="4699440"/>
              <a:ext cx="2160" cy="1000800"/>
            </a:xfrm>
            <a:prstGeom prst="curvedConnector5">
              <a:avLst>
                <a:gd name="adj1" fmla="val 12180000"/>
                <a:gd name="adj2" fmla="val 49982"/>
                <a:gd name="adj3" fmla="val 12180000"/>
              </a:avLst>
            </a:prstGeom>
            <a:ln w="38160">
              <a:solidFill>
                <a:srgbClr val="008aef"/>
              </a:solidFill>
              <a:miter/>
              <a:tailEnd len="med" type="triangle" w="med"/>
            </a:ln>
          </p:spPr>
        </p:cxnSp>
      </p:grpSp>
      <p:sp>
        <p:nvSpPr>
          <p:cNvPr id="378" name=""/>
          <p:cNvSpPr/>
          <p:nvPr/>
        </p:nvSpPr>
        <p:spPr>
          <a:xfrm>
            <a:off x="0" y="91440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day           Monday        Tuesday     Wednes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380" name=""/>
            <p:cNvSpPr/>
            <p:nvPr/>
          </p:nvSpPr>
          <p:spPr>
            <a:xfrm>
              <a:off x="1447920" y="0"/>
              <a:ext cx="640080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cc"/>
                  </a:solidFill>
                  <a:latin typeface="Arial"/>
                </a:rPr>
                <a:t>Viterbi Traceback Example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1960" y="6172200"/>
            <a:ext cx="5007240" cy="914400"/>
            <a:chOff x="21960" y="6172200"/>
            <a:chExt cx="5007240" cy="914400"/>
          </a:xfrm>
        </p:grpSpPr>
        <p:sp>
          <p:nvSpPr>
            <p:cNvPr id="383" name=""/>
            <p:cNvSpPr/>
            <p:nvPr/>
          </p:nvSpPr>
          <p:spPr>
            <a:xfrm>
              <a:off x="2209680" y="6172200"/>
              <a:ext cx="28195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960" y="6248520"/>
              <a:ext cx="276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1.0*.4 &gt; 0.0*.7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7010280" y="4419720"/>
            <a:ext cx="1905120" cy="914400"/>
          </a:xfrm>
          <a:prstGeom prst="ellipse">
            <a:avLst/>
          </a:prstGeom>
          <a:solidFill>
            <a:srgbClr val="14942a"/>
          </a:solidFill>
          <a:ln w="41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00600" y="2743200"/>
            <a:ext cx="1828800" cy="914400"/>
          </a:xfrm>
          <a:prstGeom prst="ellipse">
            <a:avLst/>
          </a:prstGeom>
          <a:solidFill>
            <a:srgbClr val="14942a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90920" y="2743200"/>
            <a:ext cx="1828800" cy="914400"/>
          </a:xfrm>
          <a:prstGeom prst="ellipse">
            <a:avLst/>
          </a:prstGeom>
          <a:solidFill>
            <a:srgbClr val="14942a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419720"/>
            <a:ext cx="1828800" cy="914400"/>
          </a:xfrm>
          <a:prstGeom prst="ellipse">
            <a:avLst/>
          </a:prstGeom>
          <a:solidFill>
            <a:srgbClr val="14942a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87680" y="5754600"/>
            <a:ext cx="56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erbi pa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ny, Rainy, Rainy, Sunn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MM Trainin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6858000"/>
            <a:ext cx="9067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 an alig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y training proteins to H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probabilities of insertions and dele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2057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2438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2819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3200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3962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3" idx="0"/>
            <a:endCxn id="392" idx="2"/>
          </p:cNvCxnSpPr>
          <p:nvPr/>
        </p:nvCxnSpPr>
        <p:spPr>
          <a:xfrm flipV="1">
            <a:off x="5790960" y="2361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398" name=""/>
          <p:cNvCxnSpPr>
            <a:stCxn id="394" idx="0"/>
            <a:endCxn id="393" idx="2"/>
          </p:cNvCxnSpPr>
          <p:nvPr/>
        </p:nvCxnSpPr>
        <p:spPr>
          <a:xfrm flipV="1">
            <a:off x="5790960" y="2743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399" name=""/>
          <p:cNvCxnSpPr>
            <a:stCxn id="396" idx="0"/>
            <a:endCxn id="395" idx="2"/>
          </p:cNvCxnSpPr>
          <p:nvPr/>
        </p:nvCxnSpPr>
        <p:spPr>
          <a:xfrm flipV="1">
            <a:off x="5790960" y="3504960"/>
            <a:ext cx="1080" cy="45792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00" name=""/>
          <p:cNvCxnSpPr>
            <a:stCxn id="396" idx="0"/>
          </p:cNvCxnSpPr>
          <p:nvPr/>
        </p:nvCxnSpPr>
        <p:spPr>
          <a:xfrm flipV="1">
            <a:off x="5790960" y="3886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6400800" y="2057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2819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3200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3581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800" y="3962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2" idx="0"/>
            <a:endCxn id="401" idx="2"/>
          </p:cNvCxnSpPr>
          <p:nvPr/>
        </p:nvCxnSpPr>
        <p:spPr>
          <a:xfrm flipV="1">
            <a:off x="6552720" y="2361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08" name=""/>
          <p:cNvCxnSpPr>
            <a:stCxn id="404" idx="0"/>
            <a:endCxn id="403" idx="2"/>
          </p:cNvCxnSpPr>
          <p:nvPr/>
        </p:nvCxnSpPr>
        <p:spPr>
          <a:xfrm flipV="1">
            <a:off x="6552720" y="312408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09" name=""/>
          <p:cNvCxnSpPr>
            <a:stCxn id="406" idx="0"/>
            <a:endCxn id="405" idx="2"/>
          </p:cNvCxnSpPr>
          <p:nvPr/>
        </p:nvCxnSpPr>
        <p:spPr>
          <a:xfrm flipV="1">
            <a:off x="6552720" y="3886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304920" y="205740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243828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2819520"/>
            <a:ext cx="30456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320040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358128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4920" y="3962520"/>
            <a:ext cx="30456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11" idx="0"/>
            <a:endCxn id="410" idx="2"/>
          </p:cNvCxnSpPr>
          <p:nvPr/>
        </p:nvCxnSpPr>
        <p:spPr>
          <a:xfrm flipV="1">
            <a:off x="456840" y="2361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17" name=""/>
          <p:cNvCxnSpPr>
            <a:stCxn id="412" idx="0"/>
            <a:endCxn id="411" idx="2"/>
          </p:cNvCxnSpPr>
          <p:nvPr/>
        </p:nvCxnSpPr>
        <p:spPr>
          <a:xfrm flipV="1">
            <a:off x="456840" y="2743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18" name=""/>
          <p:cNvCxnSpPr>
            <a:stCxn id="413" idx="0"/>
            <a:endCxn id="412" idx="2"/>
          </p:cNvCxnSpPr>
          <p:nvPr/>
        </p:nvCxnSpPr>
        <p:spPr>
          <a:xfrm flipV="1">
            <a:off x="456840" y="312408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19" name=""/>
          <p:cNvCxnSpPr>
            <a:stCxn id="414" idx="0"/>
            <a:endCxn id="413" idx="2"/>
          </p:cNvCxnSpPr>
          <p:nvPr/>
        </p:nvCxnSpPr>
        <p:spPr>
          <a:xfrm flipV="1">
            <a:off x="456840" y="3504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20" name=""/>
          <p:cNvCxnSpPr>
            <a:stCxn id="415" idx="0"/>
            <a:endCxn id="414" idx="2"/>
          </p:cNvCxnSpPr>
          <p:nvPr/>
        </p:nvCxnSpPr>
        <p:spPr>
          <a:xfrm flipV="1">
            <a:off x="456840" y="3886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019920" y="335268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2590920"/>
            <a:ext cx="30456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3" idx="0"/>
            <a:endCxn id="394" idx="1"/>
          </p:cNvCxnSpPr>
          <p:nvPr/>
        </p:nvCxnSpPr>
        <p:spPr>
          <a:xfrm flipH="1" rot="16200000">
            <a:off x="5523480" y="2858040"/>
            <a:ext cx="2160" cy="229320"/>
          </a:xfrm>
          <a:prstGeom prst="bentConnector4">
            <a:avLst>
              <a:gd name="adj1" fmla="val -14400000"/>
              <a:gd name="adj2" fmla="val 83333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25" name=""/>
          <p:cNvCxnSpPr>
            <a:stCxn id="395" idx="1"/>
            <a:endCxn id="423" idx="2"/>
          </p:cNvCxnSpPr>
          <p:nvPr/>
        </p:nvCxnSpPr>
        <p:spPr>
          <a:xfrm rot="10800000">
            <a:off x="5409360" y="3276000"/>
            <a:ext cx="229320" cy="766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4648320" y="1371600"/>
            <a:ext cx="4114800" cy="31240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24680" y="2057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924680" y="2438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24680" y="2819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924680" y="3200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924680" y="3581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924680" y="3962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8" idx="0"/>
            <a:endCxn id="427" idx="2"/>
          </p:cNvCxnSpPr>
          <p:nvPr/>
        </p:nvCxnSpPr>
        <p:spPr>
          <a:xfrm flipV="1">
            <a:off x="8076960" y="2361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34" name=""/>
          <p:cNvCxnSpPr/>
          <p:nvPr/>
        </p:nvCxnSpPr>
        <p:spPr>
          <a:xfrm flipV="1">
            <a:off x="8076960" y="32004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35" name=""/>
          <p:cNvCxnSpPr>
            <a:stCxn id="432" idx="0"/>
            <a:endCxn id="431" idx="2"/>
          </p:cNvCxnSpPr>
          <p:nvPr/>
        </p:nvCxnSpPr>
        <p:spPr>
          <a:xfrm flipV="1">
            <a:off x="8076960" y="3886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8305920" y="2590920"/>
            <a:ext cx="30456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29" idx="3"/>
            <a:endCxn id="436" idx="2"/>
          </p:cNvCxnSpPr>
          <p:nvPr/>
        </p:nvCxnSpPr>
        <p:spPr>
          <a:xfrm flipV="1">
            <a:off x="8229240" y="2895480"/>
            <a:ext cx="229320" cy="766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38" name=""/>
          <p:cNvCxnSpPr>
            <a:stCxn id="436" idx="0"/>
            <a:endCxn id="428" idx="3"/>
          </p:cNvCxnSpPr>
          <p:nvPr/>
        </p:nvCxnSpPr>
        <p:spPr>
          <a:xfrm rot="5400000">
            <a:off x="8342280" y="2477160"/>
            <a:ext cx="2160" cy="229320"/>
          </a:xfrm>
          <a:prstGeom prst="bentConnector4">
            <a:avLst>
              <a:gd name="adj1" fmla="val -14400000"/>
              <a:gd name="adj2" fmla="val 83333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39" name=""/>
          <p:cNvCxnSpPr>
            <a:stCxn id="431" idx="3"/>
          </p:cNvCxnSpPr>
          <p:nvPr/>
        </p:nvCxnSpPr>
        <p:spPr>
          <a:xfrm flipV="1">
            <a:off x="8229240" y="3657600"/>
            <a:ext cx="229320" cy="766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40" name=""/>
          <p:cNvCxnSpPr>
            <a:endCxn id="430" idx="3"/>
          </p:cNvCxnSpPr>
          <p:nvPr/>
        </p:nvCxnSpPr>
        <p:spPr>
          <a:xfrm rot="5400000">
            <a:off x="8342280" y="3237480"/>
            <a:ext cx="2160" cy="229320"/>
          </a:xfrm>
          <a:prstGeom prst="bentConnector4">
            <a:avLst>
              <a:gd name="adj1" fmla="val -14400000"/>
              <a:gd name="adj2" fmla="val 83333"/>
            </a:avLst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7543800" y="30481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1" idx="0"/>
          </p:cNvCxnSpPr>
          <p:nvPr/>
        </p:nvCxnSpPr>
        <p:spPr>
          <a:xfrm flipH="1" rot="16200000">
            <a:off x="7809480" y="2934360"/>
            <a:ext cx="2160" cy="229320"/>
          </a:xfrm>
          <a:prstGeom prst="bentConnector4">
            <a:avLst>
              <a:gd name="adj1" fmla="val -7300000"/>
              <a:gd name="adj2" fmla="val 83333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43" name=""/>
          <p:cNvCxnSpPr>
            <a:endCxn id="441" idx="2"/>
          </p:cNvCxnSpPr>
          <p:nvPr/>
        </p:nvCxnSpPr>
        <p:spPr>
          <a:xfrm rot="10800000">
            <a:off x="7695360" y="3352680"/>
            <a:ext cx="229320" cy="766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7162920" y="205740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162920" y="243828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62920" y="2819520"/>
            <a:ext cx="30456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62920" y="320040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162920" y="3962520"/>
            <a:ext cx="30456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5" idx="0"/>
            <a:endCxn id="444" idx="2"/>
          </p:cNvCxnSpPr>
          <p:nvPr/>
        </p:nvCxnSpPr>
        <p:spPr>
          <a:xfrm flipV="1">
            <a:off x="7314840" y="2361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50" name=""/>
          <p:cNvCxnSpPr>
            <a:stCxn id="446" idx="0"/>
            <a:endCxn id="445" idx="2"/>
          </p:cNvCxnSpPr>
          <p:nvPr/>
        </p:nvCxnSpPr>
        <p:spPr>
          <a:xfrm flipV="1">
            <a:off x="7314840" y="2743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51" name=""/>
          <p:cNvCxnSpPr>
            <a:stCxn id="448" idx="0"/>
            <a:endCxn id="447" idx="2"/>
          </p:cNvCxnSpPr>
          <p:nvPr/>
        </p:nvCxnSpPr>
        <p:spPr>
          <a:xfrm flipV="1">
            <a:off x="7314840" y="3504960"/>
            <a:ext cx="1080" cy="45792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52" name=""/>
          <p:cNvCxnSpPr>
            <a:stCxn id="448" idx="0"/>
          </p:cNvCxnSpPr>
          <p:nvPr/>
        </p:nvCxnSpPr>
        <p:spPr>
          <a:xfrm flipV="1">
            <a:off x="7314840" y="3886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53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0"/>
            <a:endCxn id="446" idx="1"/>
          </p:cNvCxnSpPr>
          <p:nvPr/>
        </p:nvCxnSpPr>
        <p:spPr>
          <a:xfrm flipH="1" rot="16200000">
            <a:off x="7047720" y="2858040"/>
            <a:ext cx="2160" cy="229320"/>
          </a:xfrm>
          <a:prstGeom prst="bentConnector4">
            <a:avLst>
              <a:gd name="adj1" fmla="val -14400000"/>
              <a:gd name="adj2" fmla="val 83333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55" name=""/>
          <p:cNvCxnSpPr>
            <a:stCxn id="447" idx="1"/>
            <a:endCxn id="453" idx="2"/>
          </p:cNvCxnSpPr>
          <p:nvPr/>
        </p:nvCxnSpPr>
        <p:spPr>
          <a:xfrm rot="10800000">
            <a:off x="6933600" y="3276000"/>
            <a:ext cx="229320" cy="766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7162920" y="358128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34920" y="2895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2057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38280" y="2438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38280" y="3200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38280" y="4343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59" idx="0"/>
            <a:endCxn id="458" idx="2"/>
          </p:cNvCxnSpPr>
          <p:nvPr/>
        </p:nvCxnSpPr>
        <p:spPr>
          <a:xfrm flipV="1">
            <a:off x="2590560" y="2361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64" name=""/>
          <p:cNvCxnSpPr>
            <a:stCxn id="461" idx="0"/>
            <a:endCxn id="460" idx="2"/>
          </p:cNvCxnSpPr>
          <p:nvPr/>
        </p:nvCxnSpPr>
        <p:spPr>
          <a:xfrm flipV="1">
            <a:off x="2590560" y="3504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2438280" y="3962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38280" y="2819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6" idx="0"/>
            <a:endCxn id="466" idx="0"/>
          </p:cNvCxnSpPr>
          <p:nvPr/>
        </p:nvCxnSpPr>
        <p:spPr>
          <a:xfrm flipH="1" rot="16200000">
            <a:off x="2590920" y="2819160"/>
            <a:ext cx="2160" cy="2160"/>
          </a:xfrm>
          <a:prstGeom prst="bentConnector3">
            <a:avLst>
              <a:gd name="adj1" fmla="val -3200000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68" name=""/>
          <p:cNvCxnSpPr>
            <a:stCxn id="465" idx="2"/>
          </p:cNvCxnSpPr>
          <p:nvPr/>
        </p:nvCxnSpPr>
        <p:spPr>
          <a:xfrm>
            <a:off x="2590560" y="426708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69" name=""/>
          <p:cNvCxnSpPr>
            <a:stCxn id="465" idx="0"/>
            <a:endCxn id="461" idx="2"/>
          </p:cNvCxnSpPr>
          <p:nvPr/>
        </p:nvCxnSpPr>
        <p:spPr>
          <a:xfrm flipV="1">
            <a:off x="2590560" y="3886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70" name=""/>
          <p:cNvCxnSpPr>
            <a:stCxn id="466" idx="2"/>
            <a:endCxn id="460" idx="0"/>
          </p:cNvCxnSpPr>
          <p:nvPr/>
        </p:nvCxnSpPr>
        <p:spPr>
          <a:xfrm>
            <a:off x="2590560" y="312408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grpSp>
        <p:nvGrpSpPr>
          <p:cNvPr id="471" name=""/>
          <p:cNvGrpSpPr/>
          <p:nvPr/>
        </p:nvGrpSpPr>
        <p:grpSpPr>
          <a:xfrm>
            <a:off x="2895480" y="2057400"/>
            <a:ext cx="304560" cy="3352680"/>
            <a:chOff x="2895480" y="2057400"/>
            <a:chExt cx="304560" cy="3352680"/>
          </a:xfrm>
        </p:grpSpPr>
        <p:sp>
          <p:nvSpPr>
            <p:cNvPr id="472" name=""/>
            <p:cNvSpPr/>
            <p:nvPr/>
          </p:nvSpPr>
          <p:spPr>
            <a:xfrm>
              <a:off x="2895480" y="20574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95480" y="24382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5480" y="32004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95480" y="396252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5480" y="47242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95480" y="510552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78" name=""/>
            <p:cNvCxnSpPr>
              <a:stCxn id="473" idx="0"/>
              <a:endCxn id="472" idx="2"/>
            </p:cNvCxnSpPr>
            <p:nvPr/>
          </p:nvCxnSpPr>
          <p:spPr>
            <a:xfrm flipV="1">
              <a:off x="3047400" y="23616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479" name=""/>
            <p:cNvCxnSpPr>
              <a:stCxn id="477" idx="0"/>
              <a:endCxn id="476" idx="2"/>
            </p:cNvCxnSpPr>
            <p:nvPr/>
          </p:nvCxnSpPr>
          <p:spPr>
            <a:xfrm flipV="1">
              <a:off x="3047400" y="50292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480" name=""/>
            <p:cNvSpPr/>
            <p:nvPr/>
          </p:nvSpPr>
          <p:spPr>
            <a:xfrm>
              <a:off x="2895480" y="43434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95480" y="281952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82" name=""/>
            <p:cNvCxnSpPr>
              <a:stCxn id="481" idx="0"/>
              <a:endCxn id="481" idx="0"/>
            </p:cNvCxnSpPr>
            <p:nvPr/>
          </p:nvCxnSpPr>
          <p:spPr>
            <a:xfrm flipH="1" rot="16200000">
              <a:off x="3047760" y="2819160"/>
              <a:ext cx="2160" cy="2160"/>
            </a:xfrm>
            <a:prstGeom prst="bentConnector3">
              <a:avLst>
                <a:gd name="adj1" fmla="val -3200000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483" name=""/>
            <p:cNvCxnSpPr>
              <a:stCxn id="480" idx="2"/>
              <a:endCxn id="476" idx="0"/>
            </p:cNvCxnSpPr>
            <p:nvPr/>
          </p:nvCxnSpPr>
          <p:spPr>
            <a:xfrm>
              <a:off x="3047400" y="46479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484" name=""/>
            <p:cNvCxnSpPr>
              <a:stCxn id="480" idx="0"/>
              <a:endCxn id="475" idx="2"/>
            </p:cNvCxnSpPr>
            <p:nvPr/>
          </p:nvCxnSpPr>
          <p:spPr>
            <a:xfrm flipV="1">
              <a:off x="3047400" y="42670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485" name=""/>
            <p:cNvCxnSpPr>
              <a:stCxn id="481" idx="2"/>
              <a:endCxn id="474" idx="0"/>
            </p:cNvCxnSpPr>
            <p:nvPr/>
          </p:nvCxnSpPr>
          <p:spPr>
            <a:xfrm>
              <a:off x="3047400" y="31240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486" name=""/>
            <p:cNvSpPr/>
            <p:nvPr/>
          </p:nvSpPr>
          <p:spPr>
            <a:xfrm>
              <a:off x="2895480" y="35812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87" name=""/>
            <p:cNvCxnSpPr>
              <a:stCxn id="475" idx="0"/>
              <a:endCxn id="486" idx="2"/>
            </p:cNvCxnSpPr>
            <p:nvPr/>
          </p:nvCxnSpPr>
          <p:spPr>
            <a:xfrm flipV="1">
              <a:off x="3047400" y="38862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488" name=""/>
            <p:cNvCxnSpPr>
              <a:stCxn id="486" idx="0"/>
              <a:endCxn id="486" idx="0"/>
            </p:cNvCxnSpPr>
            <p:nvPr/>
          </p:nvCxnSpPr>
          <p:spPr>
            <a:xfrm>
              <a:off x="3047400" y="3580920"/>
              <a:ext cx="1080" cy="10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489" name=""/>
            <p:cNvCxnSpPr>
              <a:stCxn id="486" idx="0"/>
              <a:endCxn id="486" idx="0"/>
            </p:cNvCxnSpPr>
            <p:nvPr/>
          </p:nvCxnSpPr>
          <p:spPr>
            <a:xfrm>
              <a:off x="3047400" y="3580920"/>
              <a:ext cx="1080" cy="10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490" name=""/>
            <p:cNvCxnSpPr>
              <a:stCxn id="486" idx="0"/>
              <a:endCxn id="474" idx="2"/>
            </p:cNvCxnSpPr>
            <p:nvPr/>
          </p:nvCxnSpPr>
          <p:spPr>
            <a:xfrm flipV="1">
              <a:off x="3047400" y="35046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sp>
        <p:nvSpPr>
          <p:cNvPr id="491" name=""/>
          <p:cNvSpPr/>
          <p:nvPr/>
        </p:nvSpPr>
        <p:spPr>
          <a:xfrm>
            <a:off x="1523880" y="2057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3880" y="2438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3880" y="2819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3200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3880" y="3962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2" idx="0"/>
            <a:endCxn id="491" idx="2"/>
          </p:cNvCxnSpPr>
          <p:nvPr/>
        </p:nvCxnSpPr>
        <p:spPr>
          <a:xfrm flipV="1">
            <a:off x="1676160" y="2361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497" name=""/>
          <p:cNvCxnSpPr>
            <a:stCxn id="494" idx="0"/>
            <a:endCxn id="493" idx="2"/>
          </p:cNvCxnSpPr>
          <p:nvPr/>
        </p:nvCxnSpPr>
        <p:spPr>
          <a:xfrm flipV="1">
            <a:off x="1676160" y="312408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1523880" y="3581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8" idx="2"/>
            <a:endCxn id="495" idx="0"/>
          </p:cNvCxnSpPr>
          <p:nvPr/>
        </p:nvCxnSpPr>
        <p:spPr>
          <a:xfrm>
            <a:off x="1676160" y="3886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500" name=""/>
          <p:cNvCxnSpPr>
            <a:stCxn id="498" idx="0"/>
            <a:endCxn id="494" idx="2"/>
          </p:cNvCxnSpPr>
          <p:nvPr/>
        </p:nvCxnSpPr>
        <p:spPr>
          <a:xfrm flipV="1">
            <a:off x="1676160" y="3504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501" name=""/>
          <p:cNvCxnSpPr>
            <a:stCxn id="493" idx="0"/>
            <a:endCxn id="492" idx="2"/>
          </p:cNvCxnSpPr>
          <p:nvPr/>
        </p:nvCxnSpPr>
        <p:spPr>
          <a:xfrm flipV="1">
            <a:off x="1676160" y="2743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1981080" y="2057400"/>
            <a:ext cx="304560" cy="2971800"/>
            <a:chOff x="1981080" y="2057400"/>
            <a:chExt cx="304560" cy="2971800"/>
          </a:xfrm>
        </p:grpSpPr>
        <p:sp>
          <p:nvSpPr>
            <p:cNvPr id="503" name=""/>
            <p:cNvSpPr/>
            <p:nvPr/>
          </p:nvSpPr>
          <p:spPr>
            <a:xfrm>
              <a:off x="1981080" y="20574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81080" y="243864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81080" y="32004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81080" y="358164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81080" y="43434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81080" y="472464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504" idx="0"/>
              <a:endCxn id="503" idx="2"/>
            </p:cNvCxnSpPr>
            <p:nvPr/>
          </p:nvCxnSpPr>
          <p:spPr>
            <a:xfrm flipV="1">
              <a:off x="2133000" y="236232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510" name=""/>
            <p:cNvCxnSpPr>
              <a:stCxn id="506" idx="0"/>
              <a:endCxn id="505" idx="2"/>
            </p:cNvCxnSpPr>
            <p:nvPr/>
          </p:nvCxnSpPr>
          <p:spPr>
            <a:xfrm flipV="1">
              <a:off x="2133000" y="350532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511" name=""/>
            <p:cNvCxnSpPr>
              <a:stCxn id="508" idx="0"/>
              <a:endCxn id="507" idx="2"/>
            </p:cNvCxnSpPr>
            <p:nvPr/>
          </p:nvCxnSpPr>
          <p:spPr>
            <a:xfrm flipV="1">
              <a:off x="2133000" y="464832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512" name=""/>
            <p:cNvSpPr/>
            <p:nvPr/>
          </p:nvSpPr>
          <p:spPr>
            <a:xfrm>
              <a:off x="1981080" y="39625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81080" y="28195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13" idx="0"/>
            </p:cNvCxnSpPr>
            <p:nvPr/>
          </p:nvCxnSpPr>
          <p:spPr>
            <a:xfrm flipH="1" rot="16200000">
              <a:off x="2133360" y="2819160"/>
              <a:ext cx="2160" cy="2160"/>
            </a:xfrm>
            <a:prstGeom prst="bentConnector3">
              <a:avLst>
                <a:gd name="adj1" fmla="val -3200000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515" name=""/>
            <p:cNvCxnSpPr>
              <a:stCxn id="512" idx="2"/>
              <a:endCxn id="507" idx="0"/>
            </p:cNvCxnSpPr>
            <p:nvPr/>
          </p:nvCxnSpPr>
          <p:spPr>
            <a:xfrm>
              <a:off x="2133000" y="42670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516" name=""/>
            <p:cNvCxnSpPr>
              <a:stCxn id="512" idx="0"/>
              <a:endCxn id="506" idx="2"/>
            </p:cNvCxnSpPr>
            <p:nvPr/>
          </p:nvCxnSpPr>
          <p:spPr>
            <a:xfrm flipV="1">
              <a:off x="2133000" y="38862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517" name=""/>
            <p:cNvCxnSpPr>
              <a:stCxn id="513" idx="2"/>
              <a:endCxn id="505" idx="0"/>
            </p:cNvCxnSpPr>
            <p:nvPr/>
          </p:nvCxnSpPr>
          <p:spPr>
            <a:xfrm>
              <a:off x="2133000" y="31240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sp>
        <p:nvSpPr>
          <p:cNvPr id="518" name=""/>
          <p:cNvSpPr/>
          <p:nvPr/>
        </p:nvSpPr>
        <p:spPr>
          <a:xfrm>
            <a:off x="4800600" y="2057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00600" y="2438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00600" y="2819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00600" y="32004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35812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00600" y="39625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19" idx="0"/>
            <a:endCxn id="518" idx="2"/>
          </p:cNvCxnSpPr>
          <p:nvPr/>
        </p:nvCxnSpPr>
        <p:spPr>
          <a:xfrm flipV="1">
            <a:off x="4952520" y="2361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525" name=""/>
          <p:cNvCxnSpPr>
            <a:stCxn id="520" idx="0"/>
            <a:endCxn id="519" idx="2"/>
          </p:cNvCxnSpPr>
          <p:nvPr/>
        </p:nvCxnSpPr>
        <p:spPr>
          <a:xfrm flipV="1">
            <a:off x="4952520" y="2743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526" name=""/>
          <p:cNvCxnSpPr>
            <a:stCxn id="521" idx="0"/>
            <a:endCxn id="520" idx="2"/>
          </p:cNvCxnSpPr>
          <p:nvPr/>
        </p:nvCxnSpPr>
        <p:spPr>
          <a:xfrm flipV="1">
            <a:off x="4952520" y="312408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527" name=""/>
          <p:cNvCxnSpPr>
            <a:stCxn id="522" idx="0"/>
            <a:endCxn id="521" idx="2"/>
          </p:cNvCxnSpPr>
          <p:nvPr/>
        </p:nvCxnSpPr>
        <p:spPr>
          <a:xfrm flipV="1">
            <a:off x="4952520" y="35046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528" name=""/>
          <p:cNvCxnSpPr>
            <a:stCxn id="523" idx="0"/>
            <a:endCxn id="522" idx="2"/>
          </p:cNvCxnSpPr>
          <p:nvPr/>
        </p:nvCxnSpPr>
        <p:spPr>
          <a:xfrm flipV="1">
            <a:off x="4952520" y="38862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529" name=""/>
          <p:cNvSpPr/>
          <p:nvPr/>
        </p:nvSpPr>
        <p:spPr>
          <a:xfrm>
            <a:off x="5565960" y="14461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stic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80" y="990720"/>
            <a:ext cx="15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00200" y="9907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in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838080" cy="990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3581280"/>
            <a:ext cx="304920" cy="304920"/>
          </a:xfrm>
          <a:prstGeom prst="ellipse">
            <a:avLst/>
          </a:prstGeom>
          <a:noFill/>
          <a:ln w="57240">
            <a:solidFill>
              <a:srgbClr val="002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952520" y="3809880"/>
            <a:ext cx="685800" cy="1676520"/>
          </a:xfrm>
          <a:prstGeom prst="line">
            <a:avLst/>
          </a:prstGeom>
          <a:ln w="3816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2895480"/>
            <a:ext cx="533520" cy="533520"/>
          </a:xfrm>
          <a:prstGeom prst="ellipse">
            <a:avLst/>
          </a:prstGeom>
          <a:noFill/>
          <a:ln w="76320">
            <a:solidFill>
              <a:srgbClr val="002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952880" y="3429000"/>
            <a:ext cx="533520" cy="1447920"/>
          </a:xfrm>
          <a:prstGeom prst="line">
            <a:avLst/>
          </a:prstGeom>
          <a:ln w="3816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41000" y="53341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54440" y="47242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320" y="7010280"/>
            <a:ext cx="29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 of 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0" name=""/>
          <p:cNvCxnSpPr/>
          <p:nvPr/>
        </p:nvCxnSpPr>
        <p:spPr>
          <a:xfrm flipH="1" rot="16200000">
            <a:off x="6285240" y="2474640"/>
            <a:ext cx="2520" cy="229320"/>
          </a:xfrm>
          <a:prstGeom prst="bentConnector4">
            <a:avLst>
              <a:gd name="adj1" fmla="val -5700000"/>
              <a:gd name="adj2" fmla="val 83333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541" name=""/>
          <p:cNvCxnSpPr/>
          <p:nvPr/>
        </p:nvCxnSpPr>
        <p:spPr>
          <a:xfrm rot="10800000">
            <a:off x="6171480" y="2895480"/>
            <a:ext cx="229320" cy="766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542" name=""/>
          <p:cNvCxnSpPr/>
          <p:nvPr/>
        </p:nvCxnSpPr>
        <p:spPr>
          <a:xfrm flipH="1" rot="16200000">
            <a:off x="6285600" y="3237480"/>
            <a:ext cx="2160" cy="229320"/>
          </a:xfrm>
          <a:prstGeom prst="bentConnector4">
            <a:avLst>
              <a:gd name="adj1" fmla="val -7200000"/>
              <a:gd name="adj2" fmla="val 83333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543" name=""/>
          <p:cNvCxnSpPr/>
          <p:nvPr/>
        </p:nvCxnSpPr>
        <p:spPr>
          <a:xfrm rot="10800000">
            <a:off x="6171480" y="3657600"/>
            <a:ext cx="229320" cy="766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8305920" y="335268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3526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  “F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2362320"/>
            <a:ext cx="129564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2286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 “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09680" y="2286000"/>
            <a:ext cx="12193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72200" y="3200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 “P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  “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29000" y="4191120"/>
            <a:ext cx="12193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44197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 “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43000" y="4495680"/>
            <a:ext cx="121932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  “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05120" y="4191120"/>
            <a:ext cx="121896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babilistic model: HM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-360" y="68580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machine represents unobservable world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HMMer, this is the string match prog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s are amino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93760" y="2605680"/>
            <a:ext cx="7389360" cy="2914200"/>
            <a:chOff x="293760" y="2605680"/>
            <a:chExt cx="7389360" cy="2914200"/>
          </a:xfrm>
        </p:grpSpPr>
        <p:grpSp>
          <p:nvGrpSpPr>
            <p:cNvPr id="559" name=""/>
            <p:cNvGrpSpPr/>
            <p:nvPr/>
          </p:nvGrpSpPr>
          <p:grpSpPr>
            <a:xfrm>
              <a:off x="293760" y="3088080"/>
              <a:ext cx="7389360" cy="2431800"/>
              <a:chOff x="293760" y="3088080"/>
              <a:chExt cx="7389360" cy="2431800"/>
            </a:xfrm>
          </p:grpSpPr>
          <p:sp>
            <p:nvSpPr>
              <p:cNvPr id="560" name=""/>
              <p:cNvSpPr/>
              <p:nvPr/>
            </p:nvSpPr>
            <p:spPr>
              <a:xfrm>
                <a:off x="3988800" y="4984200"/>
                <a:ext cx="568440" cy="5356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1786320" y="3103560"/>
                <a:ext cx="5542560" cy="213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  <a:head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293400" y="3087720"/>
                <a:ext cx="7389360" cy="21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63" name=""/>
              <p:cNvCxnSpPr>
                <a:stCxn id="560" idx="1"/>
                <a:endCxn id="560" idx="0"/>
              </p:cNvCxnSpPr>
              <p:nvPr/>
            </p:nvCxnSpPr>
            <p:spPr>
              <a:xfrm flipH="1" rot="10800000">
                <a:off x="3987360" y="4983480"/>
                <a:ext cx="284400" cy="268560"/>
              </a:xfrm>
              <a:prstGeom prst="curvedConnector5">
                <a:avLst>
                  <a:gd name="adj1" fmla="val -21292"/>
                  <a:gd name="adj2" fmla="val 52751"/>
                  <a:gd name="adj3" fmla="val -21292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</p:grpSp>
        <p:grpSp>
          <p:nvGrpSpPr>
            <p:cNvPr id="564" name=""/>
            <p:cNvGrpSpPr/>
            <p:nvPr/>
          </p:nvGrpSpPr>
          <p:grpSpPr>
            <a:xfrm>
              <a:off x="1290600" y="2605680"/>
              <a:ext cx="4973400" cy="1137240"/>
              <a:chOff x="1290600" y="2605680"/>
              <a:chExt cx="4973400" cy="1137240"/>
            </a:xfrm>
          </p:grpSpPr>
          <p:sp>
            <p:nvSpPr>
              <p:cNvPr id="565" name=""/>
              <p:cNvSpPr/>
              <p:nvPr/>
            </p:nvSpPr>
            <p:spPr>
              <a:xfrm>
                <a:off x="1503720" y="2819520"/>
                <a:ext cx="568440" cy="5680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27480" y="2819520"/>
                <a:ext cx="568080" cy="5680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51240" y="2819520"/>
                <a:ext cx="568080" cy="5680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559040" y="2819520"/>
                <a:ext cx="568080" cy="5680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82800" y="2819520"/>
                <a:ext cx="568080" cy="5680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1290600" y="3316680"/>
                <a:ext cx="35532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2214360" y="3316680"/>
                <a:ext cx="35496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3138120" y="3316680"/>
                <a:ext cx="35496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269680" y="3316680"/>
                <a:ext cx="35496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859040" y="3316680"/>
                <a:ext cx="35496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82440" y="3316680"/>
                <a:ext cx="35532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914000" y="3316680"/>
                <a:ext cx="35532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09040" y="3316680"/>
                <a:ext cx="35496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416840" y="3316680"/>
                <a:ext cx="35496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777480" y="3316680"/>
                <a:ext cx="354960" cy="426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80" name=""/>
              <p:cNvCxnSpPr>
                <a:stCxn id="566" idx="3"/>
                <a:endCxn id="566" idx="0"/>
              </p:cNvCxnSpPr>
              <p:nvPr/>
            </p:nvCxnSpPr>
            <p:spPr>
              <a:xfrm flipH="1" flipV="1">
                <a:off x="2711160" y="2819160"/>
                <a:ext cx="284400" cy="284400"/>
              </a:xfrm>
              <a:prstGeom prst="curvedConnector5">
                <a:avLst>
                  <a:gd name="adj1" fmla="val -74904"/>
                  <a:gd name="adj2" fmla="val 87579"/>
                  <a:gd name="adj3" fmla="val -74904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581" name=""/>
              <p:cNvCxnSpPr/>
              <p:nvPr/>
            </p:nvCxnSpPr>
            <p:spPr>
              <a:xfrm flipH="1" flipV="1">
                <a:off x="3634920" y="2819160"/>
                <a:ext cx="284400" cy="284400"/>
              </a:xfrm>
              <a:prstGeom prst="curvedConnector5">
                <a:avLst>
                  <a:gd name="adj1" fmla="val -75031"/>
                  <a:gd name="adj2" fmla="val 87579"/>
                  <a:gd name="adj3" fmla="val -75031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582" name=""/>
              <p:cNvCxnSpPr/>
              <p:nvPr/>
            </p:nvCxnSpPr>
            <p:spPr>
              <a:xfrm flipH="1" flipV="1">
                <a:off x="4843080" y="2819160"/>
                <a:ext cx="284400" cy="284400"/>
              </a:xfrm>
              <a:prstGeom prst="curvedConnector5">
                <a:avLst>
                  <a:gd name="adj1" fmla="val -74904"/>
                  <a:gd name="adj2" fmla="val 87579"/>
                  <a:gd name="adj3" fmla="val -74904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583" name=""/>
              <p:cNvCxnSpPr/>
              <p:nvPr/>
            </p:nvCxnSpPr>
            <p:spPr>
              <a:xfrm flipH="1" flipV="1">
                <a:off x="5766480" y="2819160"/>
                <a:ext cx="284400" cy="284400"/>
              </a:xfrm>
              <a:prstGeom prst="curvedConnector5">
                <a:avLst>
                  <a:gd name="adj1" fmla="val -75031"/>
                  <a:gd name="adj2" fmla="val 87579"/>
                  <a:gd name="adj3" fmla="val -75031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584" name=""/>
              <p:cNvCxnSpPr/>
              <p:nvPr/>
            </p:nvCxnSpPr>
            <p:spPr>
              <a:xfrm flipH="1" flipV="1">
                <a:off x="1787400" y="2819160"/>
                <a:ext cx="284400" cy="284400"/>
              </a:xfrm>
              <a:prstGeom prst="curvedConnector5">
                <a:avLst>
                  <a:gd name="adj1" fmla="val -75031"/>
                  <a:gd name="adj2" fmla="val 87579"/>
                  <a:gd name="adj3" fmla="val -75031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</p:grpSp>
        <p:grpSp>
          <p:nvGrpSpPr>
            <p:cNvPr id="585" name=""/>
            <p:cNvGrpSpPr/>
            <p:nvPr/>
          </p:nvGrpSpPr>
          <p:grpSpPr>
            <a:xfrm>
              <a:off x="1360440" y="4169880"/>
              <a:ext cx="4833720" cy="851400"/>
              <a:chOff x="1360440" y="4169880"/>
              <a:chExt cx="4833720" cy="851400"/>
            </a:xfrm>
          </p:grpSpPr>
          <p:sp>
            <p:nvSpPr>
              <p:cNvPr id="586" name=""/>
              <p:cNvSpPr/>
              <p:nvPr/>
            </p:nvSpPr>
            <p:spPr>
              <a:xfrm>
                <a:off x="2568600" y="4595760"/>
                <a:ext cx="426240" cy="4255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D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93080" y="4595760"/>
                <a:ext cx="426240" cy="4255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D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345920" y="4595760"/>
                <a:ext cx="426240" cy="4255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D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440" y="4595760"/>
                <a:ext cx="426240" cy="4255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D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853000" y="4170240"/>
                <a:ext cx="355320" cy="4255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4772520" y="4169880"/>
                <a:ext cx="497520" cy="567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5838840" y="4170240"/>
                <a:ext cx="355320" cy="4255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995200" y="4808520"/>
                <a:ext cx="4975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72520" y="4808520"/>
                <a:ext cx="7815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60440" y="4170240"/>
                <a:ext cx="1279440" cy="4960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284560" y="4170240"/>
                <a:ext cx="1279440" cy="4960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08680" y="4170240"/>
                <a:ext cx="1137240" cy="4960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3848400" y="4170240"/>
                <a:ext cx="355680" cy="4255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488120" y="4170240"/>
                <a:ext cx="1137240" cy="4960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919680" y="4808520"/>
                <a:ext cx="426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152280" y="3743280"/>
            <a:ext cx="7391160" cy="426600"/>
            <a:chOff x="152280" y="3743280"/>
            <a:chExt cx="7391160" cy="426600"/>
          </a:xfrm>
        </p:grpSpPr>
        <p:sp>
          <p:nvSpPr>
            <p:cNvPr id="602" name=""/>
            <p:cNvSpPr/>
            <p:nvPr/>
          </p:nvSpPr>
          <p:spPr>
            <a:xfrm>
              <a:off x="152280" y="3743280"/>
              <a:ext cx="425520" cy="4266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17920" y="3743280"/>
              <a:ext cx="425520" cy="4266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76040" y="3743280"/>
              <a:ext cx="425880" cy="4266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99800" y="3743280"/>
              <a:ext cx="425880" cy="4266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23920" y="3743280"/>
              <a:ext cx="425520" cy="4266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55840" y="3743280"/>
              <a:ext cx="425520" cy="4266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79600" y="3743280"/>
              <a:ext cx="425880" cy="4266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01920" y="3957480"/>
              <a:ext cx="497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25680" y="3957480"/>
              <a:ext cx="497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49440" y="3957480"/>
              <a:ext cx="7117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87760" y="3957480"/>
              <a:ext cx="5677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81360" y="3957480"/>
              <a:ext cx="497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7800" y="3957480"/>
              <a:ext cx="497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05840" y="3957480"/>
              <a:ext cx="7117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61520" y="3743280"/>
              <a:ext cx="425880" cy="4266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 rot="16200000">
            <a:off x="3665520" y="6942240"/>
            <a:ext cx="557280" cy="55728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3962520"/>
            <a:ext cx="990360" cy="0"/>
          </a:xfrm>
          <a:prstGeom prst="line">
            <a:avLst/>
          </a:prstGeom>
          <a:ln w="7632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5280" y="3962520"/>
            <a:ext cx="838440" cy="0"/>
          </a:xfrm>
          <a:prstGeom prst="line">
            <a:avLst/>
          </a:prstGeom>
          <a:ln w="7632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057400" y="3200040"/>
            <a:ext cx="533520" cy="762120"/>
          </a:xfrm>
          <a:prstGeom prst="line">
            <a:avLst/>
          </a:prstGeom>
          <a:ln w="7632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3276720"/>
            <a:ext cx="457200" cy="533160"/>
          </a:xfrm>
          <a:prstGeom prst="line">
            <a:avLst/>
          </a:prstGeom>
          <a:ln w="7632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124080" y="3200400"/>
            <a:ext cx="457200" cy="533520"/>
          </a:xfrm>
          <a:prstGeom prst="line">
            <a:avLst/>
          </a:prstGeom>
          <a:ln w="7632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57600" y="3200400"/>
            <a:ext cx="609480" cy="685800"/>
          </a:xfrm>
          <a:prstGeom prst="line">
            <a:avLst/>
          </a:prstGeom>
          <a:ln w="7632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4038480"/>
            <a:ext cx="1523880" cy="685800"/>
          </a:xfrm>
          <a:prstGeom prst="line">
            <a:avLst/>
          </a:prstGeom>
          <a:ln w="7632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715000" y="4038120"/>
            <a:ext cx="533520" cy="685800"/>
          </a:xfrm>
          <a:prstGeom prst="line">
            <a:avLst/>
          </a:prstGeom>
          <a:ln w="7632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1077840" y="1854000"/>
            <a:ext cx="446040" cy="44604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1981080" y="1854000"/>
            <a:ext cx="446040" cy="44604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2895480" y="1844280"/>
            <a:ext cx="446040" cy="44604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16200000">
            <a:off x="4039200" y="1843200"/>
            <a:ext cx="446040" cy="44784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5954760" y="1839600"/>
            <a:ext cx="446040" cy="44604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31" name=""/>
          <p:cNvCxnSpPr>
            <a:stCxn id="627" idx="0"/>
            <a:endCxn id="626" idx="2"/>
          </p:cNvCxnSpPr>
          <p:nvPr/>
        </p:nvCxnSpPr>
        <p:spPr>
          <a:xfrm flipH="1">
            <a:off x="1523520" y="2079360"/>
            <a:ext cx="45792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632" name=""/>
          <p:cNvCxnSpPr>
            <a:stCxn id="630" idx="0"/>
          </p:cNvCxnSpPr>
          <p:nvPr/>
        </p:nvCxnSpPr>
        <p:spPr>
          <a:xfrm flipH="1">
            <a:off x="5841360" y="2064960"/>
            <a:ext cx="1134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633" name=""/>
          <p:cNvSpPr/>
          <p:nvPr/>
        </p:nvSpPr>
        <p:spPr>
          <a:xfrm rot="16200000">
            <a:off x="3505320" y="1294920"/>
            <a:ext cx="446040" cy="44604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2438280" y="1294920"/>
            <a:ext cx="446040" cy="44604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endCxn id="634" idx="2"/>
          </p:cNvCxnSpPr>
          <p:nvPr/>
        </p:nvCxnSpPr>
        <p:spPr>
          <a:xfrm flipV="1" rot="16200000">
            <a:off x="2777760" y="1626480"/>
            <a:ext cx="335520" cy="12312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636" name=""/>
          <p:cNvCxnSpPr>
            <a:stCxn id="634" idx="0"/>
            <a:endCxn id="627" idx="3"/>
          </p:cNvCxnSpPr>
          <p:nvPr/>
        </p:nvCxnSpPr>
        <p:spPr>
          <a:xfrm flipV="1" rot="10800000">
            <a:off x="2204280" y="1520640"/>
            <a:ext cx="234000" cy="33552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637" name=""/>
          <p:cNvCxnSpPr>
            <a:stCxn id="630" idx="0"/>
            <a:endCxn id="629" idx="2"/>
          </p:cNvCxnSpPr>
          <p:nvPr/>
        </p:nvCxnSpPr>
        <p:spPr>
          <a:xfrm flipV="1" rot="10800000">
            <a:off x="4485600" y="2064240"/>
            <a:ext cx="1469160" cy="3960"/>
          </a:xfrm>
          <a:prstGeom prst="bentConnector3">
            <a:avLst>
              <a:gd name="adj1" fmla="val 49926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638" name=""/>
          <p:cNvCxnSpPr>
            <a:stCxn id="633" idx="2"/>
            <a:endCxn id="629" idx="3"/>
          </p:cNvCxnSpPr>
          <p:nvPr/>
        </p:nvCxnSpPr>
        <p:spPr>
          <a:xfrm>
            <a:off x="3951360" y="1520640"/>
            <a:ext cx="311760" cy="32436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639" name=""/>
          <p:cNvCxnSpPr>
            <a:stCxn id="628" idx="3"/>
            <a:endCxn id="633" idx="0"/>
          </p:cNvCxnSpPr>
          <p:nvPr/>
        </p:nvCxnSpPr>
        <p:spPr>
          <a:xfrm flipH="1" flipV="1" rot="5400000">
            <a:off x="3149280" y="1490400"/>
            <a:ext cx="326160" cy="38664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40" name=""/>
          <p:cNvSpPr/>
          <p:nvPr/>
        </p:nvSpPr>
        <p:spPr>
          <a:xfrm>
            <a:off x="6248520" y="3962520"/>
            <a:ext cx="914400" cy="0"/>
          </a:xfrm>
          <a:prstGeom prst="line">
            <a:avLst/>
          </a:prstGeom>
          <a:ln w="76320">
            <a:solidFill>
              <a:srgbClr val="002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8600" y="304812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 “F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4120" y="5181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1600200"/>
            <a:ext cx="914400" cy="914400"/>
          </a:xfrm>
          <a:prstGeom prst="ellipse">
            <a:avLst/>
          </a:prstGeom>
          <a:noFill/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52480" y="1600200"/>
            <a:ext cx="914400" cy="914400"/>
          </a:xfrm>
          <a:prstGeom prst="ellipse">
            <a:avLst/>
          </a:prstGeom>
          <a:noFill/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990720"/>
            <a:ext cx="914400" cy="914400"/>
          </a:xfrm>
          <a:prstGeom prst="ellipse">
            <a:avLst/>
          </a:prstGeom>
          <a:noFill/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66880" y="1600200"/>
            <a:ext cx="914400" cy="914400"/>
          </a:xfrm>
          <a:prstGeom prst="ellipse">
            <a:avLst/>
          </a:prstGeom>
          <a:noFill/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1066680"/>
            <a:ext cx="914400" cy="914400"/>
          </a:xfrm>
          <a:prstGeom prst="ellipse">
            <a:avLst/>
          </a:prstGeom>
          <a:noFill/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9880" y="1600200"/>
            <a:ext cx="914400" cy="914400"/>
          </a:xfrm>
          <a:prstGeom prst="ellipse">
            <a:avLst/>
          </a:prstGeom>
          <a:noFill/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1600200"/>
            <a:ext cx="914400" cy="914400"/>
          </a:xfrm>
          <a:prstGeom prst="ellipse">
            <a:avLst/>
          </a:prstGeom>
          <a:noFill/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8600" y="3124080"/>
            <a:ext cx="121932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34120" y="5257800"/>
            <a:ext cx="1828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48520" y="3276720"/>
            <a:ext cx="1828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MMer Searches a Databas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-360" y="68576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Probability score hi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 traceback for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3505320"/>
            <a:ext cx="2895480" cy="213336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6200" y="2666880"/>
            <a:ext cx="5181480" cy="4038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962520" y="3276720"/>
            <a:ext cx="304560" cy="2971800"/>
            <a:chOff x="3962520" y="3276720"/>
            <a:chExt cx="304560" cy="2971800"/>
          </a:xfrm>
        </p:grpSpPr>
        <p:sp>
          <p:nvSpPr>
            <p:cNvPr id="658" name=""/>
            <p:cNvSpPr/>
            <p:nvPr/>
          </p:nvSpPr>
          <p:spPr>
            <a:xfrm>
              <a:off x="3962520" y="3276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62520" y="3657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62520" y="4419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62520" y="4800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62520" y="5562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62520" y="5943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64" name=""/>
            <p:cNvCxnSpPr>
              <a:stCxn id="659" idx="0"/>
              <a:endCxn id="658" idx="2"/>
            </p:cNvCxnSpPr>
            <p:nvPr/>
          </p:nvCxnSpPr>
          <p:spPr>
            <a:xfrm flipV="1">
              <a:off x="4114440" y="3581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65" name=""/>
            <p:cNvCxnSpPr>
              <a:stCxn id="661" idx="0"/>
              <a:endCxn id="660" idx="2"/>
            </p:cNvCxnSpPr>
            <p:nvPr/>
          </p:nvCxnSpPr>
          <p:spPr>
            <a:xfrm flipV="1">
              <a:off x="4114440" y="4724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66" name=""/>
            <p:cNvCxnSpPr>
              <a:stCxn id="663" idx="0"/>
              <a:endCxn id="662" idx="2"/>
            </p:cNvCxnSpPr>
            <p:nvPr/>
          </p:nvCxnSpPr>
          <p:spPr>
            <a:xfrm flipV="1">
              <a:off x="4114440" y="5867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3962520" y="5181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4038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69" name=""/>
            <p:cNvCxnSpPr>
              <a:stCxn id="668" idx="0"/>
              <a:endCxn id="668" idx="0"/>
            </p:cNvCxnSpPr>
            <p:nvPr/>
          </p:nvCxnSpPr>
          <p:spPr>
            <a:xfrm flipH="1" rot="16200000">
              <a:off x="4114800" y="4038480"/>
              <a:ext cx="2160" cy="2160"/>
            </a:xfrm>
            <a:prstGeom prst="bentConnector3">
              <a:avLst>
                <a:gd name="adj1" fmla="val -3200000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70" name=""/>
            <p:cNvCxnSpPr>
              <a:stCxn id="667" idx="2"/>
              <a:endCxn id="662" idx="0"/>
            </p:cNvCxnSpPr>
            <p:nvPr/>
          </p:nvCxnSpPr>
          <p:spPr>
            <a:xfrm>
              <a:off x="4114440" y="5486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71" name=""/>
            <p:cNvCxnSpPr>
              <a:stCxn id="667" idx="0"/>
              <a:endCxn id="661" idx="2"/>
            </p:cNvCxnSpPr>
            <p:nvPr/>
          </p:nvCxnSpPr>
          <p:spPr>
            <a:xfrm flipV="1">
              <a:off x="4114440" y="510552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72" name=""/>
            <p:cNvCxnSpPr>
              <a:stCxn id="668" idx="2"/>
              <a:endCxn id="660" idx="0"/>
            </p:cNvCxnSpPr>
            <p:nvPr/>
          </p:nvCxnSpPr>
          <p:spPr>
            <a:xfrm>
              <a:off x="4114440" y="4343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673" name=""/>
          <p:cNvGrpSpPr/>
          <p:nvPr/>
        </p:nvGrpSpPr>
        <p:grpSpPr>
          <a:xfrm>
            <a:off x="6324480" y="2895480"/>
            <a:ext cx="304560" cy="3352680"/>
            <a:chOff x="6324480" y="2895480"/>
            <a:chExt cx="304560" cy="3352680"/>
          </a:xfrm>
        </p:grpSpPr>
        <p:sp>
          <p:nvSpPr>
            <p:cNvPr id="674" name=""/>
            <p:cNvSpPr/>
            <p:nvPr/>
          </p:nvSpPr>
          <p:spPr>
            <a:xfrm>
              <a:off x="6324480" y="2895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324480" y="32763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4038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324480" y="48006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324480" y="55623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24480" y="59436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0" name=""/>
            <p:cNvCxnSpPr>
              <a:stCxn id="675" idx="0"/>
              <a:endCxn id="674" idx="2"/>
            </p:cNvCxnSpPr>
            <p:nvPr/>
          </p:nvCxnSpPr>
          <p:spPr>
            <a:xfrm flipV="1">
              <a:off x="6476400" y="3199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81" name=""/>
            <p:cNvCxnSpPr>
              <a:stCxn id="679" idx="0"/>
              <a:endCxn id="678" idx="2"/>
            </p:cNvCxnSpPr>
            <p:nvPr/>
          </p:nvCxnSpPr>
          <p:spPr>
            <a:xfrm flipV="1">
              <a:off x="6476400" y="5867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682" name=""/>
            <p:cNvSpPr/>
            <p:nvPr/>
          </p:nvSpPr>
          <p:spPr>
            <a:xfrm>
              <a:off x="6324480" y="5181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24480" y="36576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4" name=""/>
            <p:cNvCxnSpPr>
              <a:stCxn id="683" idx="0"/>
              <a:endCxn id="683" idx="0"/>
            </p:cNvCxnSpPr>
            <p:nvPr/>
          </p:nvCxnSpPr>
          <p:spPr>
            <a:xfrm flipH="1" rot="16200000">
              <a:off x="6476760" y="3657240"/>
              <a:ext cx="2160" cy="2160"/>
            </a:xfrm>
            <a:prstGeom prst="bentConnector3">
              <a:avLst>
                <a:gd name="adj1" fmla="val -3200000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85" name=""/>
            <p:cNvCxnSpPr>
              <a:stCxn id="682" idx="2"/>
              <a:endCxn id="678" idx="0"/>
            </p:cNvCxnSpPr>
            <p:nvPr/>
          </p:nvCxnSpPr>
          <p:spPr>
            <a:xfrm>
              <a:off x="6476400" y="54860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86" name=""/>
            <p:cNvCxnSpPr>
              <a:stCxn id="682" idx="0"/>
              <a:endCxn id="677" idx="2"/>
            </p:cNvCxnSpPr>
            <p:nvPr/>
          </p:nvCxnSpPr>
          <p:spPr>
            <a:xfrm flipV="1">
              <a:off x="6476400" y="5105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87" name=""/>
            <p:cNvCxnSpPr>
              <a:stCxn id="683" idx="2"/>
              <a:endCxn id="676" idx="0"/>
            </p:cNvCxnSpPr>
            <p:nvPr/>
          </p:nvCxnSpPr>
          <p:spPr>
            <a:xfrm>
              <a:off x="6476400" y="3962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688" name=""/>
            <p:cNvSpPr/>
            <p:nvPr/>
          </p:nvSpPr>
          <p:spPr>
            <a:xfrm>
              <a:off x="6324480" y="44193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7" idx="0"/>
              <a:endCxn id="688" idx="2"/>
            </p:cNvCxnSpPr>
            <p:nvPr/>
          </p:nvCxnSpPr>
          <p:spPr>
            <a:xfrm flipV="1">
              <a:off x="6476400" y="4724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90" name=""/>
            <p:cNvCxnSpPr>
              <a:stCxn id="688" idx="0"/>
              <a:endCxn id="688" idx="0"/>
            </p:cNvCxnSpPr>
            <p:nvPr/>
          </p:nvCxnSpPr>
          <p:spPr>
            <a:xfrm>
              <a:off x="6476400" y="4419000"/>
              <a:ext cx="1080" cy="10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91" name=""/>
            <p:cNvCxnSpPr>
              <a:stCxn id="688" idx="0"/>
              <a:endCxn id="688" idx="0"/>
            </p:cNvCxnSpPr>
            <p:nvPr/>
          </p:nvCxnSpPr>
          <p:spPr>
            <a:xfrm>
              <a:off x="6476400" y="4419000"/>
              <a:ext cx="1080" cy="10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692" name=""/>
            <p:cNvCxnSpPr>
              <a:stCxn id="688" idx="0"/>
              <a:endCxn id="676" idx="2"/>
            </p:cNvCxnSpPr>
            <p:nvPr/>
          </p:nvCxnSpPr>
          <p:spPr>
            <a:xfrm flipV="1">
              <a:off x="6476400" y="4342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693" name=""/>
          <p:cNvGrpSpPr/>
          <p:nvPr/>
        </p:nvGrpSpPr>
        <p:grpSpPr>
          <a:xfrm>
            <a:off x="8610480" y="3657600"/>
            <a:ext cx="304920" cy="2590560"/>
            <a:chOff x="8610480" y="3657600"/>
            <a:chExt cx="304920" cy="2590560"/>
          </a:xfrm>
        </p:grpSpPr>
        <p:sp>
          <p:nvSpPr>
            <p:cNvPr id="694" name=""/>
            <p:cNvSpPr/>
            <p:nvPr/>
          </p:nvSpPr>
          <p:spPr>
            <a:xfrm>
              <a:off x="8610480" y="36576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10480" y="40384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0480" y="44193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610480" y="48006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10480" y="55623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610480" y="59436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0" name=""/>
            <p:cNvCxnSpPr>
              <a:stCxn id="695" idx="0"/>
              <a:endCxn id="694" idx="2"/>
            </p:cNvCxnSpPr>
            <p:nvPr/>
          </p:nvCxnSpPr>
          <p:spPr>
            <a:xfrm flipV="1">
              <a:off x="8762760" y="3962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01" name=""/>
            <p:cNvCxnSpPr>
              <a:stCxn id="697" idx="0"/>
              <a:endCxn id="696" idx="2"/>
            </p:cNvCxnSpPr>
            <p:nvPr/>
          </p:nvCxnSpPr>
          <p:spPr>
            <a:xfrm flipV="1">
              <a:off x="8762760" y="4724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02" name=""/>
            <p:cNvCxnSpPr>
              <a:stCxn id="699" idx="0"/>
              <a:endCxn id="698" idx="2"/>
            </p:cNvCxnSpPr>
            <p:nvPr/>
          </p:nvCxnSpPr>
          <p:spPr>
            <a:xfrm flipV="1">
              <a:off x="8762760" y="5867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703" name=""/>
            <p:cNvSpPr/>
            <p:nvPr/>
          </p:nvSpPr>
          <p:spPr>
            <a:xfrm>
              <a:off x="8610480" y="51814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4" name=""/>
            <p:cNvCxnSpPr>
              <a:stCxn id="703" idx="2"/>
              <a:endCxn id="698" idx="0"/>
            </p:cNvCxnSpPr>
            <p:nvPr/>
          </p:nvCxnSpPr>
          <p:spPr>
            <a:xfrm>
              <a:off x="8762760" y="54860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05" name=""/>
            <p:cNvCxnSpPr>
              <a:stCxn id="703" idx="0"/>
              <a:endCxn id="697" idx="2"/>
            </p:cNvCxnSpPr>
            <p:nvPr/>
          </p:nvCxnSpPr>
          <p:spPr>
            <a:xfrm flipV="1">
              <a:off x="8762760" y="5105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06" name=""/>
            <p:cNvCxnSpPr>
              <a:stCxn id="696" idx="0"/>
              <a:endCxn id="695" idx="2"/>
            </p:cNvCxnSpPr>
            <p:nvPr/>
          </p:nvCxnSpPr>
          <p:spPr>
            <a:xfrm flipV="1">
              <a:off x="8762760" y="4342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5181480" y="3276720"/>
            <a:ext cx="304560" cy="2971800"/>
            <a:chOff x="5181480" y="3276720"/>
            <a:chExt cx="304560" cy="2971800"/>
          </a:xfrm>
        </p:grpSpPr>
        <p:sp>
          <p:nvSpPr>
            <p:cNvPr id="708" name=""/>
            <p:cNvSpPr/>
            <p:nvPr/>
          </p:nvSpPr>
          <p:spPr>
            <a:xfrm>
              <a:off x="5181480" y="3276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81480" y="3657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81480" y="4419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181480" y="4800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81480" y="5562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81480" y="5943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4" name=""/>
            <p:cNvCxnSpPr>
              <a:stCxn id="709" idx="0"/>
              <a:endCxn id="708" idx="2"/>
            </p:cNvCxnSpPr>
            <p:nvPr/>
          </p:nvCxnSpPr>
          <p:spPr>
            <a:xfrm flipV="1">
              <a:off x="5333400" y="3581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15" name=""/>
            <p:cNvCxnSpPr>
              <a:stCxn id="711" idx="0"/>
              <a:endCxn id="710" idx="2"/>
            </p:cNvCxnSpPr>
            <p:nvPr/>
          </p:nvCxnSpPr>
          <p:spPr>
            <a:xfrm flipV="1">
              <a:off x="5333400" y="4724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16" name=""/>
            <p:cNvCxnSpPr>
              <a:stCxn id="713" idx="0"/>
              <a:endCxn id="712" idx="2"/>
            </p:cNvCxnSpPr>
            <p:nvPr/>
          </p:nvCxnSpPr>
          <p:spPr>
            <a:xfrm flipV="1">
              <a:off x="5333400" y="5867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717" name=""/>
            <p:cNvSpPr/>
            <p:nvPr/>
          </p:nvSpPr>
          <p:spPr>
            <a:xfrm>
              <a:off x="5181480" y="5181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81480" y="4038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9" name=""/>
            <p:cNvCxnSpPr>
              <a:stCxn id="718" idx="0"/>
              <a:endCxn id="718" idx="0"/>
            </p:cNvCxnSpPr>
            <p:nvPr/>
          </p:nvCxnSpPr>
          <p:spPr>
            <a:xfrm flipH="1" rot="16200000">
              <a:off x="5333760" y="4038480"/>
              <a:ext cx="2160" cy="2160"/>
            </a:xfrm>
            <a:prstGeom prst="bentConnector3">
              <a:avLst>
                <a:gd name="adj1" fmla="val -3200000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20" name=""/>
            <p:cNvCxnSpPr>
              <a:stCxn id="717" idx="2"/>
              <a:endCxn id="712" idx="0"/>
            </p:cNvCxnSpPr>
            <p:nvPr/>
          </p:nvCxnSpPr>
          <p:spPr>
            <a:xfrm>
              <a:off x="5333400" y="5486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21" name=""/>
            <p:cNvCxnSpPr>
              <a:stCxn id="717" idx="0"/>
              <a:endCxn id="711" idx="2"/>
            </p:cNvCxnSpPr>
            <p:nvPr/>
          </p:nvCxnSpPr>
          <p:spPr>
            <a:xfrm flipV="1">
              <a:off x="5333400" y="510552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22" name=""/>
            <p:cNvCxnSpPr>
              <a:stCxn id="718" idx="2"/>
              <a:endCxn id="710" idx="0"/>
            </p:cNvCxnSpPr>
            <p:nvPr/>
          </p:nvCxnSpPr>
          <p:spPr>
            <a:xfrm>
              <a:off x="5333400" y="4343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723" name=""/>
          <p:cNvGrpSpPr/>
          <p:nvPr/>
        </p:nvGrpSpPr>
        <p:grpSpPr>
          <a:xfrm>
            <a:off x="6934320" y="3276720"/>
            <a:ext cx="304560" cy="2971800"/>
            <a:chOff x="6934320" y="3276720"/>
            <a:chExt cx="304560" cy="2971800"/>
          </a:xfrm>
        </p:grpSpPr>
        <p:sp>
          <p:nvSpPr>
            <p:cNvPr id="724" name=""/>
            <p:cNvSpPr/>
            <p:nvPr/>
          </p:nvSpPr>
          <p:spPr>
            <a:xfrm>
              <a:off x="6934320" y="3276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34320" y="3657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34320" y="4419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34320" y="4800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34320" y="5562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34320" y="5943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0" name=""/>
            <p:cNvCxnSpPr>
              <a:stCxn id="725" idx="0"/>
              <a:endCxn id="724" idx="2"/>
            </p:cNvCxnSpPr>
            <p:nvPr/>
          </p:nvCxnSpPr>
          <p:spPr>
            <a:xfrm flipV="1">
              <a:off x="7086240" y="3581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31" name=""/>
            <p:cNvCxnSpPr>
              <a:stCxn id="727" idx="0"/>
              <a:endCxn id="726" idx="2"/>
            </p:cNvCxnSpPr>
            <p:nvPr/>
          </p:nvCxnSpPr>
          <p:spPr>
            <a:xfrm flipV="1">
              <a:off x="7086240" y="4724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32" name=""/>
            <p:cNvCxnSpPr>
              <a:stCxn id="729" idx="0"/>
              <a:endCxn id="728" idx="2"/>
            </p:cNvCxnSpPr>
            <p:nvPr/>
          </p:nvCxnSpPr>
          <p:spPr>
            <a:xfrm flipV="1">
              <a:off x="7086240" y="5867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733" name=""/>
            <p:cNvSpPr/>
            <p:nvPr/>
          </p:nvSpPr>
          <p:spPr>
            <a:xfrm>
              <a:off x="6934320" y="5181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4320" y="4038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4" idx="0"/>
              <a:endCxn id="734" idx="0"/>
            </p:cNvCxnSpPr>
            <p:nvPr/>
          </p:nvCxnSpPr>
          <p:spPr>
            <a:xfrm flipH="1" rot="16200000">
              <a:off x="7086600" y="4038480"/>
              <a:ext cx="2160" cy="2160"/>
            </a:xfrm>
            <a:prstGeom prst="bentConnector3">
              <a:avLst>
                <a:gd name="adj1" fmla="val -3200000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36" name=""/>
            <p:cNvCxnSpPr>
              <a:stCxn id="733" idx="2"/>
              <a:endCxn id="728" idx="0"/>
            </p:cNvCxnSpPr>
            <p:nvPr/>
          </p:nvCxnSpPr>
          <p:spPr>
            <a:xfrm>
              <a:off x="7086240" y="5486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37" name=""/>
            <p:cNvCxnSpPr>
              <a:stCxn id="733" idx="0"/>
              <a:endCxn id="727" idx="2"/>
            </p:cNvCxnSpPr>
            <p:nvPr/>
          </p:nvCxnSpPr>
          <p:spPr>
            <a:xfrm flipV="1">
              <a:off x="7086240" y="510552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38" name=""/>
            <p:cNvCxnSpPr>
              <a:stCxn id="734" idx="2"/>
              <a:endCxn id="726" idx="0"/>
            </p:cNvCxnSpPr>
            <p:nvPr/>
          </p:nvCxnSpPr>
          <p:spPr>
            <a:xfrm>
              <a:off x="7086240" y="4343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739" name=""/>
          <p:cNvGrpSpPr/>
          <p:nvPr/>
        </p:nvGrpSpPr>
        <p:grpSpPr>
          <a:xfrm>
            <a:off x="5791320" y="3657600"/>
            <a:ext cx="304560" cy="2590560"/>
            <a:chOff x="5791320" y="3657600"/>
            <a:chExt cx="304560" cy="2590560"/>
          </a:xfrm>
        </p:grpSpPr>
        <p:sp>
          <p:nvSpPr>
            <p:cNvPr id="740" name=""/>
            <p:cNvSpPr/>
            <p:nvPr/>
          </p:nvSpPr>
          <p:spPr>
            <a:xfrm>
              <a:off x="5791320" y="36576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791320" y="4038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91320" y="44193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91320" y="48006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91320" y="55623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91320" y="59436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1" idx="0"/>
              <a:endCxn id="740" idx="2"/>
            </p:cNvCxnSpPr>
            <p:nvPr/>
          </p:nvCxnSpPr>
          <p:spPr>
            <a:xfrm flipV="1">
              <a:off x="5943240" y="3962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47" name=""/>
            <p:cNvCxnSpPr>
              <a:stCxn id="743" idx="0"/>
              <a:endCxn id="742" idx="2"/>
            </p:cNvCxnSpPr>
            <p:nvPr/>
          </p:nvCxnSpPr>
          <p:spPr>
            <a:xfrm flipV="1">
              <a:off x="5943240" y="4724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48" name=""/>
            <p:cNvCxnSpPr>
              <a:stCxn id="745" idx="0"/>
              <a:endCxn id="744" idx="2"/>
            </p:cNvCxnSpPr>
            <p:nvPr/>
          </p:nvCxnSpPr>
          <p:spPr>
            <a:xfrm flipV="1">
              <a:off x="5943240" y="5867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749" name=""/>
            <p:cNvSpPr/>
            <p:nvPr/>
          </p:nvSpPr>
          <p:spPr>
            <a:xfrm>
              <a:off x="5791320" y="5181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2"/>
              <a:endCxn id="744" idx="0"/>
            </p:cNvCxnSpPr>
            <p:nvPr/>
          </p:nvCxnSpPr>
          <p:spPr>
            <a:xfrm>
              <a:off x="5943240" y="54860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51" name=""/>
            <p:cNvCxnSpPr>
              <a:stCxn id="749" idx="0"/>
              <a:endCxn id="743" idx="2"/>
            </p:cNvCxnSpPr>
            <p:nvPr/>
          </p:nvCxnSpPr>
          <p:spPr>
            <a:xfrm flipV="1">
              <a:off x="5943240" y="5105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52" name=""/>
            <p:cNvCxnSpPr>
              <a:stCxn id="742" idx="0"/>
              <a:endCxn id="741" idx="2"/>
            </p:cNvCxnSpPr>
            <p:nvPr/>
          </p:nvCxnSpPr>
          <p:spPr>
            <a:xfrm flipV="1">
              <a:off x="5943240" y="4342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753" name=""/>
          <p:cNvGrpSpPr/>
          <p:nvPr/>
        </p:nvGrpSpPr>
        <p:grpSpPr>
          <a:xfrm>
            <a:off x="4572000" y="2895480"/>
            <a:ext cx="304560" cy="3352680"/>
            <a:chOff x="4572000" y="2895480"/>
            <a:chExt cx="304560" cy="3352680"/>
          </a:xfrm>
        </p:grpSpPr>
        <p:sp>
          <p:nvSpPr>
            <p:cNvPr id="754" name=""/>
            <p:cNvSpPr/>
            <p:nvPr/>
          </p:nvSpPr>
          <p:spPr>
            <a:xfrm>
              <a:off x="4572000" y="2895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72000" y="32763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72000" y="4038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72000" y="48006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2000" y="55623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72000" y="59436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0" name=""/>
            <p:cNvCxnSpPr>
              <a:stCxn id="755" idx="0"/>
              <a:endCxn id="754" idx="2"/>
            </p:cNvCxnSpPr>
            <p:nvPr/>
          </p:nvCxnSpPr>
          <p:spPr>
            <a:xfrm flipV="1">
              <a:off x="4723920" y="3199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61" name=""/>
            <p:cNvCxnSpPr>
              <a:stCxn id="759" idx="0"/>
              <a:endCxn id="758" idx="2"/>
            </p:cNvCxnSpPr>
            <p:nvPr/>
          </p:nvCxnSpPr>
          <p:spPr>
            <a:xfrm flipV="1">
              <a:off x="4723920" y="5867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762" name=""/>
            <p:cNvSpPr/>
            <p:nvPr/>
          </p:nvSpPr>
          <p:spPr>
            <a:xfrm>
              <a:off x="4572000" y="5181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72000" y="36576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4" name=""/>
            <p:cNvCxnSpPr>
              <a:stCxn id="763" idx="0"/>
              <a:endCxn id="763" idx="0"/>
            </p:cNvCxnSpPr>
            <p:nvPr/>
          </p:nvCxnSpPr>
          <p:spPr>
            <a:xfrm flipH="1" rot="16200000">
              <a:off x="4724280" y="3657240"/>
              <a:ext cx="2160" cy="2160"/>
            </a:xfrm>
            <a:prstGeom prst="bentConnector3">
              <a:avLst>
                <a:gd name="adj1" fmla="val -3200000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65" name=""/>
            <p:cNvCxnSpPr>
              <a:stCxn id="762" idx="2"/>
              <a:endCxn id="758" idx="0"/>
            </p:cNvCxnSpPr>
            <p:nvPr/>
          </p:nvCxnSpPr>
          <p:spPr>
            <a:xfrm>
              <a:off x="4723920" y="54860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66" name=""/>
            <p:cNvCxnSpPr>
              <a:stCxn id="762" idx="0"/>
              <a:endCxn id="757" idx="2"/>
            </p:cNvCxnSpPr>
            <p:nvPr/>
          </p:nvCxnSpPr>
          <p:spPr>
            <a:xfrm flipV="1">
              <a:off x="4723920" y="5105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67" name=""/>
            <p:cNvCxnSpPr>
              <a:stCxn id="763" idx="2"/>
              <a:endCxn id="756" idx="0"/>
            </p:cNvCxnSpPr>
            <p:nvPr/>
          </p:nvCxnSpPr>
          <p:spPr>
            <a:xfrm>
              <a:off x="4723920" y="3962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768" name=""/>
            <p:cNvSpPr/>
            <p:nvPr/>
          </p:nvSpPr>
          <p:spPr>
            <a:xfrm>
              <a:off x="4572000" y="44193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9" name=""/>
            <p:cNvCxnSpPr>
              <a:stCxn id="757" idx="0"/>
              <a:endCxn id="768" idx="2"/>
            </p:cNvCxnSpPr>
            <p:nvPr/>
          </p:nvCxnSpPr>
          <p:spPr>
            <a:xfrm flipV="1">
              <a:off x="4723920" y="4724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70" name=""/>
            <p:cNvCxnSpPr>
              <a:stCxn id="768" idx="0"/>
              <a:endCxn id="768" idx="0"/>
            </p:cNvCxnSpPr>
            <p:nvPr/>
          </p:nvCxnSpPr>
          <p:spPr>
            <a:xfrm>
              <a:off x="4723920" y="4419000"/>
              <a:ext cx="1080" cy="10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71" name=""/>
            <p:cNvCxnSpPr>
              <a:stCxn id="768" idx="0"/>
              <a:endCxn id="768" idx="0"/>
            </p:cNvCxnSpPr>
            <p:nvPr/>
          </p:nvCxnSpPr>
          <p:spPr>
            <a:xfrm>
              <a:off x="4723920" y="4419000"/>
              <a:ext cx="1080" cy="10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72" name=""/>
            <p:cNvCxnSpPr>
              <a:stCxn id="768" idx="0"/>
              <a:endCxn id="756" idx="2"/>
            </p:cNvCxnSpPr>
            <p:nvPr/>
          </p:nvCxnSpPr>
          <p:spPr>
            <a:xfrm flipV="1">
              <a:off x="4723920" y="4342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773" name=""/>
          <p:cNvGrpSpPr/>
          <p:nvPr/>
        </p:nvGrpSpPr>
        <p:grpSpPr>
          <a:xfrm>
            <a:off x="7543800" y="3657600"/>
            <a:ext cx="304920" cy="2590560"/>
            <a:chOff x="7543800" y="3657600"/>
            <a:chExt cx="304920" cy="2590560"/>
          </a:xfrm>
        </p:grpSpPr>
        <p:sp>
          <p:nvSpPr>
            <p:cNvPr id="774" name=""/>
            <p:cNvSpPr/>
            <p:nvPr/>
          </p:nvSpPr>
          <p:spPr>
            <a:xfrm>
              <a:off x="7543800" y="36576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43800" y="40384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43800" y="44193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3800" y="48006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43800" y="55623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3800" y="59436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0" name=""/>
            <p:cNvCxnSpPr>
              <a:stCxn id="775" idx="0"/>
              <a:endCxn id="774" idx="2"/>
            </p:cNvCxnSpPr>
            <p:nvPr/>
          </p:nvCxnSpPr>
          <p:spPr>
            <a:xfrm flipV="1">
              <a:off x="7696080" y="3962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81" name=""/>
            <p:cNvCxnSpPr>
              <a:stCxn id="777" idx="0"/>
              <a:endCxn id="776" idx="2"/>
            </p:cNvCxnSpPr>
            <p:nvPr/>
          </p:nvCxnSpPr>
          <p:spPr>
            <a:xfrm flipV="1">
              <a:off x="7696080" y="4724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82" name=""/>
            <p:cNvCxnSpPr>
              <a:stCxn id="779" idx="0"/>
              <a:endCxn id="778" idx="2"/>
            </p:cNvCxnSpPr>
            <p:nvPr/>
          </p:nvCxnSpPr>
          <p:spPr>
            <a:xfrm flipV="1">
              <a:off x="7696080" y="5867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783" name=""/>
            <p:cNvSpPr/>
            <p:nvPr/>
          </p:nvSpPr>
          <p:spPr>
            <a:xfrm>
              <a:off x="7543800" y="51814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4" name=""/>
            <p:cNvCxnSpPr>
              <a:stCxn id="783" idx="2"/>
              <a:endCxn id="778" idx="0"/>
            </p:cNvCxnSpPr>
            <p:nvPr/>
          </p:nvCxnSpPr>
          <p:spPr>
            <a:xfrm>
              <a:off x="7696080" y="54860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85" name=""/>
            <p:cNvCxnSpPr>
              <a:stCxn id="783" idx="0"/>
              <a:endCxn id="777" idx="2"/>
            </p:cNvCxnSpPr>
            <p:nvPr/>
          </p:nvCxnSpPr>
          <p:spPr>
            <a:xfrm flipV="1">
              <a:off x="7696080" y="51051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86" name=""/>
            <p:cNvCxnSpPr>
              <a:stCxn id="776" idx="0"/>
              <a:endCxn id="775" idx="2"/>
            </p:cNvCxnSpPr>
            <p:nvPr/>
          </p:nvCxnSpPr>
          <p:spPr>
            <a:xfrm flipV="1">
              <a:off x="7696080" y="4342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787" name=""/>
          <p:cNvGrpSpPr/>
          <p:nvPr/>
        </p:nvGrpSpPr>
        <p:grpSpPr>
          <a:xfrm>
            <a:off x="8077320" y="3276720"/>
            <a:ext cx="304560" cy="2971800"/>
            <a:chOff x="8077320" y="3276720"/>
            <a:chExt cx="304560" cy="2971800"/>
          </a:xfrm>
        </p:grpSpPr>
        <p:sp>
          <p:nvSpPr>
            <p:cNvPr id="788" name=""/>
            <p:cNvSpPr/>
            <p:nvPr/>
          </p:nvSpPr>
          <p:spPr>
            <a:xfrm>
              <a:off x="8077320" y="3276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077320" y="3657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077320" y="4419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77320" y="4800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077320" y="5562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77320" y="5943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4" name=""/>
            <p:cNvCxnSpPr>
              <a:stCxn id="789" idx="0"/>
              <a:endCxn id="788" idx="2"/>
            </p:cNvCxnSpPr>
            <p:nvPr/>
          </p:nvCxnSpPr>
          <p:spPr>
            <a:xfrm flipV="1">
              <a:off x="8229240" y="3581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95" name=""/>
            <p:cNvCxnSpPr>
              <a:stCxn id="791" idx="0"/>
              <a:endCxn id="790" idx="2"/>
            </p:cNvCxnSpPr>
            <p:nvPr/>
          </p:nvCxnSpPr>
          <p:spPr>
            <a:xfrm flipV="1">
              <a:off x="8229240" y="4724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796" name=""/>
            <p:cNvCxnSpPr>
              <a:stCxn id="793" idx="0"/>
              <a:endCxn id="792" idx="2"/>
            </p:cNvCxnSpPr>
            <p:nvPr/>
          </p:nvCxnSpPr>
          <p:spPr>
            <a:xfrm flipV="1">
              <a:off x="8229240" y="5867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797" name=""/>
            <p:cNvSpPr/>
            <p:nvPr/>
          </p:nvSpPr>
          <p:spPr>
            <a:xfrm>
              <a:off x="8077320" y="5181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77320" y="4038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8" idx="0"/>
              <a:endCxn id="798" idx="0"/>
            </p:cNvCxnSpPr>
            <p:nvPr/>
          </p:nvCxnSpPr>
          <p:spPr>
            <a:xfrm flipH="1" rot="16200000">
              <a:off x="8229600" y="4038480"/>
              <a:ext cx="2160" cy="2160"/>
            </a:xfrm>
            <a:prstGeom prst="bentConnector3">
              <a:avLst>
                <a:gd name="adj1" fmla="val -3200000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800" name=""/>
            <p:cNvCxnSpPr>
              <a:stCxn id="797" idx="2"/>
              <a:endCxn id="792" idx="0"/>
            </p:cNvCxnSpPr>
            <p:nvPr/>
          </p:nvCxnSpPr>
          <p:spPr>
            <a:xfrm>
              <a:off x="8229240" y="5486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801" name=""/>
            <p:cNvCxnSpPr>
              <a:stCxn id="797" idx="0"/>
              <a:endCxn id="791" idx="2"/>
            </p:cNvCxnSpPr>
            <p:nvPr/>
          </p:nvCxnSpPr>
          <p:spPr>
            <a:xfrm flipV="1">
              <a:off x="8229240" y="510552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802" name=""/>
            <p:cNvCxnSpPr>
              <a:stCxn id="798" idx="2"/>
              <a:endCxn id="790" idx="0"/>
            </p:cNvCxnSpPr>
            <p:nvPr/>
          </p:nvCxnSpPr>
          <p:spPr>
            <a:xfrm>
              <a:off x="8229240" y="4343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sp>
        <p:nvSpPr>
          <p:cNvPr id="803" name=""/>
          <p:cNvSpPr/>
          <p:nvPr/>
        </p:nvSpPr>
        <p:spPr>
          <a:xfrm>
            <a:off x="380880" y="3521160"/>
            <a:ext cx="18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stic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676200" y="260496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971800" y="4343400"/>
            <a:ext cx="838080" cy="990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3799800" y="6095880"/>
            <a:ext cx="5277960" cy="764280"/>
            <a:chOff x="3799800" y="6095880"/>
            <a:chExt cx="5277960" cy="764280"/>
          </a:xfrm>
        </p:grpSpPr>
        <p:sp>
          <p:nvSpPr>
            <p:cNvPr id="807" name=""/>
            <p:cNvSpPr/>
            <p:nvPr/>
          </p:nvSpPr>
          <p:spPr>
            <a:xfrm>
              <a:off x="3799800" y="6095880"/>
              <a:ext cx="64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9ea00"/>
                  </a:solidFill>
                  <a:latin typeface="Wingdings"/>
                  <a:ea typeface="Wingdings"/>
                </a:rPr>
                <a:t>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550120" y="6095880"/>
              <a:ext cx="61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15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1500"/>
                  </a:solidFill>
                  <a:latin typeface="Wingdings"/>
                  <a:ea typeface="Wingdings"/>
                </a:rPr>
                <a:t>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40640" y="6095880"/>
              <a:ext cx="61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15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1500"/>
                  </a:solidFill>
                  <a:latin typeface="Wingdings"/>
                  <a:ea typeface="Wingdings"/>
                </a:rPr>
                <a:t>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31160" y="6095880"/>
              <a:ext cx="61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15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1500"/>
                  </a:solidFill>
                  <a:latin typeface="Wingdings"/>
                  <a:ea typeface="Wingdings"/>
                </a:rPr>
                <a:t>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47720" y="6095880"/>
              <a:ext cx="64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9ea00"/>
                  </a:solidFill>
                  <a:latin typeface="Wingdings"/>
                  <a:ea typeface="Wingdings"/>
                </a:rPr>
                <a:t>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33720" y="6095880"/>
              <a:ext cx="64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9ea00"/>
                  </a:solidFill>
                  <a:latin typeface="Wingdings"/>
                  <a:ea typeface="Wingdings"/>
                </a:rPr>
                <a:t>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93120" y="6095880"/>
              <a:ext cx="61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15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1500"/>
                  </a:solidFill>
                  <a:latin typeface="Wingdings"/>
                  <a:ea typeface="Wingdings"/>
                </a:rPr>
                <a:t>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302960" y="6095880"/>
              <a:ext cx="61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15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1500"/>
                  </a:solidFill>
                  <a:latin typeface="Wingdings"/>
                  <a:ea typeface="Wingdings"/>
                </a:rPr>
                <a:t>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836120" y="6095880"/>
              <a:ext cx="61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15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1500"/>
                  </a:solidFill>
                  <a:latin typeface="Wingdings"/>
                  <a:ea typeface="Wingdings"/>
                </a:rPr>
                <a:t>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294840" y="7086600"/>
            <a:ext cx="6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ea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76320" y="4415760"/>
            <a:ext cx="2793960" cy="1083240"/>
            <a:chOff x="76320" y="4415760"/>
            <a:chExt cx="2793960" cy="1083240"/>
          </a:xfrm>
        </p:grpSpPr>
        <p:grpSp>
          <p:nvGrpSpPr>
            <p:cNvPr id="818" name=""/>
            <p:cNvGrpSpPr/>
            <p:nvPr/>
          </p:nvGrpSpPr>
          <p:grpSpPr>
            <a:xfrm>
              <a:off x="128520" y="4415760"/>
              <a:ext cx="2741760" cy="1083240"/>
              <a:chOff x="128520" y="4415760"/>
              <a:chExt cx="2741760" cy="108324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128520" y="4595040"/>
                <a:ext cx="2741760" cy="903960"/>
                <a:chOff x="128520" y="4595040"/>
                <a:chExt cx="2741760" cy="90396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499760" y="5299920"/>
                  <a:ext cx="210960" cy="19908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682920" y="4600800"/>
                  <a:ext cx="2056320" cy="79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sq" w="12600">
                  <a:solidFill>
                    <a:srgbClr val="ffffff"/>
                  </a:solidFill>
                  <a:miter/>
                  <a:headEnd len="sm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flipV="1">
                  <a:off x="128160" y="4594680"/>
                  <a:ext cx="2741760" cy="80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823" name=""/>
                <p:cNvCxnSpPr>
                  <a:stCxn id="820" idx="1"/>
                  <a:endCxn id="820" idx="0"/>
                </p:cNvCxnSpPr>
                <p:nvPr/>
              </p:nvCxnSpPr>
              <p:spPr>
                <a:xfrm flipH="1" rot="10800000">
                  <a:off x="1498680" y="5299200"/>
                  <a:ext cx="106200" cy="100080"/>
                </a:xfrm>
                <a:prstGeom prst="curvedConnector5">
                  <a:avLst>
                    <a:gd name="adj1" fmla="val -21088"/>
                    <a:gd name="adj2" fmla="val 52707"/>
                    <a:gd name="adj3" fmla="val -21088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</p:grpSp>
          <p:grpSp>
            <p:nvGrpSpPr>
              <p:cNvPr id="824" name=""/>
              <p:cNvGrpSpPr/>
              <p:nvPr/>
            </p:nvGrpSpPr>
            <p:grpSpPr>
              <a:xfrm>
                <a:off x="498240" y="4415760"/>
                <a:ext cx="1845720" cy="423000"/>
                <a:chOff x="498240" y="4415760"/>
                <a:chExt cx="1845720" cy="4230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577080" y="4495680"/>
                  <a:ext cx="21096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920160" y="4495680"/>
                  <a:ext cx="21060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262880" y="4495680"/>
                  <a:ext cx="21060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711080" y="4495680"/>
                  <a:ext cx="21060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2054160" y="4495680"/>
                  <a:ext cx="21060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V="1">
                  <a:off x="49824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84096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118368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197496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0920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05192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84284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21220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165852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42128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840" name=""/>
                <p:cNvCxnSpPr>
                  <a:stCxn id="826" idx="3"/>
                  <a:endCxn id="826" idx="0"/>
                </p:cNvCxnSpPr>
                <p:nvPr/>
              </p:nvCxnSpPr>
              <p:spPr>
                <a:xfrm flipH="1" flipV="1">
                  <a:off x="1025280" y="4494960"/>
                  <a:ext cx="105840" cy="106200"/>
                </a:xfrm>
                <a:prstGeom prst="curvedConnector5">
                  <a:avLst>
                    <a:gd name="adj1" fmla="val -74744"/>
                    <a:gd name="adj2" fmla="val 87414"/>
                    <a:gd name="adj3" fmla="val -74744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  <p:cxnSp>
              <p:nvCxnSpPr>
                <p:cNvPr id="841" name=""/>
                <p:cNvCxnSpPr/>
                <p:nvPr/>
              </p:nvCxnSpPr>
              <p:spPr>
                <a:xfrm flipH="1" flipV="1">
                  <a:off x="1367640" y="4494960"/>
                  <a:ext cx="106200" cy="106200"/>
                </a:xfrm>
                <a:prstGeom prst="curvedConnector5">
                  <a:avLst>
                    <a:gd name="adj1" fmla="val -74829"/>
                    <a:gd name="adj2" fmla="val 87414"/>
                    <a:gd name="adj3" fmla="val -74829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  <p:cxnSp>
              <p:nvCxnSpPr>
                <p:cNvPr id="842" name=""/>
                <p:cNvCxnSpPr/>
                <p:nvPr/>
              </p:nvCxnSpPr>
              <p:spPr>
                <a:xfrm flipH="1" flipV="1">
                  <a:off x="1816200" y="4494960"/>
                  <a:ext cx="105840" cy="106200"/>
                </a:xfrm>
                <a:prstGeom prst="curvedConnector5">
                  <a:avLst>
                    <a:gd name="adj1" fmla="val -74744"/>
                    <a:gd name="adj2" fmla="val 87414"/>
                    <a:gd name="adj3" fmla="val -74744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  <p:cxnSp>
              <p:nvCxnSpPr>
                <p:cNvPr id="843" name=""/>
                <p:cNvCxnSpPr/>
                <p:nvPr/>
              </p:nvCxnSpPr>
              <p:spPr>
                <a:xfrm flipH="1" flipV="1">
                  <a:off x="2158560" y="4494960"/>
                  <a:ext cx="106200" cy="106200"/>
                </a:xfrm>
                <a:prstGeom prst="curvedConnector5">
                  <a:avLst>
                    <a:gd name="adj1" fmla="val -74829"/>
                    <a:gd name="adj2" fmla="val 87414"/>
                    <a:gd name="adj3" fmla="val -74829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  <p:cxnSp>
              <p:nvCxnSpPr>
                <p:cNvPr id="844" name=""/>
                <p:cNvCxnSpPr/>
                <p:nvPr/>
              </p:nvCxnSpPr>
              <p:spPr>
                <a:xfrm flipH="1" flipV="1">
                  <a:off x="681840" y="4494960"/>
                  <a:ext cx="106200" cy="106200"/>
                </a:xfrm>
                <a:prstGeom prst="curvedConnector5">
                  <a:avLst>
                    <a:gd name="adj1" fmla="val -74829"/>
                    <a:gd name="adj2" fmla="val 87414"/>
                    <a:gd name="adj3" fmla="val -74829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</p:grpSp>
          <p:grpSp>
            <p:nvGrpSpPr>
              <p:cNvPr id="845" name=""/>
              <p:cNvGrpSpPr/>
              <p:nvPr/>
            </p:nvGrpSpPr>
            <p:grpSpPr>
              <a:xfrm>
                <a:off x="524160" y="4997160"/>
                <a:ext cx="1793880" cy="316440"/>
                <a:chOff x="524160" y="4997160"/>
                <a:chExt cx="1793880" cy="31644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972360" y="5155560"/>
                  <a:ext cx="158040" cy="158040"/>
                </a:xfrm>
                <a:prstGeom prst="ellipse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Del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315440" y="5155560"/>
                  <a:ext cx="158040" cy="158040"/>
                </a:xfrm>
                <a:prstGeom prst="ellipse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Del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632240" y="5155560"/>
                  <a:ext cx="158040" cy="158040"/>
                </a:xfrm>
                <a:prstGeom prst="ellipse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Del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080800" y="5155560"/>
                  <a:ext cx="158040" cy="158040"/>
                </a:xfrm>
                <a:prstGeom prst="ellipse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Del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V="1">
                  <a:off x="1078200" y="4997160"/>
                  <a:ext cx="131760" cy="15804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1790280" y="4997160"/>
                  <a:ext cx="184680" cy="2106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2186280" y="4997160"/>
                  <a:ext cx="131760" cy="15804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130760" y="5234400"/>
                  <a:ext cx="18468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790280" y="5234400"/>
                  <a:ext cx="2901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24160" y="4997520"/>
                  <a:ext cx="474840" cy="184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66880" y="4997520"/>
                  <a:ext cx="474840" cy="184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209960" y="4997520"/>
                  <a:ext cx="421920" cy="184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1447560" y="4997160"/>
                  <a:ext cx="131760" cy="15804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684800" y="4997520"/>
                  <a:ext cx="421920" cy="184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473840" y="5234400"/>
                  <a:ext cx="15804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1" name=""/>
            <p:cNvGrpSpPr/>
            <p:nvPr/>
          </p:nvGrpSpPr>
          <p:grpSpPr>
            <a:xfrm>
              <a:off x="76320" y="4838760"/>
              <a:ext cx="2742840" cy="158760"/>
              <a:chOff x="76320" y="4838760"/>
              <a:chExt cx="2742840" cy="158760"/>
            </a:xfrm>
          </p:grpSpPr>
          <p:sp>
            <p:nvSpPr>
              <p:cNvPr id="862" name=""/>
              <p:cNvSpPr/>
              <p:nvPr/>
            </p:nvSpPr>
            <p:spPr>
              <a:xfrm>
                <a:off x="76320" y="4838760"/>
                <a:ext cx="157680" cy="15876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0000"/>
                    </a:solidFill>
                    <a:latin typeface="Arial"/>
                  </a:rPr>
                  <a:t>Sta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661480" y="4838760"/>
                <a:ext cx="157680" cy="15876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0000"/>
                    </a:solidFill>
                    <a:latin typeface="Arial"/>
                  </a:rPr>
                  <a:t>En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19040" y="4838760"/>
                <a:ext cx="15804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1760" y="4838760"/>
                <a:ext cx="15804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104840" y="4838760"/>
                <a:ext cx="15768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896120" y="4838760"/>
                <a:ext cx="15768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239200" y="4838760"/>
                <a:ext cx="15804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77080" y="4918320"/>
                <a:ext cx="1846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920160" y="4918320"/>
                <a:ext cx="1846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262880" y="4918320"/>
                <a:ext cx="264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685520" y="4918320"/>
                <a:ext cx="2106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54160" y="4918320"/>
                <a:ext cx="1846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4000" y="4918320"/>
                <a:ext cx="1846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397240" y="4918320"/>
                <a:ext cx="264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527120" y="4838760"/>
                <a:ext cx="15804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ata proliferation in biolog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ISS-PROT (200,000 annotated protei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CBI Nonredundant DB (2.5 million protei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iprotKB/TrEMBL (2.3 million protei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DBJ Japan (42 million gen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CBI GenBank (10 million sequence record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0" y="2438280"/>
            <a:ext cx="6019920" cy="533520"/>
          </a:xfrm>
          <a:prstGeom prst="rect">
            <a:avLst/>
          </a:prstGeom>
          <a:solidFill>
            <a:srgbClr val="03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1905120"/>
            <a:ext cx="6019920" cy="533160"/>
          </a:xfrm>
          <a:prstGeom prst="rect">
            <a:avLst/>
          </a:prstGeom>
          <a:solidFill>
            <a:srgbClr val="152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1371600"/>
            <a:ext cx="6019920" cy="533520"/>
          </a:xfrm>
          <a:prstGeom prst="rect">
            <a:avLst/>
          </a:prstGeom>
          <a:solidFill>
            <a:srgbClr val="600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erbi Algorithm Cod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sequence                            //observation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states:                                   //next stat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dec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states:             //transition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max likelihood path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me fro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de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table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0" y="1371600"/>
            <a:ext cx="6172200" cy="533520"/>
          </a:xfrm>
          <a:prstGeom prst="rect">
            <a:avLst/>
          </a:prstGeom>
          <a:solidFill>
            <a:srgbClr val="ff00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2971800"/>
            <a:ext cx="6172200" cy="533520"/>
          </a:xfrm>
          <a:prstGeom prst="rect">
            <a:avLst/>
          </a:prstGeom>
          <a:solidFill>
            <a:srgbClr val="03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2438280"/>
            <a:ext cx="6172200" cy="533520"/>
          </a:xfrm>
          <a:prstGeom prst="rect">
            <a:avLst/>
          </a:prstGeom>
          <a:solidFill>
            <a:srgbClr val="152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1905120"/>
            <a:ext cx="6172200" cy="533160"/>
          </a:xfrm>
          <a:prstGeom prst="rect">
            <a:avLst/>
          </a:prstGeom>
          <a:solidFill>
            <a:srgbClr val="600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rallelizing Viterbi Over a Databas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_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erv_se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database:   //DB loo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erv_se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                    //observation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states:                                   //stat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dec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states:              //transition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max likelihood path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me fro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de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table 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erv_se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lexible parallelis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l database loop in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s size/state of inner loop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lexibility in choo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arse grained parallel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e Grained Parallelis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D Instr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0" y="2971800"/>
            <a:ext cx="6400800" cy="533520"/>
          </a:xfrm>
          <a:prstGeom prst="rect">
            <a:avLst/>
          </a:prstGeom>
          <a:solidFill>
            <a:srgbClr val="03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2438280"/>
            <a:ext cx="6400800" cy="533520"/>
          </a:xfrm>
          <a:prstGeom prst="rect">
            <a:avLst/>
          </a:prstGeom>
          <a:solidFill>
            <a:srgbClr val="152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1905120"/>
            <a:ext cx="6400800" cy="533160"/>
          </a:xfrm>
          <a:prstGeom prst="rect">
            <a:avLst/>
          </a:prstGeom>
          <a:solidFill>
            <a:srgbClr val="600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Loop Reorderin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9296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states:  //transition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max likelihood path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me fro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table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erv_se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0" y="1371600"/>
            <a:ext cx="8229600" cy="533520"/>
            <a:chOff x="0" y="1371600"/>
            <a:chExt cx="8229600" cy="533520"/>
          </a:xfrm>
        </p:grpSpPr>
        <p:sp>
          <p:nvSpPr>
            <p:cNvPr id="896" name=""/>
            <p:cNvSpPr/>
            <p:nvPr/>
          </p:nvSpPr>
          <p:spPr>
            <a:xfrm>
              <a:off x="0" y="1371600"/>
              <a:ext cx="6400800" cy="533520"/>
            </a:xfrm>
            <a:prstGeom prst="rect">
              <a:avLst/>
            </a:prstGeom>
            <a:solidFill>
              <a:srgbClr val="ff00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0" y="1371600"/>
              <a:ext cx="82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rallel_for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observ_seq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in database:      //DB loop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04920" y="2438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states:                                       //next stat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680" y="1919160"/>
            <a:ext cx="90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 to length(longe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erv_se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: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//observation lo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848720" y="297180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40680 h 1447920"/>
              <a:gd name="textAreaBottom" fmla="*/ 14072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1"/>
                  <a:pt x="10800" y="1941"/>
                </a:cubicBezTo>
                <a:lnTo>
                  <a:pt x="10800" y="8859"/>
                </a:lnTo>
                <a:cubicBezTo>
                  <a:pt x="10800" y="9830"/>
                  <a:pt x="16200" y="10800"/>
                  <a:pt x="21600" y="10800"/>
                </a:cubicBezTo>
                <a:cubicBezTo>
                  <a:pt x="16200" y="10800"/>
                  <a:pt x="10800" y="11771"/>
                  <a:pt x="10800" y="12741"/>
                </a:cubicBezTo>
                <a:lnTo>
                  <a:pt x="10800" y="19659"/>
                </a:lnTo>
                <a:cubicBezTo>
                  <a:pt x="10800" y="206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099280" y="342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0" y="2971800"/>
            <a:ext cx="6400800" cy="533520"/>
          </a:xfrm>
          <a:prstGeom prst="rect">
            <a:avLst/>
          </a:prstGeom>
          <a:solidFill>
            <a:srgbClr val="03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1905120"/>
            <a:ext cx="6400800" cy="533160"/>
          </a:xfrm>
          <a:prstGeom prst="rect">
            <a:avLst/>
          </a:prstGeom>
          <a:solidFill>
            <a:srgbClr val="152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1371600"/>
            <a:ext cx="6400800" cy="533520"/>
          </a:xfrm>
          <a:prstGeom prst="rect">
            <a:avLst/>
          </a:prstGeom>
          <a:solidFill>
            <a:srgbClr val="600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Loop Reorderin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9296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states:  //transition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max likelihood path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me fro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table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serv_se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[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0" y="2438280"/>
            <a:ext cx="9144000" cy="533520"/>
            <a:chOff x="0" y="2438280"/>
            <a:chExt cx="9144000" cy="533520"/>
          </a:xfrm>
        </p:grpSpPr>
        <p:sp>
          <p:nvSpPr>
            <p:cNvPr id="908" name=""/>
            <p:cNvSpPr/>
            <p:nvPr/>
          </p:nvSpPr>
          <p:spPr>
            <a:xfrm>
              <a:off x="0" y="2438280"/>
              <a:ext cx="6400800" cy="533520"/>
            </a:xfrm>
            <a:prstGeom prst="rect">
              <a:avLst/>
            </a:prstGeom>
            <a:solidFill>
              <a:srgbClr val="ff00ff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0" y="24382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rallel_for observ_seq in database://DB loo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96280" y="1905120"/>
            <a:ext cx="87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states:                                       //next stat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400" y="1386000"/>
            <a:ext cx="90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 to length(longest observ_seq):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//observation lo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848720" y="297180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40680 h 1447920"/>
              <a:gd name="textAreaBottom" fmla="*/ 14072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1"/>
                  <a:pt x="10800" y="1941"/>
                </a:cubicBezTo>
                <a:lnTo>
                  <a:pt x="10800" y="8859"/>
                </a:lnTo>
                <a:cubicBezTo>
                  <a:pt x="10800" y="9830"/>
                  <a:pt x="16200" y="10800"/>
                  <a:pt x="21600" y="10800"/>
                </a:cubicBezTo>
                <a:cubicBezTo>
                  <a:pt x="16200" y="10800"/>
                  <a:pt x="10800" y="11771"/>
                  <a:pt x="10800" y="12741"/>
                </a:cubicBezTo>
                <a:lnTo>
                  <a:pt x="10800" y="19659"/>
                </a:lnTo>
                <a:cubicBezTo>
                  <a:pt x="10800" y="206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099280" y="342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urther Optimizations HM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roll Transition Loop Comple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roll State Loop by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in fine grained data level parallelism by processing 3 related states (triplet) at o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838080" y="4952880"/>
            <a:ext cx="457200" cy="457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305920" y="4952880"/>
            <a:ext cx="457200" cy="457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990720" y="4249440"/>
            <a:ext cx="7923600" cy="2608200"/>
            <a:chOff x="990720" y="4249440"/>
            <a:chExt cx="7923600" cy="2608200"/>
          </a:xfrm>
        </p:grpSpPr>
        <p:sp>
          <p:nvSpPr>
            <p:cNvPr id="919" name=""/>
            <p:cNvSpPr/>
            <p:nvPr/>
          </p:nvSpPr>
          <p:spPr>
            <a:xfrm>
              <a:off x="4952880" y="6283080"/>
              <a:ext cx="609840" cy="57456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Ju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2591280" y="4267080"/>
              <a:ext cx="594288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990360" y="4249080"/>
              <a:ext cx="7923600" cy="23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22" name=""/>
            <p:cNvCxnSpPr>
              <a:stCxn id="919" idx="1"/>
              <a:endCxn id="919" idx="0"/>
            </p:cNvCxnSpPr>
            <p:nvPr/>
          </p:nvCxnSpPr>
          <p:spPr>
            <a:xfrm flipH="1" rot="10800000">
              <a:off x="4951800" y="6282360"/>
              <a:ext cx="305640" cy="288000"/>
            </a:xfrm>
            <a:prstGeom prst="curvedConnector5">
              <a:avLst>
                <a:gd name="adj1" fmla="val -21344"/>
                <a:gd name="adj2" fmla="val 52690"/>
                <a:gd name="adj3" fmla="val -2134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</p:grpSp>
      <p:grpSp>
        <p:nvGrpSpPr>
          <p:cNvPr id="923" name=""/>
          <p:cNvGrpSpPr/>
          <p:nvPr/>
        </p:nvGrpSpPr>
        <p:grpSpPr>
          <a:xfrm>
            <a:off x="2057400" y="3733560"/>
            <a:ext cx="5333760" cy="1218960"/>
            <a:chOff x="2057400" y="3733560"/>
            <a:chExt cx="5333760" cy="1218960"/>
          </a:xfrm>
        </p:grpSpPr>
        <p:sp>
          <p:nvSpPr>
            <p:cNvPr id="924" name=""/>
            <p:cNvSpPr/>
            <p:nvPr/>
          </p:nvSpPr>
          <p:spPr>
            <a:xfrm>
              <a:off x="2286000" y="3962520"/>
              <a:ext cx="60948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276360" y="3962520"/>
              <a:ext cx="60984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67080" y="3962520"/>
              <a:ext cx="60948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562360" y="3962520"/>
              <a:ext cx="60984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53080" y="3962520"/>
              <a:ext cx="60948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205740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3047760" y="4495320"/>
              <a:ext cx="38124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03848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32448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6688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65760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94360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01028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41008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72428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39" name=""/>
            <p:cNvCxnSpPr>
              <a:stCxn id="925" idx="3"/>
              <a:endCxn id="925" idx="0"/>
            </p:cNvCxnSpPr>
            <p:nvPr/>
          </p:nvCxnSpPr>
          <p:spPr>
            <a:xfrm flipH="1" flipV="1">
              <a:off x="3580560" y="3962160"/>
              <a:ext cx="305640" cy="305280"/>
            </a:xfrm>
            <a:prstGeom prst="curvedConnector5">
              <a:avLst>
                <a:gd name="adj1" fmla="val -75000"/>
                <a:gd name="adj2" fmla="val 87485"/>
                <a:gd name="adj3" fmla="val -750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940" name=""/>
            <p:cNvCxnSpPr/>
            <p:nvPr/>
          </p:nvCxnSpPr>
          <p:spPr>
            <a:xfrm flipH="1" flipV="1">
              <a:off x="4571640" y="3962160"/>
              <a:ext cx="305280" cy="305280"/>
            </a:xfrm>
            <a:prstGeom prst="curvedConnector5">
              <a:avLst>
                <a:gd name="adj1" fmla="val -74970"/>
                <a:gd name="adj2" fmla="val 87485"/>
                <a:gd name="adj3" fmla="val -7497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941" name=""/>
            <p:cNvCxnSpPr/>
            <p:nvPr/>
          </p:nvCxnSpPr>
          <p:spPr>
            <a:xfrm flipH="1" flipV="1">
              <a:off x="5866560" y="3962160"/>
              <a:ext cx="305640" cy="305280"/>
            </a:xfrm>
            <a:prstGeom prst="curvedConnector5">
              <a:avLst>
                <a:gd name="adj1" fmla="val -75000"/>
                <a:gd name="adj2" fmla="val 87485"/>
                <a:gd name="adj3" fmla="val -750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942" name=""/>
            <p:cNvCxnSpPr/>
            <p:nvPr/>
          </p:nvCxnSpPr>
          <p:spPr>
            <a:xfrm flipH="1" flipV="1">
              <a:off x="6857640" y="3962160"/>
              <a:ext cx="305280" cy="305280"/>
            </a:xfrm>
            <a:prstGeom prst="curvedConnector5">
              <a:avLst>
                <a:gd name="adj1" fmla="val -74970"/>
                <a:gd name="adj2" fmla="val 87485"/>
                <a:gd name="adj3" fmla="val -7497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943" name=""/>
            <p:cNvCxnSpPr/>
            <p:nvPr/>
          </p:nvCxnSpPr>
          <p:spPr>
            <a:xfrm flipH="1" flipV="1">
              <a:off x="2589840" y="3962160"/>
              <a:ext cx="305640" cy="305280"/>
            </a:xfrm>
            <a:prstGeom prst="curvedConnector5">
              <a:avLst>
                <a:gd name="adj1" fmla="val -75000"/>
                <a:gd name="adj2" fmla="val 87485"/>
                <a:gd name="adj3" fmla="val -750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944" name=""/>
            <p:cNvSpPr/>
            <p:nvPr/>
          </p:nvSpPr>
          <p:spPr>
            <a:xfrm>
              <a:off x="5181480" y="4267080"/>
              <a:ext cx="22860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1295280" y="4952880"/>
            <a:ext cx="7010280" cy="457200"/>
            <a:chOff x="1295280" y="4952880"/>
            <a:chExt cx="7010280" cy="457200"/>
          </a:xfrm>
        </p:grpSpPr>
        <p:sp>
          <p:nvSpPr>
            <p:cNvPr id="946" name=""/>
            <p:cNvSpPr/>
            <p:nvPr/>
          </p:nvSpPr>
          <p:spPr>
            <a:xfrm>
              <a:off x="182880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1916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80988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9588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8660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286000" y="5181480"/>
              <a:ext cx="5331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7636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6708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6236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5308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9528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43800" y="5181480"/>
              <a:ext cx="7617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05160" y="5181480"/>
              <a:ext cx="22860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133720" y="5410080"/>
            <a:ext cx="5181120" cy="914400"/>
            <a:chOff x="2133720" y="5410080"/>
            <a:chExt cx="5181120" cy="914400"/>
          </a:xfrm>
        </p:grpSpPr>
        <p:sp>
          <p:nvSpPr>
            <p:cNvPr id="960" name=""/>
            <p:cNvSpPr/>
            <p:nvPr/>
          </p:nvSpPr>
          <p:spPr>
            <a:xfrm>
              <a:off x="342900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1936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3868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2940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3733560" y="5410080"/>
              <a:ext cx="38088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943600" y="5410080"/>
              <a:ext cx="38052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6933960" y="5410080"/>
              <a:ext cx="38088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886200" y="6095880"/>
              <a:ext cx="5328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95880" y="6095880"/>
              <a:ext cx="5331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33720" y="5410080"/>
              <a:ext cx="1371240" cy="533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124080" y="5410080"/>
              <a:ext cx="1371240" cy="533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14800" y="5410080"/>
              <a:ext cx="99000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4800600" y="5410080"/>
              <a:ext cx="38052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15000" y="5486040"/>
              <a:ext cx="99000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333760" y="6095880"/>
              <a:ext cx="22824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76560" y="609588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 flipH="1" rot="20933400">
            <a:off x="2283480" y="3806640"/>
            <a:ext cx="1730160" cy="2971800"/>
          </a:xfrm>
          <a:prstGeom prst="parallelogram">
            <a:avLst>
              <a:gd name="adj" fmla="val 59116"/>
            </a:avLst>
          </a:prstGeom>
          <a:solidFill>
            <a:srgbClr val="036400">
              <a:alpha val="43000"/>
            </a:srgbClr>
          </a:solidFill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 rot="20933400">
            <a:off x="3269880" y="3657600"/>
            <a:ext cx="1600200" cy="2971800"/>
          </a:xfrm>
          <a:prstGeom prst="parallelogram">
            <a:avLst>
              <a:gd name="adj" fmla="val 59116"/>
            </a:avLst>
          </a:prstGeom>
          <a:solidFill>
            <a:srgbClr val="036400">
              <a:alpha val="40000"/>
            </a:srgbClr>
          </a:solidFill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rot="20933400">
            <a:off x="5555880" y="3733920"/>
            <a:ext cx="1600200" cy="2971800"/>
          </a:xfrm>
          <a:prstGeom prst="parallelogram">
            <a:avLst>
              <a:gd name="adj" fmla="val 59116"/>
            </a:avLst>
          </a:prstGeom>
          <a:solidFill>
            <a:srgbClr val="036400">
              <a:alpha val="40000"/>
            </a:srgbClr>
          </a:solidFill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rot="20933400">
            <a:off x="6492600" y="3715920"/>
            <a:ext cx="1507680" cy="2683440"/>
          </a:xfrm>
          <a:prstGeom prst="parallelogram">
            <a:avLst>
              <a:gd name="adj" fmla="val 59116"/>
            </a:avLst>
          </a:prstGeom>
          <a:solidFill>
            <a:srgbClr val="036400">
              <a:alpha val="40000"/>
            </a:srgbClr>
          </a:solidFill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urther State Loop Unrolling Increases Arithmetic Intensit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ighboring probability computations (multi-triple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Similar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ach others’ intermediat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er Fetches + Same Ma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Higher Arithmetic Int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38080" y="4952880"/>
            <a:ext cx="457200" cy="457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305920" y="4952880"/>
            <a:ext cx="457200" cy="457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990720" y="4249440"/>
            <a:ext cx="7923600" cy="2608200"/>
            <a:chOff x="990720" y="4249440"/>
            <a:chExt cx="7923600" cy="2608200"/>
          </a:xfrm>
        </p:grpSpPr>
        <p:sp>
          <p:nvSpPr>
            <p:cNvPr id="985" name=""/>
            <p:cNvSpPr/>
            <p:nvPr/>
          </p:nvSpPr>
          <p:spPr>
            <a:xfrm>
              <a:off x="4952880" y="6283080"/>
              <a:ext cx="609840" cy="57456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Ju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2591280" y="4267080"/>
              <a:ext cx="594288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 flipV="1">
              <a:off x="990360" y="4249080"/>
              <a:ext cx="7923600" cy="23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88" name=""/>
            <p:cNvCxnSpPr>
              <a:stCxn id="985" idx="1"/>
              <a:endCxn id="985" idx="0"/>
            </p:cNvCxnSpPr>
            <p:nvPr/>
          </p:nvCxnSpPr>
          <p:spPr>
            <a:xfrm flipH="1" rot="10800000">
              <a:off x="4951800" y="6282360"/>
              <a:ext cx="305640" cy="288000"/>
            </a:xfrm>
            <a:prstGeom prst="curvedConnector5">
              <a:avLst>
                <a:gd name="adj1" fmla="val -21344"/>
                <a:gd name="adj2" fmla="val 52690"/>
                <a:gd name="adj3" fmla="val -2134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</p:grpSp>
      <p:grpSp>
        <p:nvGrpSpPr>
          <p:cNvPr id="989" name=""/>
          <p:cNvGrpSpPr/>
          <p:nvPr/>
        </p:nvGrpSpPr>
        <p:grpSpPr>
          <a:xfrm>
            <a:off x="2057400" y="3733560"/>
            <a:ext cx="5333760" cy="1218960"/>
            <a:chOff x="2057400" y="3733560"/>
            <a:chExt cx="5333760" cy="1218960"/>
          </a:xfrm>
        </p:grpSpPr>
        <p:sp>
          <p:nvSpPr>
            <p:cNvPr id="990" name=""/>
            <p:cNvSpPr/>
            <p:nvPr/>
          </p:nvSpPr>
          <p:spPr>
            <a:xfrm>
              <a:off x="2286000" y="3962520"/>
              <a:ext cx="60948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276360" y="3962520"/>
              <a:ext cx="60984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67080" y="3962520"/>
              <a:ext cx="60948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562360" y="3962520"/>
              <a:ext cx="60984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553080" y="3962520"/>
              <a:ext cx="60948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205740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047760" y="4495320"/>
              <a:ext cx="38124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403848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32448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66688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5760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94360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1028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541008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72428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5" name=""/>
            <p:cNvCxnSpPr>
              <a:stCxn id="991" idx="3"/>
              <a:endCxn id="991" idx="0"/>
            </p:cNvCxnSpPr>
            <p:nvPr/>
          </p:nvCxnSpPr>
          <p:spPr>
            <a:xfrm flipH="1" flipV="1">
              <a:off x="3580560" y="3962160"/>
              <a:ext cx="305640" cy="305280"/>
            </a:xfrm>
            <a:prstGeom prst="curvedConnector5">
              <a:avLst>
                <a:gd name="adj1" fmla="val -75000"/>
                <a:gd name="adj2" fmla="val 87485"/>
                <a:gd name="adj3" fmla="val -750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1006" name=""/>
            <p:cNvCxnSpPr/>
            <p:nvPr/>
          </p:nvCxnSpPr>
          <p:spPr>
            <a:xfrm flipH="1" flipV="1">
              <a:off x="4571640" y="3962160"/>
              <a:ext cx="305280" cy="305280"/>
            </a:xfrm>
            <a:prstGeom prst="curvedConnector5">
              <a:avLst>
                <a:gd name="adj1" fmla="val -74970"/>
                <a:gd name="adj2" fmla="val 87485"/>
                <a:gd name="adj3" fmla="val -7497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1007" name=""/>
            <p:cNvCxnSpPr/>
            <p:nvPr/>
          </p:nvCxnSpPr>
          <p:spPr>
            <a:xfrm flipH="1" flipV="1">
              <a:off x="5866560" y="3962160"/>
              <a:ext cx="305640" cy="305280"/>
            </a:xfrm>
            <a:prstGeom prst="curvedConnector5">
              <a:avLst>
                <a:gd name="adj1" fmla="val -75000"/>
                <a:gd name="adj2" fmla="val 87485"/>
                <a:gd name="adj3" fmla="val -750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1008" name=""/>
            <p:cNvCxnSpPr/>
            <p:nvPr/>
          </p:nvCxnSpPr>
          <p:spPr>
            <a:xfrm flipH="1" flipV="1">
              <a:off x="6857640" y="3962160"/>
              <a:ext cx="305280" cy="305280"/>
            </a:xfrm>
            <a:prstGeom prst="curvedConnector5">
              <a:avLst>
                <a:gd name="adj1" fmla="val -74970"/>
                <a:gd name="adj2" fmla="val 87485"/>
                <a:gd name="adj3" fmla="val -7497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1009" name=""/>
            <p:cNvCxnSpPr/>
            <p:nvPr/>
          </p:nvCxnSpPr>
          <p:spPr>
            <a:xfrm flipH="1" flipV="1">
              <a:off x="2589840" y="3962160"/>
              <a:ext cx="305640" cy="305280"/>
            </a:xfrm>
            <a:prstGeom prst="curvedConnector5">
              <a:avLst>
                <a:gd name="adj1" fmla="val -75000"/>
                <a:gd name="adj2" fmla="val 87485"/>
                <a:gd name="adj3" fmla="val -750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010" name=""/>
            <p:cNvSpPr/>
            <p:nvPr/>
          </p:nvSpPr>
          <p:spPr>
            <a:xfrm>
              <a:off x="5181480" y="4267080"/>
              <a:ext cx="22860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295280" y="4952880"/>
            <a:ext cx="7010280" cy="457200"/>
            <a:chOff x="1295280" y="4952880"/>
            <a:chExt cx="7010280" cy="457200"/>
          </a:xfrm>
        </p:grpSpPr>
        <p:sp>
          <p:nvSpPr>
            <p:cNvPr id="1012" name=""/>
            <p:cNvSpPr/>
            <p:nvPr/>
          </p:nvSpPr>
          <p:spPr>
            <a:xfrm>
              <a:off x="182880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1916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0988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588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08660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286000" y="5181480"/>
              <a:ext cx="5331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27636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26708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6236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5308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9528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543800" y="5181480"/>
              <a:ext cx="7617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05160" y="5181480"/>
              <a:ext cx="22860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133720" y="5410080"/>
            <a:ext cx="5181120" cy="914400"/>
            <a:chOff x="2133720" y="5410080"/>
            <a:chExt cx="5181120" cy="914400"/>
          </a:xfrm>
        </p:grpSpPr>
        <p:sp>
          <p:nvSpPr>
            <p:cNvPr id="1026" name=""/>
            <p:cNvSpPr/>
            <p:nvPr/>
          </p:nvSpPr>
          <p:spPr>
            <a:xfrm>
              <a:off x="342900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41936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3868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2940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3733560" y="5410080"/>
              <a:ext cx="38088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5943600" y="5410080"/>
              <a:ext cx="38052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933960" y="5410080"/>
              <a:ext cx="38088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886200" y="6095880"/>
              <a:ext cx="5328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95880" y="6095880"/>
              <a:ext cx="5331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133720" y="5410080"/>
              <a:ext cx="1371240" cy="533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24080" y="5410080"/>
              <a:ext cx="1371240" cy="533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14800" y="5410080"/>
              <a:ext cx="99000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800600" y="5410080"/>
              <a:ext cx="38052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715000" y="5486040"/>
              <a:ext cx="99000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333760" y="6095880"/>
              <a:ext cx="22824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76560" y="609588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 flipH="1">
            <a:off x="1904400" y="3581280"/>
            <a:ext cx="3276360" cy="2743200"/>
          </a:xfrm>
          <a:prstGeom prst="parallelogram">
            <a:avLst>
              <a:gd name="adj" fmla="val 45424"/>
            </a:avLst>
          </a:prstGeom>
          <a:solidFill>
            <a:srgbClr val="036400">
              <a:alpha val="23000"/>
            </a:srgbClr>
          </a:solidFill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181480" y="3581280"/>
            <a:ext cx="3353040" cy="2743200"/>
          </a:xfrm>
          <a:prstGeom prst="parallelogram">
            <a:avLst>
              <a:gd name="adj" fmla="val 46487"/>
            </a:avLst>
          </a:prstGeom>
          <a:solidFill>
            <a:srgbClr val="036400">
              <a:alpha val="23000"/>
            </a:srgbClr>
          </a:solidFill>
          <a:ln w="38160">
            <a:solidFill>
              <a:srgbClr val="2e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plementation on Graphics Hardware (GPU)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ote 1 triplet and 4 triplet state processing kernels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rook for GPU’s [Buck ‘04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wnloaded as shader progr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ino acid se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ad-only tex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prob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ad/write tex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prob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tant regis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ssion prob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all lookup t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ecessary, traceback performed on C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xperimental Methodolog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067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n Eddy’s HMMer 2.3.2 [Eddy ‘03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tium IV 3.0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ik Lindahl’s AltiVec v2 implementation [Lindahl ‘05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4 GHz G5 Power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r Brook Implemen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I X1800 X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VIDIA 7800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CBI Nonredundant database with 2.5 million prote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esentative HMM’s from Pfam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denovirus Performanc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Hardware outperforms PowerPC by factor of 2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s Hardware performs between 10-25 times better than HMMer on x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eful optimization may improve x86 in the fu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-76320" y="958680"/>
          <a:ext cx="9252000" cy="59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58680"/>
                    <a:ext cx="925200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tein matchin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roteins, same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amino acid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zzy string mat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543800" y="4419720"/>
            <a:ext cx="685800" cy="2209680"/>
            <a:chOff x="7543800" y="4419720"/>
            <a:chExt cx="685800" cy="2209680"/>
          </a:xfrm>
        </p:grpSpPr>
        <p:sp>
          <p:nvSpPr>
            <p:cNvPr id="139" name=""/>
            <p:cNvSpPr/>
            <p:nvPr/>
          </p:nvSpPr>
          <p:spPr>
            <a:xfrm>
              <a:off x="7924680" y="441972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480060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4680" y="51814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4680" y="556272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24680" y="63244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0"/>
              <a:endCxn id="139" idx="2"/>
            </p:cNvCxnSpPr>
            <p:nvPr/>
          </p:nvCxnSpPr>
          <p:spPr>
            <a:xfrm flipV="1">
              <a:off x="8076600" y="4724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45" name=""/>
            <p:cNvCxnSpPr>
              <a:stCxn id="141" idx="0"/>
              <a:endCxn id="140" idx="2"/>
            </p:cNvCxnSpPr>
            <p:nvPr/>
          </p:nvCxnSpPr>
          <p:spPr>
            <a:xfrm flipV="1">
              <a:off x="8076600" y="51048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46" name=""/>
            <p:cNvCxnSpPr>
              <a:stCxn id="143" idx="0"/>
              <a:endCxn id="142" idx="2"/>
            </p:cNvCxnSpPr>
            <p:nvPr/>
          </p:nvCxnSpPr>
          <p:spPr>
            <a:xfrm flipV="1">
              <a:off x="8076600" y="5866920"/>
              <a:ext cx="1080" cy="45792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47" name=""/>
            <p:cNvCxnSpPr>
              <a:stCxn id="143" idx="0"/>
            </p:cNvCxnSpPr>
            <p:nvPr/>
          </p:nvCxnSpPr>
          <p:spPr>
            <a:xfrm flipV="1">
              <a:off x="8076600" y="62478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7543800" y="533412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8" idx="0"/>
              <a:endCxn id="141" idx="1"/>
            </p:cNvCxnSpPr>
            <p:nvPr/>
          </p:nvCxnSpPr>
          <p:spPr>
            <a:xfrm flipH="1" rot="16200000">
              <a:off x="7809480" y="5220360"/>
              <a:ext cx="2160" cy="229320"/>
            </a:xfrm>
            <a:prstGeom prst="bentConnector4">
              <a:avLst>
                <a:gd name="adj1" fmla="val -14400000"/>
                <a:gd name="adj2" fmla="val 83333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50" name=""/>
            <p:cNvCxnSpPr>
              <a:stCxn id="142" idx="1"/>
              <a:endCxn id="148" idx="2"/>
            </p:cNvCxnSpPr>
            <p:nvPr/>
          </p:nvCxnSpPr>
          <p:spPr>
            <a:xfrm rot="10800000">
              <a:off x="7695360" y="5638680"/>
              <a:ext cx="229320" cy="76680"/>
            </a:xfrm>
            <a:prstGeom prst="bentConnector2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7086600" y="4419720"/>
            <a:ext cx="304560" cy="2209680"/>
            <a:chOff x="7086600" y="4419720"/>
            <a:chExt cx="304560" cy="2209680"/>
          </a:xfrm>
        </p:grpSpPr>
        <p:sp>
          <p:nvSpPr>
            <p:cNvPr id="152" name=""/>
            <p:cNvSpPr/>
            <p:nvPr/>
          </p:nvSpPr>
          <p:spPr>
            <a:xfrm>
              <a:off x="7086600" y="441972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6600" y="48006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86600" y="5181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556272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86600" y="59436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86600" y="63244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3" idx="0"/>
              <a:endCxn id="152" idx="2"/>
            </p:cNvCxnSpPr>
            <p:nvPr/>
          </p:nvCxnSpPr>
          <p:spPr>
            <a:xfrm flipV="1">
              <a:off x="7238520" y="4724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59" name=""/>
            <p:cNvCxnSpPr>
              <a:stCxn id="154" idx="0"/>
              <a:endCxn id="153" idx="2"/>
            </p:cNvCxnSpPr>
            <p:nvPr/>
          </p:nvCxnSpPr>
          <p:spPr>
            <a:xfrm flipV="1">
              <a:off x="7238520" y="51048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60" name=""/>
            <p:cNvCxnSpPr>
              <a:stCxn id="155" idx="0"/>
              <a:endCxn id="154" idx="2"/>
            </p:cNvCxnSpPr>
            <p:nvPr/>
          </p:nvCxnSpPr>
          <p:spPr>
            <a:xfrm flipV="1">
              <a:off x="7238520" y="5486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61" name=""/>
            <p:cNvCxnSpPr>
              <a:stCxn id="156" idx="0"/>
              <a:endCxn id="155" idx="2"/>
            </p:cNvCxnSpPr>
            <p:nvPr/>
          </p:nvCxnSpPr>
          <p:spPr>
            <a:xfrm flipV="1">
              <a:off x="7238520" y="58672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62" name=""/>
            <p:cNvCxnSpPr>
              <a:stCxn id="157" idx="0"/>
              <a:endCxn id="156" idx="2"/>
            </p:cNvCxnSpPr>
            <p:nvPr/>
          </p:nvCxnSpPr>
          <p:spPr>
            <a:xfrm flipV="1">
              <a:off x="7238520" y="62478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163" name=""/>
          <p:cNvGrpSpPr/>
          <p:nvPr/>
        </p:nvGrpSpPr>
        <p:grpSpPr>
          <a:xfrm>
            <a:off x="1447920" y="4191120"/>
            <a:ext cx="304560" cy="2209680"/>
            <a:chOff x="1447920" y="4191120"/>
            <a:chExt cx="304560" cy="2209680"/>
          </a:xfrm>
        </p:grpSpPr>
        <p:sp>
          <p:nvSpPr>
            <p:cNvPr id="164" name=""/>
            <p:cNvSpPr/>
            <p:nvPr/>
          </p:nvSpPr>
          <p:spPr>
            <a:xfrm>
              <a:off x="1447920" y="419112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7920" y="45720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7920" y="49528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47920" y="533412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7920" y="571500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7920" y="60958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5" idx="0"/>
              <a:endCxn id="164" idx="2"/>
            </p:cNvCxnSpPr>
            <p:nvPr/>
          </p:nvCxnSpPr>
          <p:spPr>
            <a:xfrm flipV="1">
              <a:off x="1599840" y="4495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71" name=""/>
            <p:cNvCxnSpPr>
              <a:stCxn id="166" idx="0"/>
              <a:endCxn id="165" idx="2"/>
            </p:cNvCxnSpPr>
            <p:nvPr/>
          </p:nvCxnSpPr>
          <p:spPr>
            <a:xfrm flipV="1">
              <a:off x="1599840" y="48762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72" name=""/>
            <p:cNvCxnSpPr>
              <a:stCxn id="167" idx="0"/>
              <a:endCxn id="166" idx="2"/>
            </p:cNvCxnSpPr>
            <p:nvPr/>
          </p:nvCxnSpPr>
          <p:spPr>
            <a:xfrm flipV="1">
              <a:off x="1599840" y="52578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73" name=""/>
            <p:cNvCxnSpPr>
              <a:stCxn id="168" idx="0"/>
              <a:endCxn id="167" idx="2"/>
            </p:cNvCxnSpPr>
            <p:nvPr/>
          </p:nvCxnSpPr>
          <p:spPr>
            <a:xfrm flipV="1">
              <a:off x="1599840" y="5638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74" name=""/>
            <p:cNvCxnSpPr>
              <a:stCxn id="169" idx="0"/>
              <a:endCxn id="168" idx="2"/>
            </p:cNvCxnSpPr>
            <p:nvPr/>
          </p:nvCxnSpPr>
          <p:spPr>
            <a:xfrm flipV="1">
              <a:off x="1599840" y="60192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505320" y="4572000"/>
            <a:ext cx="304560" cy="2209680"/>
            <a:chOff x="3505320" y="4572000"/>
            <a:chExt cx="304560" cy="2209680"/>
          </a:xfrm>
        </p:grpSpPr>
        <p:sp>
          <p:nvSpPr>
            <p:cNvPr id="176" name=""/>
            <p:cNvSpPr/>
            <p:nvPr/>
          </p:nvSpPr>
          <p:spPr>
            <a:xfrm>
              <a:off x="3505320" y="45720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49528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53337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05320" y="57150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05320" y="60958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64767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77" idx="0"/>
              <a:endCxn id="176" idx="2"/>
            </p:cNvCxnSpPr>
            <p:nvPr/>
          </p:nvCxnSpPr>
          <p:spPr>
            <a:xfrm flipV="1">
              <a:off x="3657240" y="48765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83" name=""/>
            <p:cNvCxnSpPr>
              <a:stCxn id="178" idx="0"/>
              <a:endCxn id="177" idx="2"/>
            </p:cNvCxnSpPr>
            <p:nvPr/>
          </p:nvCxnSpPr>
          <p:spPr>
            <a:xfrm flipV="1">
              <a:off x="3657240" y="52570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84" name=""/>
            <p:cNvCxnSpPr>
              <a:stCxn id="179" idx="0"/>
              <a:endCxn id="178" idx="2"/>
            </p:cNvCxnSpPr>
            <p:nvPr/>
          </p:nvCxnSpPr>
          <p:spPr>
            <a:xfrm flipV="1">
              <a:off x="3657240" y="56386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85" name=""/>
            <p:cNvCxnSpPr>
              <a:stCxn id="180" idx="0"/>
              <a:endCxn id="179" idx="2"/>
            </p:cNvCxnSpPr>
            <p:nvPr/>
          </p:nvCxnSpPr>
          <p:spPr>
            <a:xfrm flipV="1">
              <a:off x="3657240" y="60195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86" name=""/>
            <p:cNvCxnSpPr>
              <a:stCxn id="181" idx="0"/>
              <a:endCxn id="180" idx="2"/>
            </p:cNvCxnSpPr>
            <p:nvPr/>
          </p:nvCxnSpPr>
          <p:spPr>
            <a:xfrm flipV="1">
              <a:off x="3657240" y="64000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sp>
        <p:nvSpPr>
          <p:cNvPr id="187" name=""/>
          <p:cNvSpPr/>
          <p:nvPr/>
        </p:nvSpPr>
        <p:spPr>
          <a:xfrm>
            <a:off x="1828800" y="541008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ilar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00400" y="5145120"/>
            <a:ext cx="28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can be s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side-by-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4191120"/>
            <a:ext cx="30456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endCxn id="189" idx="2"/>
          </p:cNvCxnSpPr>
          <p:nvPr/>
        </p:nvCxnSpPr>
        <p:spPr>
          <a:xfrm flipV="1">
            <a:off x="3657240" y="449568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7924680" y="403848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endCxn id="191" idx="2"/>
          </p:cNvCxnSpPr>
          <p:nvPr/>
        </p:nvCxnSpPr>
        <p:spPr>
          <a:xfrm flipV="1">
            <a:off x="8076960" y="43434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erformanc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Hardware outperforms PowerPC by factor of 2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s Hardware performs between 10-25 times better than HMMer on x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eful optimization may improve x86 in the fu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-76320" y="958680"/>
          <a:ext cx="9252000" cy="59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58680"/>
                    <a:ext cx="925200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erformance analys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[ATI x800; 17.5GB/s; 8.3Gops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-Triplet: Bandwidth 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-Triplet: Instruction Issue 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-triplet kernel achieves 90% of peak 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rolling kernel import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cales Linearl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6-node clus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g-E interconn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I Radeon 98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ual 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 2.5 million protein database across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ear scalabilit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10,000 proteins per cluster to keep GPU’s bu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0" name=""/>
          <p:cNvGraphicFramePr/>
          <p:nvPr/>
        </p:nvGraphicFramePr>
        <p:xfrm>
          <a:off x="3809880" y="990720"/>
          <a:ext cx="541044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990720"/>
                    <a:ext cx="541044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MMer-Pfa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es inverse problem of HMMer-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ven a protein of inter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rch a database of HM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for HMMer-pf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quires traceback for every HM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enough memory on G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U requires 10,000 element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storage for 10,00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um_stat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quence_length floating point prob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architecture with finer paralle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aming version of H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ed on G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-3x a PowerPC G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-30x a Pentium 4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 suited for other parallel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cknowledgemen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eila Vaidya &amp; John Johnstone @ LLN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ik Lindah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I fol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VIDIA fol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n Ed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an &amp; Brook T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rh @ graphics.stanford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houston @ graphics.stanford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portance of Streaming HMMer Algorith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s to many types of parallel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adjusting the width of the parallel_for lo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, Multicore, Clusters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ible Read/Write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-grained paralle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fam po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s, not thousands of parallel DB qu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Cell, 16-64 database entries could be proces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kernel could processes all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returns a prob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General HMM Performanc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ry transition matr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actly like repeated matrix-vector multip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matrix is transition matri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ed by emission prob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x() supplants add() operation in matrix-vector analo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ok for GPU paper sh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rix-Vector Multip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for streaming archite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element is touched o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reaming over large quantities of memo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U memory controlled designed for this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illing Probability Tabl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2286000"/>
            <a:ext cx="220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qu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quence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quence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quence 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133720" y="2286000"/>
            <a:ext cx="6781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               R                N                F  …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8 .2  .3 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               R                N                T 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              T                N                 F 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               G               P                  F 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8600" y="12193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16002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66680" y="1295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:    A   B   C   D    A   B   C   D     A   B  C   D  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2133720" y="1371600"/>
            <a:ext cx="7315200" cy="5257800"/>
            <a:chOff x="2133720" y="1371600"/>
            <a:chExt cx="7315200" cy="5257800"/>
          </a:xfrm>
        </p:grpSpPr>
        <p:grpSp>
          <p:nvGrpSpPr>
            <p:cNvPr id="1081" name=""/>
            <p:cNvGrpSpPr/>
            <p:nvPr/>
          </p:nvGrpSpPr>
          <p:grpSpPr>
            <a:xfrm>
              <a:off x="2133720" y="1828800"/>
              <a:ext cx="7315200" cy="4800600"/>
              <a:chOff x="2133720" y="1828800"/>
              <a:chExt cx="7315200" cy="4800600"/>
            </a:xfrm>
          </p:grpSpPr>
          <p:sp>
            <p:nvSpPr>
              <p:cNvPr id="1082" name=""/>
              <p:cNvSpPr/>
              <p:nvPr/>
            </p:nvSpPr>
            <p:spPr>
              <a:xfrm>
                <a:off x="2133720" y="1828800"/>
                <a:ext cx="1828800" cy="4800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962520" y="1828800"/>
                <a:ext cx="1828800" cy="4800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791320" y="1828800"/>
                <a:ext cx="1828800" cy="4800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0120" y="1828800"/>
                <a:ext cx="1828800" cy="4800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"/>
            <p:cNvSpPr/>
            <p:nvPr/>
          </p:nvSpPr>
          <p:spPr>
            <a:xfrm flipV="1">
              <a:off x="2133720" y="13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962520" y="13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5791320" y="13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7620120" y="13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2590920" y="1828800"/>
            <a:ext cx="4572000" cy="4800600"/>
            <a:chOff x="2590920" y="1828800"/>
            <a:chExt cx="4572000" cy="4800600"/>
          </a:xfrm>
        </p:grpSpPr>
        <p:grpSp>
          <p:nvGrpSpPr>
            <p:cNvPr id="1091" name=""/>
            <p:cNvGrpSpPr/>
            <p:nvPr/>
          </p:nvGrpSpPr>
          <p:grpSpPr>
            <a:xfrm>
              <a:off x="2590920" y="1828800"/>
              <a:ext cx="914400" cy="4800600"/>
              <a:chOff x="2590920" y="1828800"/>
              <a:chExt cx="914400" cy="4800600"/>
            </a:xfrm>
          </p:grpSpPr>
          <p:sp>
            <p:nvSpPr>
              <p:cNvPr id="1092" name=""/>
              <p:cNvSpPr/>
              <p:nvPr/>
            </p:nvSpPr>
            <p:spPr>
              <a:xfrm>
                <a:off x="2590920" y="1828800"/>
                <a:ext cx="0" cy="480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048120" y="1828800"/>
                <a:ext cx="0" cy="480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505320" y="1828800"/>
                <a:ext cx="0" cy="480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4419720" y="1828800"/>
              <a:ext cx="914400" cy="4800600"/>
              <a:chOff x="4419720" y="1828800"/>
              <a:chExt cx="914400" cy="4800600"/>
            </a:xfrm>
          </p:grpSpPr>
          <p:sp>
            <p:nvSpPr>
              <p:cNvPr id="1096" name=""/>
              <p:cNvSpPr/>
              <p:nvPr/>
            </p:nvSpPr>
            <p:spPr>
              <a:xfrm>
                <a:off x="4419720" y="1828800"/>
                <a:ext cx="0" cy="480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876920" y="1828800"/>
                <a:ext cx="0" cy="480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334120" y="1828800"/>
                <a:ext cx="0" cy="480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6248520" y="1828800"/>
              <a:ext cx="914400" cy="4800600"/>
              <a:chOff x="6248520" y="1828800"/>
              <a:chExt cx="914400" cy="4800600"/>
            </a:xfrm>
          </p:grpSpPr>
          <p:sp>
            <p:nvSpPr>
              <p:cNvPr id="1100" name=""/>
              <p:cNvSpPr/>
              <p:nvPr/>
            </p:nvSpPr>
            <p:spPr>
              <a:xfrm>
                <a:off x="6248520" y="1828800"/>
                <a:ext cx="0" cy="480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705720" y="1828800"/>
                <a:ext cx="0" cy="480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162920" y="1828800"/>
                <a:ext cx="0" cy="480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urrent method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T [Altschul ‘90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 Ad hoc gap penal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ches depend on pena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+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MMer [Krogh ‘9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+ Robu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st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 Sl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peting with CPU Cach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ty at each state requires max() o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oming state probabilities in memory on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oming state probabilities in L1 cache on 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final probability must be written to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iny database entries must be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kily 12-way version instruction, not bandwidth limited on G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also instruction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erbi Example (yes, will fix arrows)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:  Umbrella           Coat               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2743200"/>
            <a:ext cx="175284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434340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6720" y="3611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3880" y="52117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274320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86000" y="441972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3" name=""/>
          <p:cNvCxnSpPr>
            <a:stCxn id="1111" idx="7"/>
            <a:endCxn id="1107" idx="1"/>
          </p:cNvCxnSpPr>
          <p:nvPr/>
        </p:nvCxnSpPr>
        <p:spPr>
          <a:xfrm flipH="1" rot="16200000">
            <a:off x="1980000" y="2390400"/>
            <a:ext cx="2520" cy="972360"/>
          </a:xfrm>
          <a:prstGeom prst="curvedConnector5">
            <a:avLst>
              <a:gd name="adj1" fmla="val -10500000"/>
              <a:gd name="adj2" fmla="val 50000"/>
              <a:gd name="adj3" fmla="val -105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4" name=""/>
          <p:cNvCxnSpPr>
            <a:stCxn id="1111" idx="5"/>
            <a:endCxn id="1112" idx="2"/>
          </p:cNvCxnSpPr>
          <p:nvPr/>
        </p:nvCxnSpPr>
        <p:spPr>
          <a:xfrm flipH="1" rot="16200000">
            <a:off x="1214280" y="3804840"/>
            <a:ext cx="1353240" cy="79128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08" idx="7"/>
            <a:endCxn id="1107" idx="2"/>
          </p:cNvCxnSpPr>
          <p:nvPr/>
        </p:nvCxnSpPr>
        <p:spPr>
          <a:xfrm flipH="1" flipV="1" rot="5400000">
            <a:off x="1214280" y="3480840"/>
            <a:ext cx="1276560" cy="714960"/>
          </a:xfrm>
          <a:prstGeom prst="curvedConnector2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116" name=""/>
          <p:cNvCxnSpPr>
            <a:stCxn id="1108" idx="5"/>
            <a:endCxn id="1112" idx="3"/>
          </p:cNvCxnSpPr>
          <p:nvPr/>
        </p:nvCxnSpPr>
        <p:spPr>
          <a:xfrm flipH="1" rot="16200000">
            <a:off x="1981080" y="4638240"/>
            <a:ext cx="76680" cy="1048320"/>
          </a:xfrm>
          <a:prstGeom prst="curvedConnector5">
            <a:avLst>
              <a:gd name="adj1" fmla="val 393396"/>
              <a:gd name="adj2" fmla="val 49982"/>
              <a:gd name="adj3" fmla="val 393396"/>
            </a:avLst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1117" name=""/>
          <p:cNvSpPr/>
          <p:nvPr/>
        </p:nvSpPr>
        <p:spPr>
          <a:xfrm>
            <a:off x="1828800" y="1905120"/>
            <a:ext cx="3124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m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ainy,Umbrella) *max(0*.7,1*.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828800" y="5502240"/>
            <a:ext cx="3124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m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unny,Umbrella) *max(0*.3,1*.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754280" y="3276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754280" y="5029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754280" y="4191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75428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15320" y="3581280"/>
            <a:ext cx="192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5*max(0,.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08960" y="615780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1*max(0,.6)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erbi Exampl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:  Umbrella           Coat               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209680" y="2743200"/>
            <a:ext cx="175284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434340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33040" y="3611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33880" y="51674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52280" y="2743200"/>
            <a:ext cx="175284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86000" y="441972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3" name=""/>
          <p:cNvCxnSpPr>
            <a:stCxn id="1131" idx="0"/>
            <a:endCxn id="1127" idx="2"/>
          </p:cNvCxnSpPr>
          <p:nvPr/>
        </p:nvCxnSpPr>
        <p:spPr>
          <a:xfrm flipH="1" rot="16200000">
            <a:off x="1390680" y="2381040"/>
            <a:ext cx="457920" cy="1181520"/>
          </a:xfrm>
          <a:prstGeom prst="curvedConnector5">
            <a:avLst>
              <a:gd name="adj1" fmla="val -84657"/>
              <a:gd name="adj2" fmla="val 38494"/>
              <a:gd name="adj3" fmla="val -8465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4" name=""/>
          <p:cNvCxnSpPr>
            <a:stCxn id="1131" idx="1"/>
            <a:endCxn id="1132" idx="2"/>
          </p:cNvCxnSpPr>
          <p:nvPr/>
        </p:nvCxnSpPr>
        <p:spPr>
          <a:xfrm flipH="1" rot="16200000">
            <a:off x="347400" y="2937240"/>
            <a:ext cx="2001240" cy="1877040"/>
          </a:xfrm>
          <a:prstGeom prst="curvedConnector5">
            <a:avLst>
              <a:gd name="adj1" fmla="val -18082"/>
              <a:gd name="adj2" fmla="val 44906"/>
              <a:gd name="adj3" fmla="val -180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5" name=""/>
          <p:cNvCxnSpPr>
            <a:stCxn id="1128" idx="7"/>
            <a:endCxn id="1127" idx="3"/>
          </p:cNvCxnSpPr>
          <p:nvPr/>
        </p:nvCxnSpPr>
        <p:spPr>
          <a:xfrm flipH="1" flipV="1" rot="5400000">
            <a:off x="1504800" y="3513960"/>
            <a:ext cx="952920" cy="9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6" name=""/>
          <p:cNvCxnSpPr>
            <a:stCxn id="1128" idx="5"/>
            <a:endCxn id="1132" idx="3"/>
          </p:cNvCxnSpPr>
          <p:nvPr/>
        </p:nvCxnSpPr>
        <p:spPr>
          <a:xfrm flipH="1" rot="16200000">
            <a:off x="1981080" y="4638240"/>
            <a:ext cx="76680" cy="1048320"/>
          </a:xfrm>
          <a:prstGeom prst="curvedConnector5">
            <a:avLst>
              <a:gd name="adj1" fmla="val 575000"/>
              <a:gd name="adj2" fmla="val 49982"/>
              <a:gd name="adj3" fmla="val 575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7" name=""/>
          <p:cNvSpPr/>
          <p:nvPr/>
        </p:nvSpPr>
        <p:spPr>
          <a:xfrm>
            <a:off x="4114800" y="1920960"/>
            <a:ext cx="3124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m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ainy,Coat) *max(.2*.7,.06*.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820240" y="36115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819880" y="52880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19720" y="5410080"/>
            <a:ext cx="33526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m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unny,Coat) *max(.2*.3,.06*.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3*max(.06,.036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314960" y="274320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90920" y="4419720"/>
            <a:ext cx="175284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3" name=""/>
          <p:cNvCxnSpPr>
            <a:endCxn id="1141" idx="2"/>
          </p:cNvCxnSpPr>
          <p:nvPr/>
        </p:nvCxnSpPr>
        <p:spPr>
          <a:xfrm flipH="1" rot="16200000">
            <a:off x="3495600" y="2381040"/>
            <a:ext cx="457920" cy="1181880"/>
          </a:xfrm>
          <a:prstGeom prst="curvedConnector5">
            <a:avLst>
              <a:gd name="adj1" fmla="val -84657"/>
              <a:gd name="adj2" fmla="val 38482"/>
              <a:gd name="adj3" fmla="val -8465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4" name=""/>
          <p:cNvCxnSpPr>
            <a:stCxn id="1127" idx="1"/>
            <a:endCxn id="1142" idx="2"/>
          </p:cNvCxnSpPr>
          <p:nvPr/>
        </p:nvCxnSpPr>
        <p:spPr>
          <a:xfrm flipH="1" rot="16200000">
            <a:off x="2428560" y="2913480"/>
            <a:ext cx="2001240" cy="1924560"/>
          </a:xfrm>
          <a:prstGeom prst="curvedConnector5">
            <a:avLst>
              <a:gd name="adj1" fmla="val -18082"/>
              <a:gd name="adj2" fmla="val 44415"/>
              <a:gd name="adj3" fmla="val -180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5" name=""/>
          <p:cNvCxnSpPr>
            <a:endCxn id="1141" idx="3"/>
          </p:cNvCxnSpPr>
          <p:nvPr/>
        </p:nvCxnSpPr>
        <p:spPr>
          <a:xfrm flipH="1" flipV="1" rot="5400000">
            <a:off x="3609720" y="3513960"/>
            <a:ext cx="952920" cy="9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6" name=""/>
          <p:cNvCxnSpPr>
            <a:stCxn id="1132" idx="5"/>
            <a:endCxn id="1142" idx="3"/>
          </p:cNvCxnSpPr>
          <p:nvPr/>
        </p:nvCxnSpPr>
        <p:spPr>
          <a:xfrm flipH="1" rot="16200000">
            <a:off x="4213800" y="4767480"/>
            <a:ext cx="2520" cy="867600"/>
          </a:xfrm>
          <a:prstGeom prst="curvedConnector5">
            <a:avLst>
              <a:gd name="adj1" fmla="val 22800000"/>
              <a:gd name="adj2" fmla="val 49979"/>
              <a:gd name="adj3" fmla="val 228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47" name=""/>
          <p:cNvSpPr/>
          <p:nvPr/>
        </p:nvSpPr>
        <p:spPr>
          <a:xfrm>
            <a:off x="4208400" y="4114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859200" y="5181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554280" y="3657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94000" y="1981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494240" y="356724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4*max(.14,.024)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0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934320" y="62341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0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erbi Exampl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:  Umbrella           Coat               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09680" y="2744640"/>
            <a:ext cx="175284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434484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33040" y="3613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3880" y="51688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280" y="2744640"/>
            <a:ext cx="175284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86000" y="442116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61" name=""/>
          <p:cNvCxnSpPr>
            <a:stCxn id="1159" idx="0"/>
            <a:endCxn id="1155" idx="2"/>
          </p:cNvCxnSpPr>
          <p:nvPr/>
        </p:nvCxnSpPr>
        <p:spPr>
          <a:xfrm flipH="1" rot="16200000">
            <a:off x="1390680" y="2382480"/>
            <a:ext cx="457920" cy="1181520"/>
          </a:xfrm>
          <a:prstGeom prst="curvedConnector5">
            <a:avLst>
              <a:gd name="adj1" fmla="val -84657"/>
              <a:gd name="adj2" fmla="val 38494"/>
              <a:gd name="adj3" fmla="val -8465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2" name=""/>
          <p:cNvCxnSpPr>
            <a:stCxn id="1159" idx="1"/>
            <a:endCxn id="1160" idx="2"/>
          </p:cNvCxnSpPr>
          <p:nvPr/>
        </p:nvCxnSpPr>
        <p:spPr>
          <a:xfrm flipH="1" rot="16200000">
            <a:off x="347760" y="2939760"/>
            <a:ext cx="2000880" cy="1877040"/>
          </a:xfrm>
          <a:prstGeom prst="curvedConnector5">
            <a:avLst>
              <a:gd name="adj1" fmla="val -18085"/>
              <a:gd name="adj2" fmla="val 44906"/>
              <a:gd name="adj3" fmla="val -1808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3" name=""/>
          <p:cNvCxnSpPr>
            <a:stCxn id="1156" idx="7"/>
            <a:endCxn id="1155" idx="3"/>
          </p:cNvCxnSpPr>
          <p:nvPr/>
        </p:nvCxnSpPr>
        <p:spPr>
          <a:xfrm flipH="1" flipV="1" rot="5400000">
            <a:off x="1504440" y="3515760"/>
            <a:ext cx="953280" cy="97236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4" name=""/>
          <p:cNvCxnSpPr>
            <a:stCxn id="1156" idx="5"/>
            <a:endCxn id="1160" idx="3"/>
          </p:cNvCxnSpPr>
          <p:nvPr/>
        </p:nvCxnSpPr>
        <p:spPr>
          <a:xfrm flipH="1" rot="16200000">
            <a:off x="1981080" y="4640040"/>
            <a:ext cx="76680" cy="1048320"/>
          </a:xfrm>
          <a:prstGeom prst="curvedConnector5">
            <a:avLst>
              <a:gd name="adj1" fmla="val 577358"/>
              <a:gd name="adj2" fmla="val 49982"/>
              <a:gd name="adj3" fmla="val 57735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65" name=""/>
          <p:cNvSpPr/>
          <p:nvPr/>
        </p:nvSpPr>
        <p:spPr>
          <a:xfrm>
            <a:off x="6248520" y="1998720"/>
            <a:ext cx="3124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m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ainy,Nothing) *max(.057*.7,.018*.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20240" y="3613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819880" y="52894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95880" y="5259240"/>
            <a:ext cx="33530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m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unny,Nothing) *max(.057*.3,.018*.6) =.6*max(.0171,.0108)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010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314960" y="274464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390920" y="4421160"/>
            <a:ext cx="175284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71" name=""/>
          <p:cNvCxnSpPr>
            <a:endCxn id="1169" idx="2"/>
          </p:cNvCxnSpPr>
          <p:nvPr/>
        </p:nvCxnSpPr>
        <p:spPr>
          <a:xfrm flipH="1" rot="16200000">
            <a:off x="3495600" y="2382480"/>
            <a:ext cx="457920" cy="1181880"/>
          </a:xfrm>
          <a:prstGeom prst="curvedConnector5">
            <a:avLst>
              <a:gd name="adj1" fmla="val -84657"/>
              <a:gd name="adj2" fmla="val 38482"/>
              <a:gd name="adj3" fmla="val -8465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2" name=""/>
          <p:cNvCxnSpPr>
            <a:stCxn id="1155" idx="1"/>
            <a:endCxn id="1170" idx="2"/>
          </p:cNvCxnSpPr>
          <p:nvPr/>
        </p:nvCxnSpPr>
        <p:spPr>
          <a:xfrm flipH="1" rot="16200000">
            <a:off x="2428920" y="2916000"/>
            <a:ext cx="2000880" cy="1924560"/>
          </a:xfrm>
          <a:prstGeom prst="curvedConnector5">
            <a:avLst>
              <a:gd name="adj1" fmla="val -18085"/>
              <a:gd name="adj2" fmla="val 44415"/>
              <a:gd name="adj3" fmla="val -1808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3" name=""/>
          <p:cNvCxnSpPr>
            <a:endCxn id="1169" idx="3"/>
          </p:cNvCxnSpPr>
          <p:nvPr/>
        </p:nvCxnSpPr>
        <p:spPr>
          <a:xfrm flipH="1" flipV="1" rot="5400000">
            <a:off x="3609360" y="3515760"/>
            <a:ext cx="953280" cy="97236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4" name=""/>
          <p:cNvCxnSpPr>
            <a:stCxn id="1160" idx="5"/>
            <a:endCxn id="1170" idx="3"/>
          </p:cNvCxnSpPr>
          <p:nvPr/>
        </p:nvCxnSpPr>
        <p:spPr>
          <a:xfrm flipH="1" rot="16200000">
            <a:off x="4214160" y="4769280"/>
            <a:ext cx="2160" cy="867600"/>
          </a:xfrm>
          <a:prstGeom prst="curvedConnector5">
            <a:avLst>
              <a:gd name="adj1" fmla="val 22800000"/>
              <a:gd name="adj2" fmla="val 49979"/>
              <a:gd name="adj3" fmla="val 228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5" name=""/>
          <p:cNvSpPr/>
          <p:nvPr/>
        </p:nvSpPr>
        <p:spPr>
          <a:xfrm>
            <a:off x="4743360" y="36133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0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800600" y="53355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0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400800" y="274464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77120" y="4421160"/>
            <a:ext cx="175248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79" name=""/>
          <p:cNvCxnSpPr>
            <a:endCxn id="1177" idx="2"/>
          </p:cNvCxnSpPr>
          <p:nvPr/>
        </p:nvCxnSpPr>
        <p:spPr>
          <a:xfrm flipH="1" rot="16200000">
            <a:off x="5581440" y="2382480"/>
            <a:ext cx="457920" cy="1181880"/>
          </a:xfrm>
          <a:prstGeom prst="curvedConnector5">
            <a:avLst>
              <a:gd name="adj1" fmla="val -84657"/>
              <a:gd name="adj2" fmla="val 38482"/>
              <a:gd name="adj3" fmla="val -8465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0" name=""/>
          <p:cNvCxnSpPr>
            <a:endCxn id="1178" idx="2"/>
          </p:cNvCxnSpPr>
          <p:nvPr/>
        </p:nvCxnSpPr>
        <p:spPr>
          <a:xfrm flipH="1" rot="16200000">
            <a:off x="4514760" y="2916000"/>
            <a:ext cx="2000880" cy="1924920"/>
          </a:xfrm>
          <a:prstGeom prst="curvedConnector5">
            <a:avLst>
              <a:gd name="adj1" fmla="val -18085"/>
              <a:gd name="adj2" fmla="val 44425"/>
              <a:gd name="adj3" fmla="val -1808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1" name=""/>
          <p:cNvCxnSpPr/>
          <p:nvPr/>
        </p:nvCxnSpPr>
        <p:spPr>
          <a:xfrm flipH="1" flipV="1" rot="5400000">
            <a:off x="5647680" y="3496680"/>
            <a:ext cx="953280" cy="972360"/>
          </a:xfrm>
          <a:prstGeom prst="curvedConnector5">
            <a:avLst>
              <a:gd name="adj1" fmla="val 82999"/>
              <a:gd name="adj2" fmla="val 50000"/>
              <a:gd name="adj3" fmla="val 8299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2" name=""/>
          <p:cNvCxnSpPr>
            <a:endCxn id="1178" idx="2"/>
          </p:cNvCxnSpPr>
          <p:nvPr/>
        </p:nvCxnSpPr>
        <p:spPr>
          <a:xfrm flipV="1">
            <a:off x="5867280" y="4877640"/>
            <a:ext cx="610560" cy="32292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3" name=""/>
          <p:cNvSpPr/>
          <p:nvPr/>
        </p:nvSpPr>
        <p:spPr>
          <a:xfrm>
            <a:off x="5989680" y="4192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66000" y="4954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80200" y="198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324480" y="355284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1*max(.0399,.0072)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003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08800" y="4040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erformanc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Hardware outperforms PowerPC by factor of 2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s Hardware performs between 10-25 times better than HMMer on x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eful optimization may improve x86 in the fu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-152280" y="762120"/>
          <a:ext cx="9372600" cy="62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762120"/>
                    <a:ext cx="937260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ransition Probabiliti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chance of the world changing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ed from exampl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105520" y="4038480"/>
            <a:ext cx="3733560" cy="27432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257800" y="4495680"/>
            <a:ext cx="3505320" cy="2209680"/>
            <a:chOff x="5257800" y="4495680"/>
            <a:chExt cx="3505320" cy="2209680"/>
          </a:xfrm>
        </p:grpSpPr>
        <p:sp>
          <p:nvSpPr>
            <p:cNvPr id="1196" name=""/>
            <p:cNvSpPr/>
            <p:nvPr/>
          </p:nvSpPr>
          <p:spPr>
            <a:xfrm>
              <a:off x="5638680" y="44956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638680" y="48765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38680" y="52578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638680" y="56386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38680" y="64008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1" name=""/>
            <p:cNvCxnSpPr>
              <a:stCxn id="1197" idx="0"/>
              <a:endCxn id="1196" idx="2"/>
            </p:cNvCxnSpPr>
            <p:nvPr/>
          </p:nvCxnSpPr>
          <p:spPr>
            <a:xfrm flipV="1">
              <a:off x="5790960" y="47998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02" name=""/>
            <p:cNvCxnSpPr>
              <a:stCxn id="1198" idx="0"/>
              <a:endCxn id="1197" idx="2"/>
            </p:cNvCxnSpPr>
            <p:nvPr/>
          </p:nvCxnSpPr>
          <p:spPr>
            <a:xfrm flipV="1">
              <a:off x="5790960" y="51814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03" name=""/>
            <p:cNvCxnSpPr>
              <a:stCxn id="1200" idx="0"/>
              <a:endCxn id="1199" idx="2"/>
            </p:cNvCxnSpPr>
            <p:nvPr/>
          </p:nvCxnSpPr>
          <p:spPr>
            <a:xfrm flipV="1">
              <a:off x="5790960" y="5943240"/>
              <a:ext cx="1080" cy="45792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04" name=""/>
            <p:cNvCxnSpPr>
              <a:stCxn id="1200" idx="0"/>
            </p:cNvCxnSpPr>
            <p:nvPr/>
          </p:nvCxnSpPr>
          <p:spPr>
            <a:xfrm flipV="1">
              <a:off x="5790960" y="63244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20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95880" y="48765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95880" y="52578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5880" y="56386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95880" y="60195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5880" y="64008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1" name=""/>
            <p:cNvCxnSpPr>
              <a:stCxn id="1206" idx="0"/>
              <a:endCxn id="1205" idx="2"/>
            </p:cNvCxnSpPr>
            <p:nvPr/>
          </p:nvCxnSpPr>
          <p:spPr>
            <a:xfrm flipV="1">
              <a:off x="6248160" y="47998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12" name=""/>
            <p:cNvCxnSpPr>
              <a:stCxn id="1208" idx="0"/>
              <a:endCxn id="1207" idx="2"/>
            </p:cNvCxnSpPr>
            <p:nvPr/>
          </p:nvCxnSpPr>
          <p:spPr>
            <a:xfrm flipV="1">
              <a:off x="6248160" y="55623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13" name=""/>
            <p:cNvCxnSpPr>
              <a:stCxn id="1210" idx="0"/>
              <a:endCxn id="1209" idx="2"/>
            </p:cNvCxnSpPr>
            <p:nvPr/>
          </p:nvCxnSpPr>
          <p:spPr>
            <a:xfrm flipV="1">
              <a:off x="6248160" y="63244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214" name=""/>
            <p:cNvSpPr/>
            <p:nvPr/>
          </p:nvSpPr>
          <p:spPr>
            <a:xfrm>
              <a:off x="6477120" y="57909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77120" y="50292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57800" y="54100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7" name=""/>
            <p:cNvCxnSpPr>
              <a:stCxn id="1207" idx="3"/>
              <a:endCxn id="1215" idx="2"/>
            </p:cNvCxnSpPr>
            <p:nvPr/>
          </p:nvCxnSpPr>
          <p:spPr>
            <a:xfrm flipV="1">
              <a:off x="6400440" y="5333760"/>
              <a:ext cx="229320" cy="76680"/>
            </a:xfrm>
            <a:prstGeom prst="bentConnector2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18" name=""/>
            <p:cNvCxnSpPr>
              <a:stCxn id="1215" idx="0"/>
              <a:endCxn id="1206" idx="3"/>
            </p:cNvCxnSpPr>
            <p:nvPr/>
          </p:nvCxnSpPr>
          <p:spPr>
            <a:xfrm rot="5400000">
              <a:off x="6513480" y="4915440"/>
              <a:ext cx="2160" cy="229320"/>
            </a:xfrm>
            <a:prstGeom prst="bentConnector4">
              <a:avLst>
                <a:gd name="adj1" fmla="val -14400000"/>
                <a:gd name="adj2" fmla="val 83333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19" name=""/>
            <p:cNvCxnSpPr>
              <a:stCxn id="1209" idx="3"/>
              <a:endCxn id="1214" idx="2"/>
            </p:cNvCxnSpPr>
            <p:nvPr/>
          </p:nvCxnSpPr>
          <p:spPr>
            <a:xfrm flipV="1">
              <a:off x="6400440" y="6095880"/>
              <a:ext cx="229320" cy="76680"/>
            </a:xfrm>
            <a:prstGeom prst="bentConnector2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20" name=""/>
            <p:cNvCxnSpPr>
              <a:stCxn id="1214" idx="0"/>
              <a:endCxn id="1208" idx="3"/>
            </p:cNvCxnSpPr>
            <p:nvPr/>
          </p:nvCxnSpPr>
          <p:spPr>
            <a:xfrm rot="5400000">
              <a:off x="6513480" y="5676480"/>
              <a:ext cx="2520" cy="229320"/>
            </a:xfrm>
            <a:prstGeom prst="bentConnector4">
              <a:avLst>
                <a:gd name="adj1" fmla="val -14400000"/>
                <a:gd name="adj2" fmla="val 83333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21" name=""/>
            <p:cNvCxnSpPr>
              <a:stCxn id="1216" idx="0"/>
              <a:endCxn id="1198" idx="1"/>
            </p:cNvCxnSpPr>
            <p:nvPr/>
          </p:nvCxnSpPr>
          <p:spPr>
            <a:xfrm flipH="1" rot="16200000">
              <a:off x="5523480" y="5296320"/>
              <a:ext cx="2160" cy="229320"/>
            </a:xfrm>
            <a:prstGeom prst="bentConnector4">
              <a:avLst>
                <a:gd name="adj1" fmla="val -14400000"/>
                <a:gd name="adj2" fmla="val 83333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22" name=""/>
            <p:cNvCxnSpPr>
              <a:stCxn id="1199" idx="1"/>
              <a:endCxn id="1216" idx="2"/>
            </p:cNvCxnSpPr>
            <p:nvPr/>
          </p:nvCxnSpPr>
          <p:spPr>
            <a:xfrm rot="10800000">
              <a:off x="5409360" y="5714280"/>
              <a:ext cx="229320" cy="76680"/>
            </a:xfrm>
            <a:prstGeom prst="bentConnector2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223" name=""/>
            <p:cNvSpPr/>
            <p:nvPr/>
          </p:nvSpPr>
          <p:spPr>
            <a:xfrm>
              <a:off x="8077320" y="44956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077320" y="48765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077320" y="52578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077320" y="563868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077320" y="601956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077320" y="640080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29" name=""/>
            <p:cNvCxnSpPr>
              <a:stCxn id="1224" idx="0"/>
              <a:endCxn id="1223" idx="2"/>
            </p:cNvCxnSpPr>
            <p:nvPr/>
          </p:nvCxnSpPr>
          <p:spPr>
            <a:xfrm flipV="1">
              <a:off x="8229240" y="47998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30" name=""/>
            <p:cNvCxnSpPr>
              <a:stCxn id="1226" idx="0"/>
              <a:endCxn id="1225" idx="2"/>
            </p:cNvCxnSpPr>
            <p:nvPr/>
          </p:nvCxnSpPr>
          <p:spPr>
            <a:xfrm flipV="1">
              <a:off x="8229240" y="556236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31" name=""/>
            <p:cNvCxnSpPr>
              <a:stCxn id="1228" idx="0"/>
              <a:endCxn id="1227" idx="2"/>
            </p:cNvCxnSpPr>
            <p:nvPr/>
          </p:nvCxnSpPr>
          <p:spPr>
            <a:xfrm flipV="1">
              <a:off x="8229240" y="63244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232" name=""/>
            <p:cNvSpPr/>
            <p:nvPr/>
          </p:nvSpPr>
          <p:spPr>
            <a:xfrm>
              <a:off x="8458200" y="57909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458200" y="50292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34" name=""/>
            <p:cNvCxnSpPr>
              <a:stCxn id="1225" idx="3"/>
              <a:endCxn id="1233" idx="2"/>
            </p:cNvCxnSpPr>
            <p:nvPr/>
          </p:nvCxnSpPr>
          <p:spPr>
            <a:xfrm flipV="1">
              <a:off x="8381520" y="5333760"/>
              <a:ext cx="229320" cy="76680"/>
            </a:xfrm>
            <a:prstGeom prst="bentConnector2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35" name=""/>
            <p:cNvCxnSpPr>
              <a:stCxn id="1233" idx="0"/>
              <a:endCxn id="1224" idx="3"/>
            </p:cNvCxnSpPr>
            <p:nvPr/>
          </p:nvCxnSpPr>
          <p:spPr>
            <a:xfrm rot="5400000">
              <a:off x="8494560" y="4915440"/>
              <a:ext cx="2160" cy="229320"/>
            </a:xfrm>
            <a:prstGeom prst="bentConnector4">
              <a:avLst>
                <a:gd name="adj1" fmla="val -14400000"/>
                <a:gd name="adj2" fmla="val 83333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36" name=""/>
            <p:cNvCxnSpPr>
              <a:stCxn id="1227" idx="3"/>
              <a:endCxn id="1232" idx="2"/>
            </p:cNvCxnSpPr>
            <p:nvPr/>
          </p:nvCxnSpPr>
          <p:spPr>
            <a:xfrm flipV="1">
              <a:off x="8381520" y="6095880"/>
              <a:ext cx="229320" cy="76680"/>
            </a:xfrm>
            <a:prstGeom prst="bentConnector2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37" name=""/>
            <p:cNvCxnSpPr>
              <a:stCxn id="1232" idx="0"/>
              <a:endCxn id="1226" idx="3"/>
            </p:cNvCxnSpPr>
            <p:nvPr/>
          </p:nvCxnSpPr>
          <p:spPr>
            <a:xfrm rot="5400000">
              <a:off x="8494560" y="5676480"/>
              <a:ext cx="2520" cy="229320"/>
            </a:xfrm>
            <a:prstGeom prst="bentConnector4">
              <a:avLst>
                <a:gd name="adj1" fmla="val -14400000"/>
                <a:gd name="adj2" fmla="val 83333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238" name=""/>
            <p:cNvSpPr/>
            <p:nvPr/>
          </p:nvSpPr>
          <p:spPr>
            <a:xfrm>
              <a:off x="7696080" y="54100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39" name=""/>
            <p:cNvCxnSpPr>
              <a:stCxn id="1238" idx="0"/>
            </p:cNvCxnSpPr>
            <p:nvPr/>
          </p:nvCxnSpPr>
          <p:spPr>
            <a:xfrm flipH="1" rot="16200000">
              <a:off x="7962120" y="5296320"/>
              <a:ext cx="2160" cy="229320"/>
            </a:xfrm>
            <a:prstGeom prst="bentConnector4">
              <a:avLst>
                <a:gd name="adj1" fmla="val -14400000"/>
                <a:gd name="adj2" fmla="val 83333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40" name=""/>
            <p:cNvCxnSpPr>
              <a:endCxn id="1238" idx="2"/>
            </p:cNvCxnSpPr>
            <p:nvPr/>
          </p:nvCxnSpPr>
          <p:spPr>
            <a:xfrm rot="10800000">
              <a:off x="7848000" y="5714280"/>
              <a:ext cx="229320" cy="76680"/>
            </a:xfrm>
            <a:prstGeom prst="bentConnector2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241" name=""/>
            <p:cNvSpPr/>
            <p:nvPr/>
          </p:nvSpPr>
          <p:spPr>
            <a:xfrm>
              <a:off x="7238880" y="44956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238880" y="48765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38880" y="52578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238880" y="56386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238880" y="6400800"/>
              <a:ext cx="30492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46" name=""/>
            <p:cNvCxnSpPr>
              <a:stCxn id="1242" idx="0"/>
              <a:endCxn id="1241" idx="2"/>
            </p:cNvCxnSpPr>
            <p:nvPr/>
          </p:nvCxnSpPr>
          <p:spPr>
            <a:xfrm flipV="1">
              <a:off x="7391160" y="47998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47" name=""/>
            <p:cNvCxnSpPr>
              <a:stCxn id="1243" idx="0"/>
              <a:endCxn id="1242" idx="2"/>
            </p:cNvCxnSpPr>
            <p:nvPr/>
          </p:nvCxnSpPr>
          <p:spPr>
            <a:xfrm flipV="1">
              <a:off x="7391160" y="51814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48" name=""/>
            <p:cNvCxnSpPr>
              <a:stCxn id="1245" idx="0"/>
              <a:endCxn id="1244" idx="2"/>
            </p:cNvCxnSpPr>
            <p:nvPr/>
          </p:nvCxnSpPr>
          <p:spPr>
            <a:xfrm flipV="1">
              <a:off x="7391160" y="5943240"/>
              <a:ext cx="1080" cy="45792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49" name=""/>
            <p:cNvCxnSpPr>
              <a:stCxn id="1245" idx="0"/>
            </p:cNvCxnSpPr>
            <p:nvPr/>
          </p:nvCxnSpPr>
          <p:spPr>
            <a:xfrm flipV="1">
              <a:off x="7391160" y="632448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250" name=""/>
            <p:cNvSpPr/>
            <p:nvPr/>
          </p:nvSpPr>
          <p:spPr>
            <a:xfrm>
              <a:off x="6858000" y="541008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1" name=""/>
            <p:cNvCxnSpPr>
              <a:stCxn id="1250" idx="0"/>
              <a:endCxn id="1243" idx="1"/>
            </p:cNvCxnSpPr>
            <p:nvPr/>
          </p:nvCxnSpPr>
          <p:spPr>
            <a:xfrm flipH="1" rot="16200000">
              <a:off x="7123680" y="5296320"/>
              <a:ext cx="2160" cy="229320"/>
            </a:xfrm>
            <a:prstGeom prst="bentConnector4">
              <a:avLst>
                <a:gd name="adj1" fmla="val -14400000"/>
                <a:gd name="adj2" fmla="val 83333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252" name=""/>
            <p:cNvCxnSpPr>
              <a:stCxn id="1244" idx="1"/>
              <a:endCxn id="1250" idx="2"/>
            </p:cNvCxnSpPr>
            <p:nvPr/>
          </p:nvCxnSpPr>
          <p:spPr>
            <a:xfrm rot="10800000">
              <a:off x="7009560" y="5714280"/>
              <a:ext cx="229320" cy="76680"/>
            </a:xfrm>
            <a:prstGeom prst="bentConnector2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253" name=""/>
            <p:cNvSpPr/>
            <p:nvPr/>
          </p:nvSpPr>
          <p:spPr>
            <a:xfrm>
              <a:off x="7238880" y="6019560"/>
              <a:ext cx="30492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5638680" y="6019920"/>
            <a:ext cx="304920" cy="304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 flipV="1">
            <a:off x="4952520" y="571500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5715000"/>
            <a:ext cx="45720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 flipV="1">
            <a:off x="4952880" y="5333760"/>
            <a:ext cx="144792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315200" y="5867280"/>
            <a:ext cx="152280" cy="228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 flipV="1">
            <a:off x="4952880" y="4800240"/>
            <a:ext cx="23623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1523880" y="1800000"/>
            <a:ext cx="6242400" cy="2462040"/>
            <a:chOff x="1523880" y="1800000"/>
            <a:chExt cx="6242400" cy="2462040"/>
          </a:xfrm>
        </p:grpSpPr>
        <p:grpSp>
          <p:nvGrpSpPr>
            <p:cNvPr id="1261" name=""/>
            <p:cNvGrpSpPr/>
            <p:nvPr/>
          </p:nvGrpSpPr>
          <p:grpSpPr>
            <a:xfrm>
              <a:off x="1523880" y="2207880"/>
              <a:ext cx="6242400" cy="2054160"/>
              <a:chOff x="1523880" y="2207880"/>
              <a:chExt cx="6242400" cy="20541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645440" y="3809520"/>
                <a:ext cx="480240" cy="45252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2784960" y="2220840"/>
                <a:ext cx="4682160" cy="179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  <a:head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 flipV="1">
                <a:off x="1523880" y="2207520"/>
                <a:ext cx="6242400" cy="182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65" name=""/>
              <p:cNvCxnSpPr>
                <a:stCxn id="1262" idx="1"/>
                <a:endCxn id="1262" idx="0"/>
              </p:cNvCxnSpPr>
              <p:nvPr/>
            </p:nvCxnSpPr>
            <p:spPr>
              <a:xfrm flipH="1" rot="10800000">
                <a:off x="4644360" y="3808800"/>
                <a:ext cx="240840" cy="226800"/>
              </a:xfrm>
              <a:prstGeom prst="curvedConnector5">
                <a:avLst>
                  <a:gd name="adj1" fmla="val -21257"/>
                  <a:gd name="adj2" fmla="val 52623"/>
                  <a:gd name="adj3" fmla="val -21257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</p:grpSp>
        <p:grpSp>
          <p:nvGrpSpPr>
            <p:cNvPr id="1266" name=""/>
            <p:cNvGrpSpPr/>
            <p:nvPr/>
          </p:nvGrpSpPr>
          <p:grpSpPr>
            <a:xfrm>
              <a:off x="2365920" y="1800000"/>
              <a:ext cx="4201200" cy="961200"/>
              <a:chOff x="2365920" y="1800000"/>
              <a:chExt cx="4201200" cy="961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2545920" y="1981080"/>
                <a:ext cx="480240" cy="4798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326040" y="1981080"/>
                <a:ext cx="479880" cy="4798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106520" y="1981080"/>
                <a:ext cx="479880" cy="4798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126760" y="1981080"/>
                <a:ext cx="479880" cy="4798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907240" y="1981080"/>
                <a:ext cx="479880" cy="479880"/>
              </a:xfrm>
              <a:prstGeom prst="diamond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Jun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2365920" y="2401200"/>
                <a:ext cx="30024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3146040" y="2401200"/>
                <a:ext cx="29988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3926520" y="2401200"/>
                <a:ext cx="29988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5727240" y="2401200"/>
                <a:ext cx="29988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2846160" y="2401200"/>
                <a:ext cx="29988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626280" y="2401200"/>
                <a:ext cx="30024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427000" y="2401200"/>
                <a:ext cx="30024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267240" y="2401200"/>
                <a:ext cx="29988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5006880" y="2401200"/>
                <a:ext cx="29988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66880" y="2401200"/>
                <a:ext cx="299880" cy="3600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82" name=""/>
              <p:cNvCxnSpPr>
                <a:stCxn id="1268" idx="3"/>
                <a:endCxn id="1268" idx="0"/>
              </p:cNvCxnSpPr>
              <p:nvPr/>
            </p:nvCxnSpPr>
            <p:spPr>
              <a:xfrm flipH="1" flipV="1">
                <a:off x="3566160" y="1980360"/>
                <a:ext cx="240480" cy="240840"/>
              </a:xfrm>
              <a:prstGeom prst="curvedConnector5">
                <a:avLst>
                  <a:gd name="adj1" fmla="val -74962"/>
                  <a:gd name="adj2" fmla="val 87425"/>
                  <a:gd name="adj3" fmla="val -74962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1283" name=""/>
              <p:cNvCxnSpPr/>
              <p:nvPr/>
            </p:nvCxnSpPr>
            <p:spPr>
              <a:xfrm flipH="1" flipV="1">
                <a:off x="4345920" y="1980360"/>
                <a:ext cx="240840" cy="240840"/>
              </a:xfrm>
              <a:prstGeom prst="curvedConnector5">
                <a:avLst>
                  <a:gd name="adj1" fmla="val -75000"/>
                  <a:gd name="adj2" fmla="val 87425"/>
                  <a:gd name="adj3" fmla="val -75000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1284" name=""/>
              <p:cNvCxnSpPr/>
              <p:nvPr/>
            </p:nvCxnSpPr>
            <p:spPr>
              <a:xfrm flipH="1" flipV="1">
                <a:off x="5366520" y="1980360"/>
                <a:ext cx="240480" cy="240840"/>
              </a:xfrm>
              <a:prstGeom prst="curvedConnector5">
                <a:avLst>
                  <a:gd name="adj1" fmla="val -74962"/>
                  <a:gd name="adj2" fmla="val 87425"/>
                  <a:gd name="adj3" fmla="val -74962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1285" name=""/>
              <p:cNvCxnSpPr/>
              <p:nvPr/>
            </p:nvCxnSpPr>
            <p:spPr>
              <a:xfrm flipH="1" flipV="1">
                <a:off x="6146280" y="1980360"/>
                <a:ext cx="240840" cy="240840"/>
              </a:xfrm>
              <a:prstGeom prst="curvedConnector5">
                <a:avLst>
                  <a:gd name="adj1" fmla="val -75000"/>
                  <a:gd name="adj2" fmla="val 87425"/>
                  <a:gd name="adj3" fmla="val -75000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1286" name=""/>
              <p:cNvCxnSpPr/>
              <p:nvPr/>
            </p:nvCxnSpPr>
            <p:spPr>
              <a:xfrm flipH="1" flipV="1">
                <a:off x="2785320" y="1980360"/>
                <a:ext cx="240840" cy="240840"/>
              </a:xfrm>
              <a:prstGeom prst="curvedConnector5">
                <a:avLst>
                  <a:gd name="adj1" fmla="val -75000"/>
                  <a:gd name="adj2" fmla="val 87425"/>
                  <a:gd name="adj3" fmla="val -75000"/>
                </a:avLst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</p:cxnSp>
        </p:grpSp>
        <p:grpSp>
          <p:nvGrpSpPr>
            <p:cNvPr id="1287" name=""/>
            <p:cNvGrpSpPr/>
            <p:nvPr/>
          </p:nvGrpSpPr>
          <p:grpSpPr>
            <a:xfrm>
              <a:off x="2424960" y="3121560"/>
              <a:ext cx="4083120" cy="718920"/>
              <a:chOff x="2424960" y="3121560"/>
              <a:chExt cx="4083120" cy="718920"/>
            </a:xfrm>
          </p:grpSpPr>
          <p:sp>
            <p:nvSpPr>
              <p:cNvPr id="1288" name=""/>
              <p:cNvSpPr/>
              <p:nvPr/>
            </p:nvSpPr>
            <p:spPr>
              <a:xfrm>
                <a:off x="3445560" y="3481200"/>
                <a:ext cx="360000" cy="35928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D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226400" y="3481200"/>
                <a:ext cx="360000" cy="35928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D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947120" y="3481200"/>
                <a:ext cx="360000" cy="35928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D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967720" y="3481200"/>
                <a:ext cx="360000" cy="35928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D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3686040" y="3121920"/>
                <a:ext cx="299880" cy="359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5307480" y="3121560"/>
                <a:ext cx="420120" cy="4791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6208200" y="3121920"/>
                <a:ext cx="299880" cy="359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805920" y="3660840"/>
                <a:ext cx="4201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07480" y="3660840"/>
                <a:ext cx="660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424960" y="3121920"/>
                <a:ext cx="1080720" cy="4190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205440" y="3121920"/>
                <a:ext cx="1080720" cy="4190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85920" y="3121920"/>
                <a:ext cx="960840" cy="4190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4526640" y="3121920"/>
                <a:ext cx="300240" cy="359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067000" y="3121920"/>
                <a:ext cx="960840" cy="4190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586760" y="3660840"/>
                <a:ext cx="3600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3" name=""/>
          <p:cNvGrpSpPr/>
          <p:nvPr/>
        </p:nvGrpSpPr>
        <p:grpSpPr>
          <a:xfrm>
            <a:off x="1382760" y="2743200"/>
            <a:ext cx="6243120" cy="360000"/>
            <a:chOff x="1382760" y="2743200"/>
            <a:chExt cx="6243120" cy="360000"/>
          </a:xfrm>
        </p:grpSpPr>
        <p:sp>
          <p:nvSpPr>
            <p:cNvPr id="1304" name=""/>
            <p:cNvSpPr/>
            <p:nvPr/>
          </p:nvSpPr>
          <p:spPr>
            <a:xfrm>
              <a:off x="1382760" y="2743200"/>
              <a:ext cx="359280" cy="3600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Star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266600" y="2743200"/>
              <a:ext cx="359280" cy="3600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End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62880" y="2743200"/>
              <a:ext cx="359640" cy="3600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943360" y="2743200"/>
              <a:ext cx="359640" cy="3600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723840" y="2743200"/>
              <a:ext cx="359280" cy="3600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524560" y="2743200"/>
              <a:ext cx="359280" cy="3600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05040" y="2743200"/>
              <a:ext cx="359640" cy="3600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522880" y="2923920"/>
              <a:ext cx="4201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303000" y="2923920"/>
              <a:ext cx="420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83480" y="2923920"/>
              <a:ext cx="6012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45040" y="2923920"/>
              <a:ext cx="479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84200" y="2923920"/>
              <a:ext cx="420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42040" y="2923920"/>
              <a:ext cx="420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5040" y="2923920"/>
              <a:ext cx="6012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685040" y="2743200"/>
              <a:ext cx="359640" cy="3600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838800" y="464832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chance of correct 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030280" y="25718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5680" y="50846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chance of inse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878360" y="2266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21800" y="552600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chance of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78000" y="3105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029200" y="2895480"/>
            <a:ext cx="609480" cy="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5029200" y="2362320"/>
            <a:ext cx="304920" cy="38088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029200" y="3124080"/>
            <a:ext cx="914400" cy="38124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508720" y="40384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in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MMer Scores a Protei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s probable alignment of protein to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572000" y="4343400"/>
            <a:ext cx="1143000" cy="990720"/>
          </a:xfrm>
          <a:prstGeom prst="rightArrow">
            <a:avLst>
              <a:gd name="adj1" fmla="val 50000"/>
              <a:gd name="adj2" fmla="val 28843"/>
            </a:avLst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M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73200" y="4572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64840" y="234144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87720" y="4475160"/>
            <a:ext cx="16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848720" y="4419720"/>
            <a:ext cx="30456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848720" y="480060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48720" y="518148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848720" y="5562720"/>
            <a:ext cx="30456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848720" y="5943600"/>
            <a:ext cx="30456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41" name=""/>
          <p:cNvCxnSpPr>
            <a:stCxn id="1336" idx="0"/>
            <a:endCxn id="1335" idx="2"/>
          </p:cNvCxnSpPr>
          <p:nvPr/>
        </p:nvCxnSpPr>
        <p:spPr>
          <a:xfrm flipV="1">
            <a:off x="8000640" y="434340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1342" name=""/>
          <p:cNvCxnSpPr>
            <a:stCxn id="1340" idx="0"/>
            <a:endCxn id="1339" idx="2"/>
          </p:cNvCxnSpPr>
          <p:nvPr/>
        </p:nvCxnSpPr>
        <p:spPr>
          <a:xfrm flipV="1">
            <a:off x="8000640" y="586728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343" name=""/>
          <p:cNvSpPr/>
          <p:nvPr/>
        </p:nvSpPr>
        <p:spPr>
          <a:xfrm>
            <a:off x="8229600" y="5334120"/>
            <a:ext cx="304920" cy="304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229600" y="4572000"/>
            <a:ext cx="304920" cy="30492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45" name=""/>
          <p:cNvCxnSpPr>
            <a:stCxn id="1337" idx="3"/>
            <a:endCxn id="1344" idx="2"/>
          </p:cNvCxnSpPr>
          <p:nvPr/>
        </p:nvCxnSpPr>
        <p:spPr>
          <a:xfrm flipV="1">
            <a:off x="8152920" y="4876200"/>
            <a:ext cx="229320" cy="766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1346" name=""/>
          <p:cNvCxnSpPr>
            <a:stCxn id="1344" idx="0"/>
            <a:endCxn id="1336" idx="3"/>
          </p:cNvCxnSpPr>
          <p:nvPr/>
        </p:nvCxnSpPr>
        <p:spPr>
          <a:xfrm rot="5400000">
            <a:off x="8265960" y="4458240"/>
            <a:ext cx="2160" cy="229320"/>
          </a:xfrm>
          <a:prstGeom prst="bentConnector4">
            <a:avLst>
              <a:gd name="adj1" fmla="val -14400000"/>
              <a:gd name="adj2" fmla="val 83333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1347" name=""/>
          <p:cNvCxnSpPr>
            <a:stCxn id="1339" idx="3"/>
            <a:endCxn id="1343" idx="2"/>
          </p:cNvCxnSpPr>
          <p:nvPr/>
        </p:nvCxnSpPr>
        <p:spPr>
          <a:xfrm flipV="1">
            <a:off x="8152920" y="5638680"/>
            <a:ext cx="229320" cy="766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1348" name=""/>
          <p:cNvCxnSpPr>
            <a:stCxn id="1343" idx="0"/>
            <a:endCxn id="1338" idx="3"/>
          </p:cNvCxnSpPr>
          <p:nvPr/>
        </p:nvCxnSpPr>
        <p:spPr>
          <a:xfrm rot="5400000">
            <a:off x="8265960" y="5220360"/>
            <a:ext cx="2160" cy="229320"/>
          </a:xfrm>
          <a:prstGeom prst="bentConnector4">
            <a:avLst>
              <a:gd name="adj1" fmla="val -14400000"/>
              <a:gd name="adj2" fmla="val 83333"/>
            </a:avLst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349" name=""/>
          <p:cNvSpPr/>
          <p:nvPr/>
        </p:nvSpPr>
        <p:spPr>
          <a:xfrm>
            <a:off x="7316640" y="4648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162920" y="2774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Likely Alignment to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3962520" y="3276720"/>
            <a:ext cx="304560" cy="2971800"/>
            <a:chOff x="3962520" y="3276720"/>
            <a:chExt cx="304560" cy="2971800"/>
          </a:xfrm>
        </p:grpSpPr>
        <p:sp>
          <p:nvSpPr>
            <p:cNvPr id="1352" name=""/>
            <p:cNvSpPr/>
            <p:nvPr/>
          </p:nvSpPr>
          <p:spPr>
            <a:xfrm>
              <a:off x="3962520" y="3276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962520" y="3657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4419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4800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962520" y="556272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962520" y="5943960"/>
              <a:ext cx="304560" cy="30456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58" name=""/>
            <p:cNvCxnSpPr>
              <a:stCxn id="1353" idx="0"/>
              <a:endCxn id="1352" idx="2"/>
            </p:cNvCxnSpPr>
            <p:nvPr/>
          </p:nvCxnSpPr>
          <p:spPr>
            <a:xfrm flipV="1">
              <a:off x="4114440" y="3581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359" name=""/>
            <p:cNvCxnSpPr>
              <a:stCxn id="1355" idx="0"/>
              <a:endCxn id="1354" idx="2"/>
            </p:cNvCxnSpPr>
            <p:nvPr/>
          </p:nvCxnSpPr>
          <p:spPr>
            <a:xfrm flipV="1">
              <a:off x="4114440" y="4724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360" name=""/>
            <p:cNvCxnSpPr>
              <a:stCxn id="1357" idx="0"/>
              <a:endCxn id="1356" idx="2"/>
            </p:cNvCxnSpPr>
            <p:nvPr/>
          </p:nvCxnSpPr>
          <p:spPr>
            <a:xfrm flipV="1">
              <a:off x="4114440" y="586764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sp>
          <p:nvSpPr>
            <p:cNvPr id="1361" name=""/>
            <p:cNvSpPr/>
            <p:nvPr/>
          </p:nvSpPr>
          <p:spPr>
            <a:xfrm>
              <a:off x="3962520" y="5181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62520" y="4038840"/>
              <a:ext cx="304560" cy="30492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63" name=""/>
            <p:cNvCxnSpPr>
              <a:stCxn id="1362" idx="0"/>
              <a:endCxn id="1362" idx="0"/>
            </p:cNvCxnSpPr>
            <p:nvPr/>
          </p:nvCxnSpPr>
          <p:spPr>
            <a:xfrm flipH="1" rot="16200000">
              <a:off x="4114800" y="4038480"/>
              <a:ext cx="2160" cy="2160"/>
            </a:xfrm>
            <a:prstGeom prst="bentConnector3">
              <a:avLst>
                <a:gd name="adj1" fmla="val -3200000"/>
              </a:avLst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364" name=""/>
            <p:cNvCxnSpPr>
              <a:stCxn id="1361" idx="2"/>
              <a:endCxn id="1356" idx="0"/>
            </p:cNvCxnSpPr>
            <p:nvPr/>
          </p:nvCxnSpPr>
          <p:spPr>
            <a:xfrm>
              <a:off x="4114440" y="5486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365" name=""/>
            <p:cNvCxnSpPr>
              <a:stCxn id="1361" idx="0"/>
              <a:endCxn id="1355" idx="2"/>
            </p:cNvCxnSpPr>
            <p:nvPr/>
          </p:nvCxnSpPr>
          <p:spPr>
            <a:xfrm flipV="1">
              <a:off x="4114440" y="510552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  <p:cxnSp>
          <p:nvCxnSpPr>
            <p:cNvPr id="1366" name=""/>
            <p:cNvCxnSpPr>
              <a:stCxn id="1362" idx="2"/>
              <a:endCxn id="1354" idx="0"/>
            </p:cNvCxnSpPr>
            <p:nvPr/>
          </p:nvCxnSpPr>
          <p:spPr>
            <a:xfrm>
              <a:off x="4114440" y="4343400"/>
              <a:ext cx="1080" cy="76680"/>
            </a:xfrm>
            <a:prstGeom prst="straightConnector1">
              <a:avLst/>
            </a:prstGeom>
            <a:ln cap="sq" w="12600">
              <a:solidFill>
                <a:srgbClr val="ffffff"/>
              </a:solidFill>
              <a:miter/>
            </a:ln>
          </p:spPr>
        </p:cxnSp>
      </p:grpSp>
      <p:sp>
        <p:nvSpPr>
          <p:cNvPr id="1367" name=""/>
          <p:cNvSpPr/>
          <p:nvPr/>
        </p:nvSpPr>
        <p:spPr>
          <a:xfrm>
            <a:off x="3785760" y="6095880"/>
            <a:ext cx="6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ea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8" name=""/>
          <p:cNvCxnSpPr>
            <a:stCxn id="1337" idx="2"/>
            <a:endCxn id="1338" idx="0"/>
          </p:cNvCxnSpPr>
          <p:nvPr/>
        </p:nvCxnSpPr>
        <p:spPr>
          <a:xfrm>
            <a:off x="8000640" y="5105160"/>
            <a:ext cx="1080" cy="766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1369" name=""/>
          <p:cNvSpPr/>
          <p:nvPr/>
        </p:nvSpPr>
        <p:spPr>
          <a:xfrm>
            <a:off x="0" y="3505320"/>
            <a:ext cx="2895480" cy="213336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80880" y="3521160"/>
            <a:ext cx="18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stic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76320" y="4415760"/>
            <a:ext cx="2793960" cy="1083240"/>
            <a:chOff x="76320" y="4415760"/>
            <a:chExt cx="2793960" cy="1083240"/>
          </a:xfrm>
        </p:grpSpPr>
        <p:grpSp>
          <p:nvGrpSpPr>
            <p:cNvPr id="1372" name=""/>
            <p:cNvGrpSpPr/>
            <p:nvPr/>
          </p:nvGrpSpPr>
          <p:grpSpPr>
            <a:xfrm>
              <a:off x="128520" y="4415760"/>
              <a:ext cx="2741760" cy="1083240"/>
              <a:chOff x="128520" y="4415760"/>
              <a:chExt cx="2741760" cy="1083240"/>
            </a:xfrm>
          </p:grpSpPr>
          <p:grpSp>
            <p:nvGrpSpPr>
              <p:cNvPr id="1373" name=""/>
              <p:cNvGrpSpPr/>
              <p:nvPr/>
            </p:nvGrpSpPr>
            <p:grpSpPr>
              <a:xfrm>
                <a:off x="128520" y="4595040"/>
                <a:ext cx="2741760" cy="903960"/>
                <a:chOff x="128520" y="4595040"/>
                <a:chExt cx="2741760" cy="9039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1499760" y="5299920"/>
                  <a:ext cx="210960" cy="19908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V="1">
                  <a:off x="682920" y="4600800"/>
                  <a:ext cx="2056320" cy="79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sq" w="12600">
                  <a:solidFill>
                    <a:srgbClr val="ffffff"/>
                  </a:solidFill>
                  <a:miter/>
                  <a:headEnd len="sm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H="1" flipV="1">
                  <a:off x="128160" y="4594680"/>
                  <a:ext cx="2741760" cy="80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77" name=""/>
                <p:cNvCxnSpPr>
                  <a:stCxn id="1374" idx="1"/>
                  <a:endCxn id="1374" idx="0"/>
                </p:cNvCxnSpPr>
                <p:nvPr/>
              </p:nvCxnSpPr>
              <p:spPr>
                <a:xfrm flipH="1" rot="10800000">
                  <a:off x="1498680" y="5299200"/>
                  <a:ext cx="106200" cy="100080"/>
                </a:xfrm>
                <a:prstGeom prst="curvedConnector5">
                  <a:avLst>
                    <a:gd name="adj1" fmla="val -21088"/>
                    <a:gd name="adj2" fmla="val 52707"/>
                    <a:gd name="adj3" fmla="val -21088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</p:grpSp>
          <p:grpSp>
            <p:nvGrpSpPr>
              <p:cNvPr id="1378" name=""/>
              <p:cNvGrpSpPr/>
              <p:nvPr/>
            </p:nvGrpSpPr>
            <p:grpSpPr>
              <a:xfrm>
                <a:off x="498240" y="4415760"/>
                <a:ext cx="1845720" cy="423000"/>
                <a:chOff x="498240" y="4415760"/>
                <a:chExt cx="1845720" cy="42300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577080" y="4495680"/>
                  <a:ext cx="21096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920160" y="4495680"/>
                  <a:ext cx="21060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1262880" y="4495680"/>
                  <a:ext cx="21060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1711080" y="4495680"/>
                  <a:ext cx="21060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054160" y="4495680"/>
                  <a:ext cx="210600" cy="210960"/>
                </a:xfrm>
                <a:prstGeom prst="diamond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Junk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49824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V="1">
                  <a:off x="84096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>
                  <a:off x="118368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V="1">
                  <a:off x="197496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0920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105192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184284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21220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165852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421280" y="4680360"/>
                  <a:ext cx="131760" cy="1584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4" name=""/>
                <p:cNvCxnSpPr>
                  <a:stCxn id="1380" idx="3"/>
                  <a:endCxn id="1380" idx="0"/>
                </p:cNvCxnSpPr>
                <p:nvPr/>
              </p:nvCxnSpPr>
              <p:spPr>
                <a:xfrm flipH="1" flipV="1">
                  <a:off x="1025280" y="4494960"/>
                  <a:ext cx="105840" cy="106200"/>
                </a:xfrm>
                <a:prstGeom prst="curvedConnector5">
                  <a:avLst>
                    <a:gd name="adj1" fmla="val -74744"/>
                    <a:gd name="adj2" fmla="val 87414"/>
                    <a:gd name="adj3" fmla="val -74744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  <p:cxnSp>
              <p:nvCxnSpPr>
                <p:cNvPr id="1395" name=""/>
                <p:cNvCxnSpPr/>
                <p:nvPr/>
              </p:nvCxnSpPr>
              <p:spPr>
                <a:xfrm flipH="1" flipV="1">
                  <a:off x="1367640" y="4494960"/>
                  <a:ext cx="106200" cy="106200"/>
                </a:xfrm>
                <a:prstGeom prst="curvedConnector5">
                  <a:avLst>
                    <a:gd name="adj1" fmla="val -74829"/>
                    <a:gd name="adj2" fmla="val 87414"/>
                    <a:gd name="adj3" fmla="val -74829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  <p:cxnSp>
              <p:nvCxnSpPr>
                <p:cNvPr id="1396" name=""/>
                <p:cNvCxnSpPr/>
                <p:nvPr/>
              </p:nvCxnSpPr>
              <p:spPr>
                <a:xfrm flipH="1" flipV="1">
                  <a:off x="1816200" y="4494960"/>
                  <a:ext cx="105840" cy="106200"/>
                </a:xfrm>
                <a:prstGeom prst="curvedConnector5">
                  <a:avLst>
                    <a:gd name="adj1" fmla="val -74744"/>
                    <a:gd name="adj2" fmla="val 87414"/>
                    <a:gd name="adj3" fmla="val -74744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  <p:cxnSp>
              <p:nvCxnSpPr>
                <p:cNvPr id="1397" name=""/>
                <p:cNvCxnSpPr/>
                <p:nvPr/>
              </p:nvCxnSpPr>
              <p:spPr>
                <a:xfrm flipH="1" flipV="1">
                  <a:off x="2158560" y="4494960"/>
                  <a:ext cx="106200" cy="106200"/>
                </a:xfrm>
                <a:prstGeom prst="curvedConnector5">
                  <a:avLst>
                    <a:gd name="adj1" fmla="val -74829"/>
                    <a:gd name="adj2" fmla="val 87414"/>
                    <a:gd name="adj3" fmla="val -74829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  <p:cxnSp>
              <p:nvCxnSpPr>
                <p:cNvPr id="1398" name=""/>
                <p:cNvCxnSpPr/>
                <p:nvPr/>
              </p:nvCxnSpPr>
              <p:spPr>
                <a:xfrm flipH="1" flipV="1">
                  <a:off x="681840" y="4494960"/>
                  <a:ext cx="106200" cy="106200"/>
                </a:xfrm>
                <a:prstGeom prst="curvedConnector5">
                  <a:avLst>
                    <a:gd name="adj1" fmla="val -74829"/>
                    <a:gd name="adj2" fmla="val 87414"/>
                    <a:gd name="adj3" fmla="val -74829"/>
                  </a:avLst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</p:cxnSp>
          </p:grpSp>
          <p:grpSp>
            <p:nvGrpSpPr>
              <p:cNvPr id="1399" name=""/>
              <p:cNvGrpSpPr/>
              <p:nvPr/>
            </p:nvGrpSpPr>
            <p:grpSpPr>
              <a:xfrm>
                <a:off x="524160" y="4997160"/>
                <a:ext cx="1793880" cy="316440"/>
                <a:chOff x="524160" y="4997160"/>
                <a:chExt cx="1793880" cy="31644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972360" y="5155560"/>
                  <a:ext cx="158040" cy="158040"/>
                </a:xfrm>
                <a:prstGeom prst="ellipse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Del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1315440" y="5155560"/>
                  <a:ext cx="158040" cy="158040"/>
                </a:xfrm>
                <a:prstGeom prst="ellipse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Del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1632240" y="5155560"/>
                  <a:ext cx="158040" cy="158040"/>
                </a:xfrm>
                <a:prstGeom prst="ellipse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Del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2080800" y="5155560"/>
                  <a:ext cx="158040" cy="158040"/>
                </a:xfrm>
                <a:prstGeom prst="ellipse">
                  <a:avLst/>
                </a:prstGeom>
                <a:solidFill>
                  <a:srgbClr val="ff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0000"/>
                      </a:solidFill>
                      <a:latin typeface="Arial"/>
                    </a:rPr>
                    <a:t>Del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1078200" y="4997160"/>
                  <a:ext cx="131760" cy="15804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V="1">
                  <a:off x="1790280" y="4997160"/>
                  <a:ext cx="184680" cy="2106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>
                  <a:off x="2186280" y="4997160"/>
                  <a:ext cx="131760" cy="15804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1130760" y="5234400"/>
                  <a:ext cx="18468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1790280" y="5234400"/>
                  <a:ext cx="2901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24160" y="4997520"/>
                  <a:ext cx="474840" cy="184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66880" y="4997520"/>
                  <a:ext cx="474840" cy="184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1209960" y="4997520"/>
                  <a:ext cx="421920" cy="184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1447560" y="4997160"/>
                  <a:ext cx="131760" cy="15804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1684800" y="4997520"/>
                  <a:ext cx="421920" cy="184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1473840" y="5234400"/>
                  <a:ext cx="15804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5" name=""/>
            <p:cNvGrpSpPr/>
            <p:nvPr/>
          </p:nvGrpSpPr>
          <p:grpSpPr>
            <a:xfrm>
              <a:off x="76320" y="4838760"/>
              <a:ext cx="2742840" cy="158760"/>
              <a:chOff x="76320" y="4838760"/>
              <a:chExt cx="2742840" cy="158760"/>
            </a:xfrm>
          </p:grpSpPr>
          <p:sp>
            <p:nvSpPr>
              <p:cNvPr id="1416" name=""/>
              <p:cNvSpPr/>
              <p:nvPr/>
            </p:nvSpPr>
            <p:spPr>
              <a:xfrm>
                <a:off x="76320" y="4838760"/>
                <a:ext cx="157680" cy="15876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0000"/>
                    </a:solidFill>
                    <a:latin typeface="Arial"/>
                  </a:rPr>
                  <a:t>Sta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661480" y="4838760"/>
                <a:ext cx="157680" cy="15876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0000"/>
                    </a:solidFill>
                    <a:latin typeface="Arial"/>
                  </a:rPr>
                  <a:t>En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19040" y="4838760"/>
                <a:ext cx="15804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61760" y="4838760"/>
                <a:ext cx="15804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104840" y="4838760"/>
                <a:ext cx="15768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896120" y="4838760"/>
                <a:ext cx="15768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239200" y="4838760"/>
                <a:ext cx="15804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77080" y="4918320"/>
                <a:ext cx="1846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920160" y="4918320"/>
                <a:ext cx="1846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262880" y="4918320"/>
                <a:ext cx="264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85520" y="4918320"/>
                <a:ext cx="2106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054160" y="4918320"/>
                <a:ext cx="1846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34000" y="4918320"/>
                <a:ext cx="1846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397240" y="4918320"/>
                <a:ext cx="264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527120" y="4838760"/>
                <a:ext cx="158040" cy="158760"/>
              </a:xfrm>
              <a:prstGeom prst="rect">
                <a:avLst/>
              </a:prstGeom>
              <a:solidFill>
                <a:srgbClr val="777777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babilisitic Model: HM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ized layout of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ined to randomly generate amino-acid cha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ins likely to belong in a desired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with a circle emit no ob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38080" y="4952880"/>
            <a:ext cx="457200" cy="457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305920" y="4952880"/>
            <a:ext cx="457200" cy="457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990720" y="4249440"/>
            <a:ext cx="7923600" cy="2608200"/>
            <a:chOff x="990720" y="4249440"/>
            <a:chExt cx="7923600" cy="2608200"/>
          </a:xfrm>
        </p:grpSpPr>
        <p:sp>
          <p:nvSpPr>
            <p:cNvPr id="1436" name=""/>
            <p:cNvSpPr/>
            <p:nvPr/>
          </p:nvSpPr>
          <p:spPr>
            <a:xfrm>
              <a:off x="4952880" y="6283080"/>
              <a:ext cx="609840" cy="57456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Ju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2591280" y="4267080"/>
              <a:ext cx="594288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>
              <a:off x="990360" y="4249080"/>
              <a:ext cx="7923600" cy="23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39" name=""/>
            <p:cNvCxnSpPr>
              <a:stCxn id="1436" idx="1"/>
              <a:endCxn id="1436" idx="0"/>
            </p:cNvCxnSpPr>
            <p:nvPr/>
          </p:nvCxnSpPr>
          <p:spPr>
            <a:xfrm flipH="1" rot="10800000">
              <a:off x="4951800" y="6282360"/>
              <a:ext cx="305640" cy="288000"/>
            </a:xfrm>
            <a:prstGeom prst="curvedConnector5">
              <a:avLst>
                <a:gd name="adj1" fmla="val -21344"/>
                <a:gd name="adj2" fmla="val 52690"/>
                <a:gd name="adj3" fmla="val -2134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</p:grpSp>
      <p:grpSp>
        <p:nvGrpSpPr>
          <p:cNvPr id="1440" name=""/>
          <p:cNvGrpSpPr/>
          <p:nvPr/>
        </p:nvGrpSpPr>
        <p:grpSpPr>
          <a:xfrm>
            <a:off x="2057400" y="3733560"/>
            <a:ext cx="5333760" cy="1218960"/>
            <a:chOff x="2057400" y="3733560"/>
            <a:chExt cx="5333760" cy="1218960"/>
          </a:xfrm>
        </p:grpSpPr>
        <p:sp>
          <p:nvSpPr>
            <p:cNvPr id="1441" name=""/>
            <p:cNvSpPr/>
            <p:nvPr/>
          </p:nvSpPr>
          <p:spPr>
            <a:xfrm>
              <a:off x="2286000" y="3962520"/>
              <a:ext cx="60948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276360" y="3962520"/>
              <a:ext cx="60984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267080" y="3962520"/>
              <a:ext cx="60948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562360" y="3962520"/>
              <a:ext cx="60984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53080" y="3962520"/>
              <a:ext cx="609480" cy="609120"/>
            </a:xfrm>
            <a:prstGeom prst="diamond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nse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05740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3047760" y="4495320"/>
              <a:ext cx="38124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403848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632448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66688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65760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4360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1028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5410080" y="449532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724280" y="4495680"/>
              <a:ext cx="380880" cy="45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56" name=""/>
            <p:cNvCxnSpPr>
              <a:stCxn id="1442" idx="3"/>
              <a:endCxn id="1442" idx="0"/>
            </p:cNvCxnSpPr>
            <p:nvPr/>
          </p:nvCxnSpPr>
          <p:spPr>
            <a:xfrm flipH="1" flipV="1">
              <a:off x="3580560" y="3962160"/>
              <a:ext cx="305640" cy="305280"/>
            </a:xfrm>
            <a:prstGeom prst="curvedConnector5">
              <a:avLst>
                <a:gd name="adj1" fmla="val -75000"/>
                <a:gd name="adj2" fmla="val 87485"/>
                <a:gd name="adj3" fmla="val -750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1457" name=""/>
            <p:cNvCxnSpPr/>
            <p:nvPr/>
          </p:nvCxnSpPr>
          <p:spPr>
            <a:xfrm flipH="1" flipV="1">
              <a:off x="4571640" y="3962160"/>
              <a:ext cx="305280" cy="305280"/>
            </a:xfrm>
            <a:prstGeom prst="curvedConnector5">
              <a:avLst>
                <a:gd name="adj1" fmla="val -74970"/>
                <a:gd name="adj2" fmla="val 87485"/>
                <a:gd name="adj3" fmla="val -7497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1458" name=""/>
            <p:cNvCxnSpPr/>
            <p:nvPr/>
          </p:nvCxnSpPr>
          <p:spPr>
            <a:xfrm flipH="1" flipV="1">
              <a:off x="5866560" y="3962160"/>
              <a:ext cx="305640" cy="305280"/>
            </a:xfrm>
            <a:prstGeom prst="curvedConnector5">
              <a:avLst>
                <a:gd name="adj1" fmla="val -75000"/>
                <a:gd name="adj2" fmla="val 87485"/>
                <a:gd name="adj3" fmla="val -750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1459" name=""/>
            <p:cNvCxnSpPr/>
            <p:nvPr/>
          </p:nvCxnSpPr>
          <p:spPr>
            <a:xfrm flipH="1" flipV="1">
              <a:off x="6857640" y="3962160"/>
              <a:ext cx="305280" cy="305280"/>
            </a:xfrm>
            <a:prstGeom prst="curvedConnector5">
              <a:avLst>
                <a:gd name="adj1" fmla="val -74970"/>
                <a:gd name="adj2" fmla="val 87485"/>
                <a:gd name="adj3" fmla="val -7497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1460" name=""/>
            <p:cNvCxnSpPr/>
            <p:nvPr/>
          </p:nvCxnSpPr>
          <p:spPr>
            <a:xfrm flipH="1" flipV="1">
              <a:off x="2589840" y="3962160"/>
              <a:ext cx="305640" cy="305280"/>
            </a:xfrm>
            <a:prstGeom prst="curvedConnector5">
              <a:avLst>
                <a:gd name="adj1" fmla="val -75000"/>
                <a:gd name="adj2" fmla="val 87485"/>
                <a:gd name="adj3" fmla="val -750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461" name=""/>
            <p:cNvSpPr/>
            <p:nvPr/>
          </p:nvSpPr>
          <p:spPr>
            <a:xfrm>
              <a:off x="5181480" y="4267080"/>
              <a:ext cx="22860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1295280" y="4952880"/>
            <a:ext cx="7010280" cy="457200"/>
            <a:chOff x="1295280" y="4952880"/>
            <a:chExt cx="7010280" cy="457200"/>
          </a:xfrm>
        </p:grpSpPr>
        <p:sp>
          <p:nvSpPr>
            <p:cNvPr id="1463" name=""/>
            <p:cNvSpPr/>
            <p:nvPr/>
          </p:nvSpPr>
          <p:spPr>
            <a:xfrm>
              <a:off x="182880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1916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80988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9588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086600" y="4952880"/>
              <a:ext cx="457200" cy="457200"/>
            </a:xfrm>
            <a:prstGeom prst="rect">
              <a:avLst/>
            </a:prstGeom>
            <a:solidFill>
              <a:srgbClr val="777777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286000" y="5181480"/>
              <a:ext cx="5331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27636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26708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56236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55308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295280" y="5181480"/>
              <a:ext cx="533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543800" y="5181480"/>
              <a:ext cx="7617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105160" y="5181480"/>
              <a:ext cx="22860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2133720" y="5410080"/>
            <a:ext cx="5181120" cy="914400"/>
            <a:chOff x="2133720" y="5410080"/>
            <a:chExt cx="5181120" cy="914400"/>
          </a:xfrm>
        </p:grpSpPr>
        <p:sp>
          <p:nvSpPr>
            <p:cNvPr id="1477" name=""/>
            <p:cNvSpPr/>
            <p:nvPr/>
          </p:nvSpPr>
          <p:spPr>
            <a:xfrm>
              <a:off x="342900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41936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63868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629400" y="5867280"/>
              <a:ext cx="456840" cy="457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3733560" y="5410080"/>
              <a:ext cx="38088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5943600" y="5410080"/>
              <a:ext cx="38052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6933960" y="5410080"/>
              <a:ext cx="38088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86200" y="6095880"/>
              <a:ext cx="5328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095880" y="6095880"/>
              <a:ext cx="5331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33720" y="5410080"/>
              <a:ext cx="1371240" cy="533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124080" y="5410080"/>
              <a:ext cx="1371240" cy="533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114800" y="5410080"/>
              <a:ext cx="99000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4800600" y="5410080"/>
              <a:ext cx="38052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715000" y="5486040"/>
              <a:ext cx="99000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333760" y="6095880"/>
              <a:ext cx="22824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76560" y="609588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3" name=""/>
          <p:cNvSpPr/>
          <p:nvPr/>
        </p:nvSpPr>
        <p:spPr>
          <a:xfrm>
            <a:off x="990720" y="5410080"/>
            <a:ext cx="2819160" cy="152640"/>
          </a:xfrm>
          <a:custGeom>
            <a:avLst/>
            <a:gdLst/>
            <a:ahLst/>
            <a:rect l="l" t="t" r="r" b="b"/>
            <a:pathLst>
              <a:path w="1872" h="192">
                <a:moveTo>
                  <a:pt x="0" y="0"/>
                </a:moveTo>
                <a:cubicBezTo>
                  <a:pt x="420" y="96"/>
                  <a:pt x="840" y="192"/>
                  <a:pt x="1152" y="192"/>
                </a:cubicBezTo>
                <a:cubicBezTo>
                  <a:pt x="1464" y="192"/>
                  <a:pt x="1752" y="32"/>
                  <a:pt x="1872" y="0"/>
                </a:cubicBezTo>
              </a:path>
            </a:pathLst>
          </a:custGeom>
          <a:noFill/>
          <a:ln cap="sq" w="12600">
            <a:solidFill>
              <a:srgbClr val="ff15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066680" y="5410080"/>
            <a:ext cx="6324840" cy="457200"/>
          </a:xfrm>
          <a:custGeom>
            <a:avLst/>
            <a:gdLst/>
            <a:ahLst/>
            <a:rect l="l" t="t" r="r" b="b"/>
            <a:pathLst>
              <a:path w="3984" h="336">
                <a:moveTo>
                  <a:pt x="0" y="0"/>
                </a:moveTo>
                <a:cubicBezTo>
                  <a:pt x="1060" y="168"/>
                  <a:pt x="2120" y="336"/>
                  <a:pt x="2784" y="336"/>
                </a:cubicBezTo>
                <a:cubicBezTo>
                  <a:pt x="3448" y="336"/>
                  <a:pt x="3716" y="168"/>
                  <a:pt x="3984" y="0"/>
                </a:cubicBezTo>
              </a:path>
            </a:pathLst>
          </a:custGeom>
          <a:noFill/>
          <a:ln cap="sq" w="12600">
            <a:solidFill>
              <a:srgbClr val="ff15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066680" y="5410080"/>
            <a:ext cx="5410440" cy="381240"/>
          </a:xfrm>
          <a:custGeom>
            <a:avLst/>
            <a:gdLst/>
            <a:ahLst/>
            <a:rect l="l" t="t" r="r" b="b"/>
            <a:pathLst>
              <a:path w="3408" h="240">
                <a:moveTo>
                  <a:pt x="0" y="0"/>
                </a:moveTo>
                <a:cubicBezTo>
                  <a:pt x="1084" y="120"/>
                  <a:pt x="2168" y="240"/>
                  <a:pt x="2736" y="240"/>
                </a:cubicBezTo>
                <a:cubicBezTo>
                  <a:pt x="3304" y="240"/>
                  <a:pt x="3356" y="120"/>
                  <a:pt x="3408" y="0"/>
                </a:cubicBezTo>
              </a:path>
            </a:pathLst>
          </a:custGeom>
          <a:noFill/>
          <a:ln cap="sq" w="12600">
            <a:solidFill>
              <a:srgbClr val="ff15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066680" y="5410080"/>
            <a:ext cx="1981440" cy="76320"/>
          </a:xfrm>
          <a:custGeom>
            <a:avLst/>
            <a:gdLst/>
            <a:ahLst/>
            <a:rect l="l" t="t" r="r" b="b"/>
            <a:pathLst>
              <a:path w="1248" h="48">
                <a:moveTo>
                  <a:pt x="0" y="0"/>
                </a:moveTo>
                <a:cubicBezTo>
                  <a:pt x="352" y="24"/>
                  <a:pt x="704" y="48"/>
                  <a:pt x="912" y="48"/>
                </a:cubicBezTo>
                <a:cubicBezTo>
                  <a:pt x="1120" y="48"/>
                  <a:pt x="1192" y="8"/>
                  <a:pt x="1248" y="0"/>
                </a:cubicBezTo>
              </a:path>
            </a:pathLst>
          </a:custGeom>
          <a:noFill/>
          <a:ln cap="sq" w="12600">
            <a:solidFill>
              <a:srgbClr val="ff15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057400" y="4572000"/>
            <a:ext cx="6324480" cy="380880"/>
          </a:xfrm>
          <a:custGeom>
            <a:avLst/>
            <a:gdLst/>
            <a:ahLst/>
            <a:rect l="l" t="t" r="r" b="b"/>
            <a:pathLst>
              <a:path w="3984" h="240">
                <a:moveTo>
                  <a:pt x="0" y="240"/>
                </a:moveTo>
                <a:cubicBezTo>
                  <a:pt x="676" y="120"/>
                  <a:pt x="1352" y="0"/>
                  <a:pt x="2016" y="0"/>
                </a:cubicBezTo>
                <a:cubicBezTo>
                  <a:pt x="2680" y="0"/>
                  <a:pt x="3332" y="120"/>
                  <a:pt x="3984" y="240"/>
                </a:cubicBezTo>
              </a:path>
            </a:pathLst>
          </a:custGeom>
          <a:noFill/>
          <a:ln cap="sq" w="12600">
            <a:solidFill>
              <a:srgbClr val="ff15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48120" y="4648320"/>
            <a:ext cx="5333760" cy="304560"/>
          </a:xfrm>
          <a:custGeom>
            <a:avLst/>
            <a:gdLst/>
            <a:ahLst/>
            <a:rect l="l" t="t" r="r" b="b"/>
            <a:pathLst>
              <a:path w="3360" h="192">
                <a:moveTo>
                  <a:pt x="0" y="192"/>
                </a:moveTo>
                <a:cubicBezTo>
                  <a:pt x="488" y="96"/>
                  <a:pt x="976" y="0"/>
                  <a:pt x="1536" y="0"/>
                </a:cubicBezTo>
                <a:cubicBezTo>
                  <a:pt x="2096" y="0"/>
                  <a:pt x="2728" y="96"/>
                  <a:pt x="3360" y="192"/>
                </a:cubicBezTo>
              </a:path>
            </a:pathLst>
          </a:custGeom>
          <a:noFill/>
          <a:ln cap="sq" w="12600">
            <a:solidFill>
              <a:srgbClr val="ff15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038480" y="4724280"/>
            <a:ext cx="4343400" cy="228600"/>
          </a:xfrm>
          <a:custGeom>
            <a:avLst/>
            <a:gdLst/>
            <a:ahLst/>
            <a:rect l="l" t="t" r="r" b="b"/>
            <a:pathLst>
              <a:path w="2736" h="144">
                <a:moveTo>
                  <a:pt x="0" y="144"/>
                </a:moveTo>
                <a:cubicBezTo>
                  <a:pt x="564" y="72"/>
                  <a:pt x="1128" y="0"/>
                  <a:pt x="1584" y="0"/>
                </a:cubicBezTo>
                <a:cubicBezTo>
                  <a:pt x="2040" y="0"/>
                  <a:pt x="2388" y="72"/>
                  <a:pt x="2736" y="144"/>
                </a:cubicBezTo>
              </a:path>
            </a:pathLst>
          </a:custGeom>
          <a:noFill/>
          <a:ln cap="sq" w="12600">
            <a:solidFill>
              <a:srgbClr val="ff15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324480" y="4800600"/>
            <a:ext cx="2057400" cy="152280"/>
          </a:xfrm>
          <a:custGeom>
            <a:avLst/>
            <a:gdLst/>
            <a:ahLst/>
            <a:rect l="l" t="t" r="r" b="b"/>
            <a:pathLst>
              <a:path w="1296" h="96">
                <a:moveTo>
                  <a:pt x="0" y="96"/>
                </a:moveTo>
                <a:cubicBezTo>
                  <a:pt x="156" y="48"/>
                  <a:pt x="312" y="0"/>
                  <a:pt x="528" y="0"/>
                </a:cubicBezTo>
                <a:cubicBezTo>
                  <a:pt x="744" y="0"/>
                  <a:pt x="1020" y="48"/>
                  <a:pt x="1296" y="96"/>
                </a:cubicBezTo>
              </a:path>
            </a:pathLst>
          </a:custGeom>
          <a:noFill/>
          <a:ln cap="sq" w="12600">
            <a:solidFill>
              <a:srgbClr val="ff15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702160" y="7273800"/>
            <a:ext cx="3587040" cy="739800"/>
            <a:chOff x="2702160" y="7273800"/>
            <a:chExt cx="3587040" cy="739800"/>
          </a:xfrm>
        </p:grpSpPr>
        <p:sp>
          <p:nvSpPr>
            <p:cNvPr id="1502" name=""/>
            <p:cNvSpPr/>
            <p:nvPr/>
          </p:nvSpPr>
          <p:spPr>
            <a:xfrm>
              <a:off x="2819520" y="7391520"/>
              <a:ext cx="1208520" cy="46728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Rain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963680" y="7430040"/>
              <a:ext cx="1208520" cy="46728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unn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04" name=""/>
            <p:cNvCxnSpPr>
              <a:stCxn id="1502" idx="0"/>
              <a:endCxn id="1503" idx="0"/>
            </p:cNvCxnSpPr>
            <p:nvPr/>
          </p:nvCxnSpPr>
          <p:spPr>
            <a:xfrm flipH="1" rot="16200000">
              <a:off x="4476240" y="6337440"/>
              <a:ext cx="39240" cy="2144880"/>
            </a:xfrm>
            <a:prstGeom prst="curvedConnector5">
              <a:avLst>
                <a:gd name="adj1" fmla="val -300000"/>
                <a:gd name="adj2" fmla="val 49991"/>
                <a:gd name="adj3" fmla="val -3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05" name=""/>
            <p:cNvCxnSpPr>
              <a:stCxn id="1503" idx="4"/>
              <a:endCxn id="1502" idx="4"/>
            </p:cNvCxnSpPr>
            <p:nvPr/>
          </p:nvCxnSpPr>
          <p:spPr>
            <a:xfrm flipV="1" rot="16200000">
              <a:off x="4475880" y="6805080"/>
              <a:ext cx="39240" cy="2144880"/>
            </a:xfrm>
            <a:prstGeom prst="curvedConnector5">
              <a:avLst>
                <a:gd name="adj1" fmla="val -300000"/>
                <a:gd name="adj2" fmla="val 49991"/>
                <a:gd name="adj3" fmla="val -300000"/>
              </a:avLst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1506" name=""/>
            <p:cNvCxnSpPr>
              <a:stCxn id="1502" idx="1"/>
              <a:endCxn id="1502" idx="2"/>
            </p:cNvCxnSpPr>
            <p:nvPr/>
          </p:nvCxnSpPr>
          <p:spPr>
            <a:xfrm rot="5400000">
              <a:off x="2824560" y="7453800"/>
              <a:ext cx="166320" cy="177840"/>
            </a:xfrm>
            <a:prstGeom prst="curvedConnector5">
              <a:avLst>
                <a:gd name="adj1" fmla="val -111713"/>
                <a:gd name="adj2" fmla="val 82961"/>
                <a:gd name="adj3" fmla="val -111713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07" name=""/>
            <p:cNvCxnSpPr>
              <a:stCxn id="1503" idx="6"/>
              <a:endCxn id="1503" idx="7"/>
            </p:cNvCxnSpPr>
            <p:nvPr/>
          </p:nvCxnSpPr>
          <p:spPr>
            <a:xfrm flipH="1" flipV="1">
              <a:off x="5994720" y="7497720"/>
              <a:ext cx="177840" cy="165960"/>
            </a:xfrm>
            <a:prstGeom prst="curvedConnector5">
              <a:avLst>
                <a:gd name="adj1" fmla="val -65922"/>
                <a:gd name="adj2" fmla="val 105869"/>
                <a:gd name="adj3" fmla="val -65922"/>
              </a:avLst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</p:cxn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GPU Limitation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granularity parallelism of 10,000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room to store entire state t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of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back of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regi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mechanism of fast read/write sto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its how many state triplets a kernel may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kernel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0" name=""/>
          <p:cNvGrpSpPr/>
          <p:nvPr/>
        </p:nvGrpSpPr>
        <p:grpSpPr>
          <a:xfrm>
            <a:off x="2101680" y="2646360"/>
            <a:ext cx="436680" cy="2743200"/>
            <a:chOff x="2101680" y="2646360"/>
            <a:chExt cx="436680" cy="2743200"/>
          </a:xfrm>
        </p:grpSpPr>
        <p:sp>
          <p:nvSpPr>
            <p:cNvPr id="1511" name=""/>
            <p:cNvSpPr/>
            <p:nvPr/>
          </p:nvSpPr>
          <p:spPr>
            <a:xfrm>
              <a:off x="2103120" y="33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101680" y="4932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101680" y="4170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103120" y="2646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3487680" y="5754600"/>
            <a:ext cx="56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erbi pa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ny, Rainy, Rainy, Sunn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905120" y="1752480"/>
            <a:ext cx="6019200" cy="1008000"/>
            <a:chOff x="1905120" y="1752480"/>
            <a:chExt cx="6019200" cy="1008000"/>
          </a:xfrm>
        </p:grpSpPr>
        <p:sp>
          <p:nvSpPr>
            <p:cNvPr id="1517" name=""/>
            <p:cNvSpPr/>
            <p:nvPr/>
          </p:nvSpPr>
          <p:spPr>
            <a:xfrm>
              <a:off x="2982960" y="1752480"/>
              <a:ext cx="4941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.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5                             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rot="16200000">
              <a:off x="3318120" y="720360"/>
              <a:ext cx="228600" cy="3054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9560 h 3054600"/>
                <a:gd name="textAreaBottom" fmla="*/ 2975040 h 30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rot="16200000">
              <a:off x="6013080" y="1259280"/>
              <a:ext cx="228600" cy="1976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1480 h 1976400"/>
                <a:gd name="textAreaBottom" fmla="*/ 1924920 h 197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erbi Exampl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80880" y="4343400"/>
            <a:ext cx="175284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137960" y="358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40600" y="52275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80880" y="2743200"/>
            <a:ext cx="1752840" cy="9144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1875960" y="2670120"/>
            <a:ext cx="2543400" cy="2698920"/>
            <a:chOff x="1875960" y="2670120"/>
            <a:chExt cx="2543400" cy="2698920"/>
          </a:xfrm>
        </p:grpSpPr>
        <p:sp>
          <p:nvSpPr>
            <p:cNvPr id="1526" name=""/>
            <p:cNvSpPr/>
            <p:nvPr/>
          </p:nvSpPr>
          <p:spPr>
            <a:xfrm>
              <a:off x="2590560" y="2743200"/>
              <a:ext cx="1752840" cy="9144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Rai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666880" y="4419720"/>
              <a:ext cx="1752480" cy="9144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un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28" name=""/>
            <p:cNvCxnSpPr>
              <a:stCxn id="1524" idx="7"/>
              <a:endCxn id="1526" idx="1"/>
            </p:cNvCxnSpPr>
            <p:nvPr/>
          </p:nvCxnSpPr>
          <p:spPr>
            <a:xfrm flipH="1" rot="16200000">
              <a:off x="2360880" y="2390400"/>
              <a:ext cx="2520" cy="97236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29" name=""/>
            <p:cNvCxnSpPr>
              <a:stCxn id="1524" idx="5"/>
              <a:endCxn id="1527" idx="2"/>
            </p:cNvCxnSpPr>
            <p:nvPr/>
          </p:nvCxnSpPr>
          <p:spPr>
            <a:xfrm flipH="1" rot="16200000">
              <a:off x="1595160" y="3804840"/>
              <a:ext cx="1353240" cy="791280"/>
            </a:xfrm>
            <a:prstGeom prst="curved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30" name=""/>
            <p:cNvCxnSpPr>
              <a:stCxn id="1521" idx="7"/>
              <a:endCxn id="1526" idx="2"/>
            </p:cNvCxnSpPr>
            <p:nvPr/>
          </p:nvCxnSpPr>
          <p:spPr>
            <a:xfrm flipH="1" flipV="1" rot="5400000">
              <a:off x="1595160" y="3480840"/>
              <a:ext cx="1276560" cy="714960"/>
            </a:xfrm>
            <a:prstGeom prst="curvedConnector2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1531" name=""/>
            <p:cNvCxnSpPr>
              <a:stCxn id="1521" idx="5"/>
              <a:endCxn id="1527" idx="3"/>
            </p:cNvCxnSpPr>
            <p:nvPr/>
          </p:nvCxnSpPr>
          <p:spPr>
            <a:xfrm flipH="1" rot="16200000">
              <a:off x="2361960" y="4638240"/>
              <a:ext cx="76680" cy="1048320"/>
            </a:xfrm>
            <a:prstGeom prst="curvedConnector5">
              <a:avLst>
                <a:gd name="adj1" fmla="val 320754"/>
                <a:gd name="adj2" fmla="val 49982"/>
                <a:gd name="adj3" fmla="val 320754"/>
              </a:avLst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</p:grpSp>
      <p:grpSp>
        <p:nvGrpSpPr>
          <p:cNvPr id="1532" name=""/>
          <p:cNvGrpSpPr/>
          <p:nvPr/>
        </p:nvGrpSpPr>
        <p:grpSpPr>
          <a:xfrm>
            <a:off x="2103120" y="2646360"/>
            <a:ext cx="435240" cy="2745720"/>
            <a:chOff x="2103120" y="2646360"/>
            <a:chExt cx="435240" cy="2745720"/>
          </a:xfrm>
        </p:grpSpPr>
        <p:sp>
          <p:nvSpPr>
            <p:cNvPr id="1533" name=""/>
            <p:cNvSpPr/>
            <p:nvPr/>
          </p:nvSpPr>
          <p:spPr>
            <a:xfrm>
              <a:off x="2103120" y="33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03120" y="4932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03120" y="417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03120" y="2646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4085280" y="2609640"/>
            <a:ext cx="2543760" cy="2827800"/>
            <a:chOff x="4085280" y="2609640"/>
            <a:chExt cx="2543760" cy="2827800"/>
          </a:xfrm>
        </p:grpSpPr>
        <p:sp>
          <p:nvSpPr>
            <p:cNvPr id="1538" name=""/>
            <p:cNvSpPr/>
            <p:nvPr/>
          </p:nvSpPr>
          <p:spPr>
            <a:xfrm>
              <a:off x="4800600" y="2743200"/>
              <a:ext cx="1752120" cy="9144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Rai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876560" y="4419720"/>
              <a:ext cx="1752480" cy="9144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un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40" name=""/>
            <p:cNvCxnSpPr>
              <a:stCxn id="1526" idx="7"/>
              <a:endCxn id="1538" idx="1"/>
            </p:cNvCxnSpPr>
            <p:nvPr/>
          </p:nvCxnSpPr>
          <p:spPr>
            <a:xfrm flipH="1" rot="16200000">
              <a:off x="4570920" y="2390400"/>
              <a:ext cx="2520" cy="972000"/>
            </a:xfrm>
            <a:prstGeom prst="curvedConnector5">
              <a:avLst>
                <a:gd name="adj1" fmla="val -12300000"/>
                <a:gd name="adj2" fmla="val 49981"/>
                <a:gd name="adj3" fmla="val -1230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41" name=""/>
            <p:cNvCxnSpPr>
              <a:stCxn id="1526" idx="5"/>
              <a:endCxn id="1539" idx="2"/>
            </p:cNvCxnSpPr>
            <p:nvPr/>
          </p:nvCxnSpPr>
          <p:spPr>
            <a:xfrm flipH="1" rot="16200000">
              <a:off x="3804120" y="3805200"/>
              <a:ext cx="1353240" cy="790920"/>
            </a:xfrm>
            <a:prstGeom prst="curved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42" name=""/>
            <p:cNvCxnSpPr>
              <a:stCxn id="1527" idx="7"/>
              <a:endCxn id="1538" idx="2"/>
            </p:cNvCxnSpPr>
            <p:nvPr/>
          </p:nvCxnSpPr>
          <p:spPr>
            <a:xfrm flipH="1" flipV="1" rot="5400000">
              <a:off x="3804840" y="3557160"/>
              <a:ext cx="1353240" cy="638280"/>
            </a:xfrm>
            <a:prstGeom prst="curvedConnector2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1543" name=""/>
            <p:cNvCxnSpPr>
              <a:stCxn id="1527" idx="5"/>
              <a:endCxn id="1539" idx="3"/>
            </p:cNvCxnSpPr>
            <p:nvPr/>
          </p:nvCxnSpPr>
          <p:spPr>
            <a:xfrm flipH="1" rot="16200000">
              <a:off x="4646880" y="4715280"/>
              <a:ext cx="2520" cy="972000"/>
            </a:xfrm>
            <a:prstGeom prst="curvedConnector5">
              <a:avLst>
                <a:gd name="adj1" fmla="val 10983333"/>
                <a:gd name="adj2" fmla="val 49981"/>
                <a:gd name="adj3" fmla="val 10983333"/>
              </a:avLst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</p:grpSp>
      <p:grpSp>
        <p:nvGrpSpPr>
          <p:cNvPr id="1544" name=""/>
          <p:cNvGrpSpPr/>
          <p:nvPr/>
        </p:nvGrpSpPr>
        <p:grpSpPr>
          <a:xfrm>
            <a:off x="3126600" y="3581280"/>
            <a:ext cx="744480" cy="2227680"/>
            <a:chOff x="3126600" y="3581280"/>
            <a:chExt cx="744480" cy="2227680"/>
          </a:xfrm>
        </p:grpSpPr>
        <p:sp>
          <p:nvSpPr>
            <p:cNvPr id="1545" name=""/>
            <p:cNvSpPr/>
            <p:nvPr/>
          </p:nvSpPr>
          <p:spPr>
            <a:xfrm>
              <a:off x="3126600" y="522756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272400" y="35812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7" name=""/>
          <p:cNvSpPr/>
          <p:nvPr/>
        </p:nvSpPr>
        <p:spPr>
          <a:xfrm>
            <a:off x="5183640" y="1828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050240" y="18144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9810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Umbrella | Rai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828800" y="5654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Umbrella | Sunny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x(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3,1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517280" y="170640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(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7,1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4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6296040" y="2684160"/>
            <a:ext cx="2543040" cy="2716560"/>
            <a:chOff x="6296040" y="2684160"/>
            <a:chExt cx="2543040" cy="2716560"/>
          </a:xfrm>
        </p:grpSpPr>
        <p:sp>
          <p:nvSpPr>
            <p:cNvPr id="1554" name=""/>
            <p:cNvSpPr/>
            <p:nvPr/>
          </p:nvSpPr>
          <p:spPr>
            <a:xfrm>
              <a:off x="7010280" y="2743200"/>
              <a:ext cx="1752480" cy="9144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Rai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086600" y="4419720"/>
              <a:ext cx="1752480" cy="9144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unn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56" name=""/>
            <p:cNvCxnSpPr>
              <a:endCxn id="1554" idx="1"/>
            </p:cNvCxnSpPr>
            <p:nvPr/>
          </p:nvCxnSpPr>
          <p:spPr>
            <a:xfrm flipH="1" rot="16200000">
              <a:off x="6780960" y="2389680"/>
              <a:ext cx="2160" cy="972000"/>
            </a:xfrm>
            <a:prstGeom prst="curvedConnector5">
              <a:avLst>
                <a:gd name="adj1" fmla="val -10600000"/>
                <a:gd name="adj2" fmla="val 49981"/>
                <a:gd name="adj3" fmla="val -1060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57" name=""/>
            <p:cNvCxnSpPr>
              <a:endCxn id="1555" idx="2"/>
            </p:cNvCxnSpPr>
            <p:nvPr/>
          </p:nvCxnSpPr>
          <p:spPr>
            <a:xfrm flipH="1" rot="16200000">
              <a:off x="6014880" y="3804840"/>
              <a:ext cx="1353240" cy="791280"/>
            </a:xfrm>
            <a:prstGeom prst="curved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58" name=""/>
            <p:cNvCxnSpPr>
              <a:endCxn id="1554" idx="2"/>
            </p:cNvCxnSpPr>
            <p:nvPr/>
          </p:nvCxnSpPr>
          <p:spPr>
            <a:xfrm flipH="1" flipV="1" rot="5400000">
              <a:off x="6014520" y="3556800"/>
              <a:ext cx="1353240" cy="639000"/>
            </a:xfrm>
            <a:prstGeom prst="curvedConnector2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1559" name=""/>
            <p:cNvCxnSpPr>
              <a:endCxn id="1555" idx="3"/>
            </p:cNvCxnSpPr>
            <p:nvPr/>
          </p:nvCxnSpPr>
          <p:spPr>
            <a:xfrm flipH="1" rot="16200000">
              <a:off x="6856200" y="4713840"/>
              <a:ext cx="2160" cy="972360"/>
            </a:xfrm>
            <a:prstGeom prst="curvedConnector5">
              <a:avLst>
                <a:gd name="adj1" fmla="val 11200000"/>
                <a:gd name="adj2" fmla="val 50000"/>
                <a:gd name="adj3" fmla="val 11200000"/>
              </a:avLst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</p:grpSp>
      <p:grpSp>
        <p:nvGrpSpPr>
          <p:cNvPr id="1560" name=""/>
          <p:cNvGrpSpPr/>
          <p:nvPr/>
        </p:nvGrpSpPr>
        <p:grpSpPr>
          <a:xfrm>
            <a:off x="4389120" y="2646360"/>
            <a:ext cx="435240" cy="2745720"/>
            <a:chOff x="4389120" y="2646360"/>
            <a:chExt cx="435240" cy="2745720"/>
          </a:xfrm>
        </p:grpSpPr>
        <p:sp>
          <p:nvSpPr>
            <p:cNvPr id="1561" name=""/>
            <p:cNvSpPr/>
            <p:nvPr/>
          </p:nvSpPr>
          <p:spPr>
            <a:xfrm>
              <a:off x="4389120" y="33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389120" y="4932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389120" y="417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389120" y="2646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6522840" y="2646360"/>
            <a:ext cx="435240" cy="2745720"/>
            <a:chOff x="6522840" y="2646360"/>
            <a:chExt cx="435240" cy="2745720"/>
          </a:xfrm>
        </p:grpSpPr>
        <p:sp>
          <p:nvSpPr>
            <p:cNvPr id="1566" name=""/>
            <p:cNvSpPr/>
            <p:nvPr/>
          </p:nvSpPr>
          <p:spPr>
            <a:xfrm>
              <a:off x="6522840" y="33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22840" y="4932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522840" y="417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22840" y="2646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5183640" y="3611520"/>
            <a:ext cx="970200" cy="2196000"/>
            <a:chOff x="5183640" y="3611520"/>
            <a:chExt cx="970200" cy="2196000"/>
          </a:xfrm>
        </p:grpSpPr>
        <p:sp>
          <p:nvSpPr>
            <p:cNvPr id="1571" name=""/>
            <p:cNvSpPr/>
            <p:nvPr/>
          </p:nvSpPr>
          <p:spPr>
            <a:xfrm>
              <a:off x="5183640" y="3611520"/>
              <a:ext cx="970200" cy="21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5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18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257800" y="522756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7238880" y="3641760"/>
            <a:ext cx="1752840" cy="2197440"/>
            <a:chOff x="7238880" y="3641760"/>
            <a:chExt cx="1752840" cy="2197440"/>
          </a:xfrm>
        </p:grpSpPr>
        <p:sp>
          <p:nvSpPr>
            <p:cNvPr id="1574" name=""/>
            <p:cNvSpPr/>
            <p:nvPr/>
          </p:nvSpPr>
          <p:spPr>
            <a:xfrm>
              <a:off x="7238880" y="525780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102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238880" y="364176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00399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7010280" y="4267080"/>
            <a:ext cx="19051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800600" y="2514600"/>
            <a:ext cx="1752480" cy="16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590920" y="2514600"/>
            <a:ext cx="1828800" cy="16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04920" y="4267080"/>
            <a:ext cx="1904760" cy="16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252840" y="624852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ff00"/>
                </a:solidFill>
                <a:latin typeface="Arial"/>
              </a:rPr>
              <a:t>.01026&gt;.003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358360" y="624204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ff00"/>
                </a:solidFill>
                <a:latin typeface="Arial"/>
              </a:rPr>
              <a:t>.06*.4 &lt; .2*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1960" y="6248520"/>
            <a:ext cx="27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ff00"/>
                </a:solidFill>
                <a:latin typeface="Arial"/>
              </a:rPr>
              <a:t>1.0*.4 &gt; 0.0*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erbi Traceback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318560" y="6242040"/>
            <a:ext cx="31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ff00"/>
                </a:solidFill>
                <a:latin typeface="Arial"/>
              </a:rPr>
              <a:t>.018·.6 &lt; .056·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6521400" y="2646360"/>
            <a:ext cx="436680" cy="2745720"/>
            <a:chOff x="6521400" y="2646360"/>
            <a:chExt cx="436680" cy="2745720"/>
          </a:xfrm>
        </p:grpSpPr>
        <p:sp>
          <p:nvSpPr>
            <p:cNvPr id="1586" name=""/>
            <p:cNvSpPr/>
            <p:nvPr/>
          </p:nvSpPr>
          <p:spPr>
            <a:xfrm>
              <a:off x="6521400" y="3332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22840" y="4932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522840" y="417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521400" y="2646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4387680" y="2646360"/>
            <a:ext cx="436680" cy="2743200"/>
            <a:chOff x="4387680" y="2646360"/>
            <a:chExt cx="436680" cy="2743200"/>
          </a:xfrm>
        </p:grpSpPr>
        <p:sp>
          <p:nvSpPr>
            <p:cNvPr id="1591" name=""/>
            <p:cNvSpPr/>
            <p:nvPr/>
          </p:nvSpPr>
          <p:spPr>
            <a:xfrm>
              <a:off x="4389120" y="33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87680" y="4932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387680" y="4170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89120" y="2646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1905120" y="5700600"/>
            <a:ext cx="6247800" cy="1373760"/>
            <a:chOff x="1905120" y="5700600"/>
            <a:chExt cx="6247800" cy="1373760"/>
          </a:xfrm>
        </p:grpSpPr>
        <p:sp>
          <p:nvSpPr>
            <p:cNvPr id="1596" name=""/>
            <p:cNvSpPr/>
            <p:nvPr/>
          </p:nvSpPr>
          <p:spPr>
            <a:xfrm>
              <a:off x="3024000" y="5700600"/>
              <a:ext cx="5128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.0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1                               .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16200000">
              <a:off x="3376080" y="4610520"/>
              <a:ext cx="228600" cy="3170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82440 h 3170520"/>
                <a:gd name="textAreaBottom" fmla="*/ 3088080 h 317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6200000">
              <a:off x="6173640" y="5169960"/>
              <a:ext cx="228600" cy="2051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3280 h 2051640"/>
                <a:gd name="textAreaBottom" fmla="*/ 1998360 h 20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2743200" y="1306440"/>
            <a:ext cx="5816880" cy="524880"/>
            <a:chOff x="2743200" y="1306440"/>
            <a:chExt cx="5816880" cy="524880"/>
          </a:xfrm>
        </p:grpSpPr>
        <p:sp>
          <p:nvSpPr>
            <p:cNvPr id="1600" name=""/>
            <p:cNvSpPr/>
            <p:nvPr/>
          </p:nvSpPr>
          <p:spPr>
            <a:xfrm>
              <a:off x="5106960" y="13716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972840" y="135720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oth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743200" y="13064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mbrel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380880" y="990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nday            Monday           Tuesday          Wednes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0" y="1523880"/>
            <a:ext cx="1752480" cy="914400"/>
          </a:xfrm>
          <a:prstGeom prst="ellipse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ew architectur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222063" t="476299" r="201905" b="291060"/>
          <a:stretch/>
        </p:blipFill>
        <p:spPr>
          <a:xfrm flipH="1" rot="10800000">
            <a:off x="54000" y="2590920"/>
            <a:ext cx="4060800" cy="3200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0" t="325575" r="338602" b="0"/>
          <a:stretch/>
        </p:blipFill>
        <p:spPr>
          <a:xfrm>
            <a:off x="4267080" y="2590920"/>
            <a:ext cx="4876920" cy="3184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295280" y="1981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M Cell                                   Graphics 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ew architectur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tional C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4 3.0 GHz = 12 GFl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5 2.5 GHz = 10 GFl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architectures offer more compute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I X1800XT = 120 GFl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VIDIA G70 = 176 GFl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ll = 250 GFl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new architectures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ragment Processor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124080"/>
            <a:ext cx="2209680" cy="167652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990720"/>
            <a:ext cx="2514600" cy="13716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ure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56-512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4952880"/>
            <a:ext cx="1828800" cy="609840"/>
          </a:xfrm>
          <a:prstGeom prst="downArrow">
            <a:avLst>
              <a:gd name="adj1" fmla="val 50000"/>
              <a:gd name="adj2" fmla="val 38801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905120"/>
            <a:ext cx="3200400" cy="457200"/>
          </a:xfrm>
          <a:prstGeom prst="rect">
            <a:avLst/>
          </a:prstGeom>
          <a:solidFill>
            <a:srgbClr val="002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128+ Constant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05120"/>
            <a:ext cx="3200400" cy="457200"/>
          </a:xfrm>
          <a:prstGeom prst="rect">
            <a:avLst/>
          </a:prstGeom>
          <a:solidFill>
            <a:srgbClr val="002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8 Interpolated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523880" y="2438280"/>
            <a:ext cx="1828800" cy="1524240"/>
          </a:xfrm>
          <a:custGeom>
            <a:avLst/>
            <a:gdLst>
              <a:gd name="textAreaLeft" fmla="*/ 0 w 1828800"/>
              <a:gd name="textAreaRight" fmla="*/ 1829160 w 1828800"/>
              <a:gd name="textAreaTop" fmla="*/ 360 h 1524240"/>
              <a:gd name="textAreaBottom" fmla="*/ 1524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715000" y="2438280"/>
            <a:ext cx="1828800" cy="1524240"/>
          </a:xfrm>
          <a:custGeom>
            <a:avLst/>
            <a:gdLst>
              <a:gd name="textAreaLeft" fmla="*/ 360 w 1828800"/>
              <a:gd name="textAreaRight" fmla="*/ 1829520 w 1828800"/>
              <a:gd name="textAreaTop" fmla="*/ 360 h 1524240"/>
              <a:gd name="textAreaBottom" fmla="*/ 1524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2438280"/>
            <a:ext cx="1676520" cy="609840"/>
          </a:xfrm>
          <a:prstGeom prst="downArrow">
            <a:avLst>
              <a:gd name="adj1" fmla="val 46019"/>
              <a:gd name="adj2" fmla="val 42185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638680"/>
            <a:ext cx="624852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 floats written sequential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texture memory eventu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5000" y="4038480"/>
            <a:ext cx="1600200" cy="762120"/>
          </a:xfrm>
          <a:prstGeom prst="leftRightArrow">
            <a:avLst>
              <a:gd name="adj1" fmla="val 50000"/>
              <a:gd name="adj2" fmla="val 41799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3733920"/>
            <a:ext cx="1676160" cy="167616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/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ragment Processor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16-24 Fragment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10,000 threads executing in parall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s memory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ared Program Counter (PC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er hardware has more (1 per 4 process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962520"/>
            <a:ext cx="2590920" cy="838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ure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56-512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320" y="4343400"/>
            <a:ext cx="3200400" cy="457200"/>
          </a:xfrm>
          <a:prstGeom prst="rect">
            <a:avLst/>
          </a:prstGeom>
          <a:solidFill>
            <a:srgbClr val="002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128+ Constant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4343400"/>
            <a:ext cx="2286000" cy="457200"/>
          </a:xfrm>
          <a:prstGeom prst="rect">
            <a:avLst/>
          </a:prstGeom>
          <a:solidFill>
            <a:srgbClr val="002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Interpo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6172200"/>
            <a:ext cx="65530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written sequentially  to texture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4952880"/>
            <a:ext cx="684360" cy="51912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1400" y="5562720"/>
            <a:ext cx="568080" cy="442800"/>
          </a:xfrm>
          <a:prstGeom prst="downArrow">
            <a:avLst>
              <a:gd name="adj1" fmla="val 50000"/>
              <a:gd name="adj2" fmla="val 38801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091120"/>
            <a:ext cx="228600" cy="2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4952880"/>
            <a:ext cx="519120" cy="51912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/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967280"/>
            <a:ext cx="684360" cy="51912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63880" y="5576760"/>
            <a:ext cx="568440" cy="443160"/>
          </a:xfrm>
          <a:prstGeom prst="downArrow">
            <a:avLst>
              <a:gd name="adj1" fmla="val 50000"/>
              <a:gd name="adj2" fmla="val 38801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5105520"/>
            <a:ext cx="228600" cy="24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4967280"/>
            <a:ext cx="519120" cy="51912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/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8680" y="4967280"/>
            <a:ext cx="684360" cy="51912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7080" y="5576760"/>
            <a:ext cx="568080" cy="443160"/>
          </a:xfrm>
          <a:prstGeom prst="downArrow">
            <a:avLst>
              <a:gd name="adj1" fmla="val 50000"/>
              <a:gd name="adj2" fmla="val 38801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00800" y="5105520"/>
            <a:ext cx="228600" cy="24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05360" y="4967280"/>
            <a:ext cx="519120" cy="51912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/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4967280"/>
            <a:ext cx="684360" cy="51912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55000" y="5576760"/>
            <a:ext cx="568080" cy="443160"/>
          </a:xfrm>
          <a:prstGeom prst="downArrow">
            <a:avLst>
              <a:gd name="adj1" fmla="val 50000"/>
              <a:gd name="adj2" fmla="val 38801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5105520"/>
            <a:ext cx="228600" cy="24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4967280"/>
            <a:ext cx="519120" cy="519120"/>
          </a:xfrm>
          <a:prstGeom prst="rect">
            <a:avLst/>
          </a:prstGeom>
          <a:solidFill>
            <a:srgbClr val="3e3e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/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23120" y="495288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343400"/>
            <a:ext cx="609480" cy="457200"/>
          </a:xfrm>
          <a:prstGeom prst="rect">
            <a:avLst/>
          </a:prstGeom>
          <a:solidFill>
            <a:srgbClr val="002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ok For GPU’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ion for streaming architectures [Buck ‘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courages data-parallel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rays of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all function that can run on a fragment process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cess to global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d number of stream inputs, outputs, lookup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ping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s kernel on each element of input data 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s to output 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7:38:32Z</dcterms:created>
  <dc:creator>daniel</dc:creator>
  <dc:description/>
  <dc:language>en-US</dc:language>
  <cp:lastModifiedBy>daniel</cp:lastModifiedBy>
  <cp:lastPrinted>2005-11-12T03:48:07Z</cp:lastPrinted>
  <dcterms:modified xsi:type="dcterms:W3CDTF">2005-11-14T10:20:09Z</dcterms:modified>
  <cp:revision>202</cp:revision>
  <dc:subject/>
  <dc:title>PowerPoint Presentation</dc:title>
</cp:coreProperties>
</file>