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C882-B0BC-4A77-9287-6715A796C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19B1-9236-4887-9A6C-DE230DA37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114B-AC37-4FDF-886A-4ED53CE90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5AE1-D92D-4B1D-82AA-BA1B2EF96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6603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64E8-E223-4309-8EB8-736167578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BE37-DA01-45A4-8FD9-8A09FA0E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AC07-AB03-423A-8D0D-7475B498E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0FEB-597F-48A5-845C-F4080F33C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6603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FF9D-20B6-48CC-9591-939EBD62C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B46F-A49E-4C40-94D8-55CC625BE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4ACE-231C-4789-B511-CC7275A83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8A71-1BDA-41A2-8A2D-A024F5E1D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65160"/>
            <a:ext cx="9144000" cy="5892840"/>
          </a:xfrm>
          <a:prstGeom prst="rect">
            <a:avLst/>
          </a:prstGeom>
          <a:solidFill>
            <a:srgbClr val="165a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8e2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8e2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8e2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61976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8e2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5F02-DD40-44C5-A075-A2D54D088AD5}" type="slidenum">
              <a:rPr b="1" lang="en-US" sz="1400" spc="-1" strike="noStrike">
                <a:solidFill>
                  <a:srgbClr val="e8e2d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112160" cy="914400"/>
          </a:xfrm>
          <a:prstGeom prst="rect">
            <a:avLst/>
          </a:prstGeom>
          <a:solidFill>
            <a:srgbClr val="3d7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895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172280" y="0"/>
            <a:ext cx="19717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4991040" y="-720"/>
            <a:ext cx="4152960" cy="2019240"/>
          </a:xfrm>
          <a:prstGeom prst="rect">
            <a:avLst/>
          </a:prstGeom>
          <a:solidFill>
            <a:srgbClr val="3d7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089080"/>
            <a:ext cx="8001000" cy="4768920"/>
          </a:xfrm>
          <a:prstGeom prst="rect">
            <a:avLst/>
          </a:prstGeom>
          <a:solidFill>
            <a:srgbClr val="165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01400" y="2209320"/>
            <a:ext cx="7442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e8d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8e8d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1054080" cy="6324480"/>
          </a:xfrm>
          <a:prstGeom prst="rect">
            <a:avLst/>
          </a:prstGeom>
          <a:solidFill>
            <a:srgbClr val="819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896000" cy="444600"/>
          </a:xfrm>
          <a:prstGeom prst="rect">
            <a:avLst/>
          </a:prstGeom>
          <a:solidFill>
            <a:srgbClr val="4964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4440" y="525600"/>
            <a:ext cx="3756240" cy="1487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adee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e8e2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8e2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8e2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rm.org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8040" y="2209320"/>
            <a:ext cx="7505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e8d6"/>
                </a:solidFill>
                <a:latin typeface="Arial,Bold"/>
              </a:rPr>
              <a:t>Sort-First, Distributed Memory Parallel Visualization and Rendering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c8e8d6"/>
                </a:solidFill>
                <a:latin typeface="Arial,Bold"/>
              </a:rPr>
              <a:t>Wes Bethel, R3vis Corporation and Lawrence Berkeley National Laboratory</a:t>
            </a:r>
            <a:endParaRPr b="0" lang="en-US" sz="3200" spc="-1" strike="noStrike">
              <a:solidFill>
                <a:srgbClr val="c8e8d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88800" y="47624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adee9"/>
                </a:solidFill>
                <a:latin typeface="Arial"/>
              </a:rPr>
              <a:t>Parallel Visualization and Graphics Workshop</a:t>
            </a: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adee9"/>
                </a:solidFill>
                <a:latin typeface="Arial"/>
              </a:rPr>
              <a:t>Sunday October 18, 2003,</a:t>
            </a: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adee9"/>
                </a:solidFill>
                <a:latin typeface="Arial"/>
              </a:rPr>
              <a:t>Seattle, Washington</a:t>
            </a: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ade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Desired Result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how image of four textured quads when the problem is fixed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pic>
        <p:nvPicPr>
          <p:cNvPr id="115" name="f4-OK-1" descr=""/>
          <p:cNvPicPr/>
          <p:nvPr/>
        </p:nvPicPr>
        <p:blipFill>
          <a:blip r:embed="rId1"/>
          <a:stretch/>
        </p:blipFill>
        <p:spPr>
          <a:xfrm>
            <a:off x="317520" y="1270080"/>
            <a:ext cx="7950240" cy="54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E659-A01D-4C71-8EB8-52C336D64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Resolving the Collision Problem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New CR configuration file options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shared_textures, shared_display_lists, shared_programs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When set to 1, beware of collisions in parallel submission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When set to 0, collisions resolved in parallel submission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Using shared_* to zero will enforce “unique retained mode identifiers” across all parallel submitters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Thanks, Brian!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6C39-5B29-462A-87AE-1A9865F36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The Broadcast Problem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What’s the Problem?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Geometry and textures from N application PEs is replicated across M crservers. Bumped into limits of memory and bandwidth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o Chromium, a display list is an opaque blob of stuff. Tilesort doesn’t peek inside a display list to see where it should be sent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Early performance testing showed two types of broadcasting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Display lists being broadcast from one tilesort to all server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extures associated with textured geometry in display lists was being broadcast from one tilesort to all server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2E34-6465-456D-8487-3321D6ED63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Broadcast Workarounds (Short Term)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Help Chromium decide how to route textures with the GL_OBJECT_BBOX_CR extension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Don’t use display lists (for now)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Immediate mode geometry isn’t broadcast. Sorting/routing is accelerated using GL_OBJECT_BBOX_CR to provide hints to tilesort; it doesn’t have to look at all vertices in a geometry blob to perform routing decision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For scientific visualization, which generates lots of geometry, this is clearly a problem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Our volume rendering application uses 3D textures (N**3 data) and textured geometry (N**2 data), so the “heavy payload” data isn’t broadcast. The cost is immediate mode transmission of geometry (approximately 36KB/frame of geometry as compared to 160MB/frame of texture data)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5DD4-EE6B-416B-B3F6-E07E1DC18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Broadcast Workarounds (Long Term)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Funding for Chromium developers to implement display list caching and routing, similar to existing capabilities to manage texture objects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Lurking problems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Aging” of display lists: the crserver is like a “roach motel”: display lists check in, but they never check out. 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Adding retained mode object aging and management to applications is an unreasonable burden (IMO)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re exists no commonly accepted mechanism for LRU aging, etc. in the graphics API. Such an aging mechanism will probably show up as an extension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Better as an extension with tunable parameters than requiring applications to “reach deeply” into graphics API implementation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DE01-21D5-40D5-9437-32D50BF5C5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Scene Graph Issues and Performance Analysis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Discussed in our 2003 PVG Paper (Monday afternoon)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Our “parallel scene graph” implementation can be used by any parallel application, regardless of the type of parallel programming model used by the application developer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 “big issue” in sort-first is how much data is duplicated. What we’ve seen so far is about 1.8x duplication was required for the first frame (in a hardware accelerated volume rendering application)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While the scene graph supports any type of parallel operation, certain types of synchronization are required to ensure correct rendering. These can be achieved using only Chromium barriers – no “parallel objects” in the scene graph are required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F4A5-6990-4ABF-B7F1-2509CE2B3A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Some Performance Graphs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Bandwidth vs. Traffic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2425680"/>
          <a:ext cx="5030640" cy="29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5680"/>
                    <a:ext cx="503064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637160" y="3954600"/>
          <a:ext cx="4267080" cy="270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7160" y="3954600"/>
                    <a:ext cx="42670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710240" y="1068480"/>
          <a:ext cx="4089240" cy="2813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0240" y="1068480"/>
                    <a:ext cx="408924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B0B7-694B-458F-8205-8A5A21F97C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Parallel Scene Graph API Stuff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Collectives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rmPipeSetCommSize(), rmPipeGetCommSize()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rmPipeSetMyRank(), rmPipeGetMyRank()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Chromium-specific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rmPipeBArrierCreateCR() 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8e2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Creates a Chromium barrier, number of participants is set by value specified using rmPipeSetCommSize()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rmPipeBarrierExecCR()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8e2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Doesn’t block application code execution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8e2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Used to synchronize rendering execution from rmPipeGetCommSize() streams of graphics command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6A7D-6552-44CF-9AED-7DDE0A4929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Demo Applications: Parallel Isosurface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pic>
        <p:nvPicPr>
          <p:cNvPr id="138" name="isosurfaceMP" descr=""/>
          <p:cNvPicPr/>
          <p:nvPr/>
        </p:nvPicPr>
        <p:blipFill>
          <a:blip r:embed="rId1"/>
          <a:stretch/>
        </p:blipFill>
        <p:spPr>
          <a:xfrm>
            <a:off x="711360" y="109224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16F6-B0E1-4876-8F66-D94E367B78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Demo Application: Parallel Volume Rendering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pic>
        <p:nvPicPr>
          <p:cNvPr id="141" name="vrendBlocksMPI-LOD" descr=""/>
          <p:cNvPicPr/>
          <p:nvPr/>
        </p:nvPicPr>
        <p:blipFill>
          <a:blip r:embed="rId1"/>
          <a:stretch/>
        </p:blipFill>
        <p:spPr>
          <a:xfrm>
            <a:off x="765000" y="1050840"/>
            <a:ext cx="7540920" cy="565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A1F3-71A7-4A36-9908-7B3E08E0F3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The Actual Presentation Title: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Why Distributed Memory Parallel Rendering is a Challenge: Combining OpenRM Scene Graph and Chromium for General Purpose Use on Distributed Memory Clusters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Outline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Problem Statement, Desired Outcomes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Sort-First Parallel Architectural Overview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 Many Ways I Broke Chromium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Scene Graph Considerations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Demo?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1094-657C-4960-8C25-50730B338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Demo Application: Parallel Volume Rendering with LOD Volumes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pic>
        <p:nvPicPr>
          <p:cNvPr id="144" name="vrendBlocksMPI-LOD-fake" descr=""/>
          <p:cNvPicPr/>
          <p:nvPr/>
        </p:nvPicPr>
        <p:blipFill>
          <a:blip r:embed="rId1"/>
          <a:stretch/>
        </p:blipFill>
        <p:spPr>
          <a:xfrm>
            <a:off x="833400" y="1082520"/>
            <a:ext cx="7497720" cy="562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A450-D5CE-47FE-82B6-48DC6A38F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We met our objectives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General purpose infrastructure for doing parallel visualization and hardware accelerated rendering on PC cluster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 infrastructure can be used by any parallel application, regardless of the parallel programming model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The architecture scaled well from one to 24 displays, supporting extremely high-resolution output (e.g, 7860x4096)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We bumped into network bandwidth limits (not a big surprise)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Display lists are still broadcast in Chromium. Please fund them to add this much-needed capability, which is fundamental for efficient sort-first operation of clusters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599B-9B40-4EE1-89FA-45AD465901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Sources of Software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OpenRM Scene Graph: </a:t>
            </a:r>
            <a:r>
              <a:rPr b="0" lang="en-US" sz="2400" spc="-1" strike="noStrike">
                <a:solidFill>
                  <a:srgbClr val="f83e2a"/>
                </a:solidFill>
                <a:latin typeface="Arial"/>
              </a:rPr>
              <a:t>www.openrm.org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ource code for OpenRM+Chromium application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enrm.org</a:t>
            </a: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Chromium: </a:t>
            </a:r>
            <a:r>
              <a:rPr b="0" lang="en-US" sz="2400" spc="-1" strike="noStrike">
                <a:solidFill>
                  <a:srgbClr val="f83e2a"/>
                </a:solidFill>
                <a:latin typeface="Arial"/>
              </a:rPr>
              <a:t>chromium.sourceforge.net</a:t>
            </a: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14C6-3D0C-42A5-AF83-C363826305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Acknowledgement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e2d8"/>
                </a:solidFill>
                <a:latin typeface="Arial"/>
                <a:ea typeface="Times New Roman"/>
              </a:rPr>
              <a:t>This work was supported by the U. S. Department of Energy, Office of Science, Office of Advanced Scientific Computing Research under SBIR grant DE-FE03-02ER83443.</a:t>
            </a: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e2d8"/>
                </a:solidFill>
                <a:latin typeface="Arial"/>
                <a:ea typeface="Times New Roman"/>
              </a:rPr>
              <a:t>The authors wish to thank Randall Frank of the ASCI/VIEWS program at Lawrence Livermore National Laboratory and the Scientific Computing and Imaging Institute at the University of Utah for use of computing facilities during the course of this research</a:t>
            </a: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e2d8"/>
                </a:solidFill>
                <a:latin typeface="Arial"/>
                <a:ea typeface="Times New Roman"/>
              </a:rPr>
              <a:t>The Argon shock bubble dataset was provided courtesy of John Bell and Vince Beckner at the Center for Computational Sciences and Engineering, Lawrence Berkeley National Laboratory</a:t>
            </a: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8B8E-45ED-47AC-A97B-91C7DE5AA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Motivation and Problem Statement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The Allure of COTS solutions: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Performance of COTS GPUs exceed that of custom silicon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Attractive price/performance of COTS platforms (e.g., x86 PCs)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Gigabit Ethernet is cheap: $100/NIC, $500 8-port switch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Can build a screamer cluster for about $2K/node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We’re accustomed to “nice, friendly” software infrastructure. E.g., hardware accelerated Xinerama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Enter Chromium – the means to use a bunch of PCs to do parallel rendering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Parallel submission of graphics streams is a “custom solution,” and presents challenges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Want a flexible, resilient API to interface between parallel visualization/rendering applications and Chromium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B96B-569C-4878-B620-D5755EC00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rend6displays-1" descr=""/>
          <p:cNvPicPr/>
          <p:nvPr/>
        </p:nvPicPr>
        <p:blipFill>
          <a:blip r:embed="rId1"/>
          <a:stretch/>
        </p:blipFill>
        <p:spPr>
          <a:xfrm>
            <a:off x="291960" y="1197000"/>
            <a:ext cx="8350560" cy="56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6845-5837-4C11-9C98-B621BA6A63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Our Approach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Distributed memory parallel visualization application design: amortizes expensive data I/O and visualization across many nodes. 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 scene graph layer mediates interaction between the application and the rendering subsystem: portability, “hide” the icky parallel rendering details, provides an infrastructure for accelerating rendering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Chromium provides routing of graphics commands to support hardware accelerated rendering on a variety of platform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Focus on COTS solutions: all hardware and software we used is cheap (PC cluster) or free (software)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Focus on </a:t>
            </a:r>
            <a:r>
              <a:rPr b="0" lang="en-US" sz="2000" spc="-1" strike="noStrike" u="sng">
                <a:solidFill>
                  <a:srgbClr val="e8e2d8"/>
                </a:solidFill>
                <a:uFillTx/>
                <a:latin typeface="Arial"/>
              </a:rPr>
              <a:t>simplicity</a:t>
            </a: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: our sample applications are straightforward in implementation, easily reproducible by others and highly portable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Want an infrastructure that is suitable for use regardless of the type of parallel programming model used by the application: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2d8"/>
                </a:solidFill>
                <a:latin typeface="Arial"/>
              </a:rPr>
              <a:t>No “parallel objects” in the Scene Graph!!!!!</a:t>
            </a:r>
            <a:endParaRPr b="0" lang="en-US" sz="18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8F98-507E-4C5C-A93E-C9B8A80D6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Our Approach, ctd.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70240" y="1131840"/>
            <a:ext cx="4713480" cy="4532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81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sceneGraphDiagramBMP" descr=""/>
          <p:cNvPicPr/>
          <p:nvPr/>
        </p:nvPicPr>
        <p:blipFill>
          <a:blip r:embed="rId2"/>
          <a:stretch/>
        </p:blipFill>
        <p:spPr>
          <a:xfrm>
            <a:off x="241200" y="3921120"/>
            <a:ext cx="4981680" cy="2584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14F4-AB44-46C8-A5EA-24B83A706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The Many Ways I Broke Chromium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Retained mode object “namespace” collisions in parallel submission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Broadcasting: how to burn up bandwidth without even trying!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cene Graph Issues: to be discussed in our PVG paper presentation on Monday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pic>
        <p:nvPicPr>
          <p:cNvPr id="105" name="blackEye" descr=""/>
          <p:cNvPicPr/>
          <p:nvPr/>
        </p:nvPicPr>
        <p:blipFill>
          <a:blip r:embed="rId1"/>
          <a:stretch/>
        </p:blipFill>
        <p:spPr>
          <a:xfrm>
            <a:off x="4508640" y="3683160"/>
            <a:ext cx="421632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876E-78D3-4FE7-8518-FBEFF3C45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The “Collision” Problem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Want to use OpenGL retained-mode semantics and structures to realize performance gains in DM environment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bc7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2d8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e8e2d8"/>
                </a:solidFill>
                <a:latin typeface="Arial"/>
              </a:rPr>
              <a:t>Namespace collision” of retained-mode identifiers during parallel submission of graphics commands.</a:t>
            </a:r>
            <a:endParaRPr b="0" lang="en-US" sz="1800" spc="-1" strike="noStrike">
              <a:solidFill>
                <a:srgbClr val="e8e2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 problem exists for all OpenGL retained mode objects: display lists, texture objects and program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e2d8"/>
                </a:solidFill>
                <a:latin typeface="Arial"/>
              </a:rPr>
              <a:t>The problem extends to all OpenGL retained mode objects: display lists, texture object id’s, programs.</a:t>
            </a:r>
            <a:endParaRPr b="0" lang="en-US" sz="2000" spc="-1" strike="noStrike">
              <a:solidFill>
                <a:srgbClr val="e8e2d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440" y="3162240"/>
            <a:ext cx="3873240" cy="1941480"/>
          </a:xfrm>
          <a:prstGeom prst="rect">
            <a:avLst/>
          </a:prstGeom>
          <a:solidFill>
            <a:srgbClr val="c8e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uint n = glNewLis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 id==%d\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d=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build list, draw with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3960" y="3187800"/>
            <a:ext cx="3873600" cy="1941480"/>
          </a:xfrm>
          <a:prstGeom prst="rect">
            <a:avLst/>
          </a:prstGeom>
          <a:solidFill>
            <a:srgbClr val="bad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Luint n = glNewLis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 id==%d\n”,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d 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build list, draw with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192-05C5-4D8D-B694-3AE30CE15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660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e6d6"/>
                </a:solidFill>
                <a:latin typeface="Arial"/>
              </a:rPr>
              <a:t>Manifestation of Collision Problem</a:t>
            </a:r>
            <a:endParaRPr b="0" lang="en-US" sz="2800" spc="-1" strike="noStrike">
              <a:solidFill>
                <a:srgbClr val="c8e6d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8e6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2d8"/>
                </a:solidFill>
                <a:latin typeface="Arial"/>
              </a:rPr>
              <a:t>Show image of four textured quads when the problem is present.</a:t>
            </a:r>
            <a:endParaRPr b="0" lang="en-US" sz="2400" spc="-1" strike="noStrike">
              <a:solidFill>
                <a:srgbClr val="e8e2d8"/>
              </a:solidFill>
              <a:latin typeface="Arial"/>
            </a:endParaRPr>
          </a:p>
        </p:txBody>
      </p:sp>
      <p:pic>
        <p:nvPicPr>
          <p:cNvPr id="112" name="f4-1" descr=""/>
          <p:cNvPicPr/>
          <p:nvPr/>
        </p:nvPicPr>
        <p:blipFill>
          <a:blip r:embed="rId1"/>
          <a:stretch/>
        </p:blipFill>
        <p:spPr>
          <a:xfrm>
            <a:off x="317520" y="1130400"/>
            <a:ext cx="7899480" cy="53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7D4F-F95A-42BE-A29B-02F1E7F23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8:41:10Z</dcterms:created>
  <dc:creator>Melissa Kingman</dc:creator>
  <dc:description/>
  <dc:language>en-US</dc:language>
  <cp:lastModifiedBy> </cp:lastModifiedBy>
  <dcterms:modified xsi:type="dcterms:W3CDTF">2003-10-19T18:58:32Z</dcterms:modified>
  <cp:revision>61</cp:revision>
  <dc:subject/>
  <dc:title>PowerPoint Presentation</dc:title>
</cp:coreProperties>
</file>