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3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7.png" ContentType="image/png"/>
  <Override PartName="/ppt/media/image15.wmf" ContentType="image/x-wmf"/>
  <Override PartName="/ppt/media/image2.wmf" ContentType="image/x-wmf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2356-E8CE-47AE-A8E4-9B0BBAFD2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d fig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lk about implementation  Motivation  (not what we can run fast now, but what as fundamental) Ask for trust about with gatherop and scatte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 with this 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tion support for tone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Graph of off chip bandwidth graph ( Give data driven argu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CD3D-B1F4-4D42-AB98-E26BB936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7C89-E2B2-4F84-9B4C-74DDB48E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AE6E-779E-497E-8D4B-CFAF7D81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7696-AFA3-451F-87F9-7471F097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71B5-B67A-47AA-9A4A-36E34A22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AB49-4A73-4269-9D1C-C0F25582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F487-7400-49DF-997D-57F0B1AE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E56F-482F-497F-BC47-2D2BB740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FBFE-399A-45B7-BFE1-A649357D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5A80-E7DB-421A-A0F2-811AC276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2D71-5DBA-45B0-859F-0ABB9385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8D92-8768-429B-BAA0-C781B8B0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E86F-3F03-4397-ABA8-76C0A4D710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9164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Data Parallel Computing o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 Graphics Hardw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4675320"/>
            <a:ext cx="9144000" cy="11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an B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tanford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o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rnel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p a function to a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 update in velocity f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kernel void updatepos (float3 pos&lt;&gt;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loat3 vel[100,100,100]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loat timestep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out float newpos&lt;&gt;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ewpos = pos + vel[pos]*timestep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updatepos (pos, vel, timestep, po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536840"/>
            <a:ext cx="1905120" cy="1586880"/>
            <a:chOff x="5943600" y="1536840"/>
            <a:chExt cx="1905120" cy="1586880"/>
          </a:xfrm>
        </p:grpSpPr>
        <p:sp>
          <p:nvSpPr>
            <p:cNvPr id="96" name=""/>
            <p:cNvSpPr/>
            <p:nvPr/>
          </p:nvSpPr>
          <p:spPr>
            <a:xfrm>
              <a:off x="6525720" y="2541960"/>
              <a:ext cx="174960" cy="174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330280"/>
              <a:ext cx="476280" cy="3999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19880" y="2330280"/>
              <a:ext cx="476280" cy="3999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43600" y="2723760"/>
              <a:ext cx="476280" cy="3999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19880" y="2723760"/>
              <a:ext cx="476280" cy="3999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96160" y="2330280"/>
              <a:ext cx="476280" cy="3999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72440" y="2330280"/>
              <a:ext cx="476280" cy="3999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96160" y="2723760"/>
              <a:ext cx="476280" cy="3999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72440" y="2723760"/>
              <a:ext cx="476280" cy="3999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43600" y="1536840"/>
              <a:ext cx="476280" cy="3999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19880" y="1536840"/>
              <a:ext cx="476280" cy="3999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43600" y="1929960"/>
              <a:ext cx="476280" cy="3999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19880" y="1929960"/>
              <a:ext cx="476280" cy="3999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96160" y="1536840"/>
              <a:ext cx="476280" cy="3999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72440" y="1536840"/>
              <a:ext cx="476280" cy="3999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96160" y="1929960"/>
              <a:ext cx="476280" cy="3999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72440" y="1929960"/>
              <a:ext cx="476280" cy="3999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78280" y="2436120"/>
              <a:ext cx="174960" cy="174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55280" y="1695240"/>
              <a:ext cx="174960" cy="174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54920" y="2012760"/>
              <a:ext cx="174960" cy="174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5A98-ECCB-4C6F-9DD4-8D6CF807896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9th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ndamental O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tive Redu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y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duceFunc (s, resul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 a single value from a 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Compute Max or S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09480" y="3825720"/>
          <a:ext cx="8229600" cy="53352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962520" y="4816440"/>
          <a:ext cx="761760" cy="517680"/>
        </p:xfrm>
        <a:graphic>
          <a:graphicData uri="http://schemas.openxmlformats.org/drawingml/2006/table">
            <a:tbl>
              <a:tblPr/>
              <a:tblGrid>
                <a:gridCol w="7617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A4B1-0C95-4911-9709-95A63821DF2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9th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ndamental O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her: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 = a[i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rect 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ted inside ker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tter: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[i] = 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rect Wr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catterOp(s_index, s_data, s_dst, SCATTEROP_ASSIG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t write wins r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055A-630C-4546-87EC-040C2AE87CF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9th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therOp &amp; ScatterO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rect read/write with atomic 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herO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 = a[i]+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atherOp(s_index, s_data, s_src, GATHEROP_IN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tterO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[i] += 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tterOp(s_index, s_data, s_dst, SCATTEROP_AD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ant for building and updating data structures for data parallel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EC68-0EFC-4448-BE47-0EAFE66B323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9th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red in 2D fp textures / pbuf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cation at compil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d by run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rn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iled to fragment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cuted by rendering qu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CCA4-80DD-446A-BD5D-95D0A9D418E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9th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iler: brc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2514600"/>
            <a:ext cx="15271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3429000"/>
            <a:ext cx="15271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.c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343400"/>
            <a:ext cx="15271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.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5257800"/>
            <a:ext cx="15271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.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438280"/>
            <a:ext cx="5638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 to Source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te CG/HLS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vert array lookups to texture fe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 stream/texture look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ure address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te C Stub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gment Program Lo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nder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V fp30, ARB fp, ps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E098-3671-42E6-BE38-4066222722C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9th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(lg(n)) P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ent texture 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tex shader (slow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therOp / Scatte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tex shader with CPU sort (slow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8E9C-0CCA-48DA-809A-2C49FB4FB6E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9th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5791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ma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5105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lecular Dynamics Simu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562720" y="3581280"/>
            <a:ext cx="2743200" cy="2286000"/>
            <a:chOff x="5562720" y="3581280"/>
            <a:chExt cx="2743200" cy="2286000"/>
          </a:xfrm>
        </p:grpSpPr>
        <p:sp>
          <p:nvSpPr>
            <p:cNvPr id="138" name=""/>
            <p:cNvSpPr/>
            <p:nvPr/>
          </p:nvSpPr>
          <p:spPr>
            <a:xfrm>
              <a:off x="6208560" y="4167360"/>
              <a:ext cx="25092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9480" y="4419720"/>
              <a:ext cx="250920" cy="250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30880" y="4335480"/>
              <a:ext cx="25092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59480" y="4756320"/>
              <a:ext cx="250920" cy="250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39000" y="4838760"/>
              <a:ext cx="25236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59480" y="3916440"/>
              <a:ext cx="250920" cy="250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96080" y="4253040"/>
              <a:ext cx="252360" cy="2505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48440" y="4756320"/>
              <a:ext cx="250920" cy="250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48440" y="3916440"/>
              <a:ext cx="250920" cy="250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10400" y="4587840"/>
              <a:ext cx="252360" cy="250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77040" y="5176800"/>
              <a:ext cx="250920" cy="250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96080" y="5006880"/>
              <a:ext cx="25236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67480" y="4419720"/>
              <a:ext cx="252360" cy="250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10400" y="5342040"/>
              <a:ext cx="25236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03880" y="4587840"/>
              <a:ext cx="250920" cy="250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81800" y="5006880"/>
              <a:ext cx="25236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48440" y="5259240"/>
              <a:ext cx="250920" cy="252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10400" y="3664080"/>
              <a:ext cx="25236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24680" y="3746520"/>
              <a:ext cx="25236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88080" y="4253040"/>
              <a:ext cx="250920" cy="250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51720" y="3832200"/>
              <a:ext cx="25092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00760" y="4216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2720" y="3581280"/>
              <a:ext cx="1371600" cy="114300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62720" y="4724280"/>
              <a:ext cx="1371600" cy="114300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34320" y="3581280"/>
              <a:ext cx="1371600" cy="114300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34320" y="4724280"/>
              <a:ext cx="1371600" cy="114300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5029200"/>
            <a:ext cx="4432320" cy="80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762120" y="3200400"/>
          <a:ext cx="4495680" cy="86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00400"/>
                    <a:ext cx="449568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762120" y="2666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ce Function  (~90% compute tim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4572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rgy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62720" y="30481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eleration 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ic Lindhal, Erik Darve, Yanan Zh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5791320" y="325440"/>
            <a:ext cx="2514600" cy="226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8DAC-BA74-4A10-94E9-6481D96F8B6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9th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y Trac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36480" y="1600200"/>
          <a:ext cx="3678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1600200"/>
                    <a:ext cx="3678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743360" y="1938240"/>
          <a:ext cx="3848040" cy="38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43360" y="1938240"/>
                    <a:ext cx="3848040" cy="38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2666880" y="11430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 Purcell, Bill Mark, Pat Hanra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55F9-532F-4E98-87CB-9EFD93B0E494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9th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nite Volume Metho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400800" y="1828800"/>
            <a:ext cx="1574640" cy="358128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1295280" y="5486400"/>
            <a:ext cx="6801120" cy="1202760"/>
            <a:chOff x="1295280" y="5486400"/>
            <a:chExt cx="6801120" cy="1202760"/>
          </a:xfrm>
        </p:grpSpPr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1295280" y="5486400"/>
                  <a:ext cx="680112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>
                        <m:t xml:space="preserve">pI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  <m:r>
                        <m:t xml:space="preserve">+</m:t>
                      </m:r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aÄ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2" name=""/>
            <p:cNvSpPr/>
            <p:nvPr/>
          </p:nvSpPr>
          <p:spPr>
            <a:xfrm>
              <a:off x="3581280" y="6248520"/>
              <a:ext cx="2895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i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∂W/∂I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914400" y="2514600"/>
            <a:ext cx="4648320" cy="2286000"/>
            <a:chOff x="914400" y="2514600"/>
            <a:chExt cx="4648320" cy="2286000"/>
          </a:xfrm>
        </p:grpSpPr>
        <p:sp>
          <p:nvSpPr>
            <p:cNvPr id="184" name=""/>
            <p:cNvSpPr/>
            <p:nvPr/>
          </p:nvSpPr>
          <p:spPr>
            <a:xfrm flipH="1">
              <a:off x="1981080" y="3124440"/>
              <a:ext cx="1067040" cy="160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81080" y="4724640"/>
              <a:ext cx="2057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3047760" y="3124080"/>
              <a:ext cx="990360" cy="160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038480" y="3885840"/>
              <a:ext cx="30492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3048120" y="3124440"/>
              <a:ext cx="129528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981080" y="3885840"/>
              <a:ext cx="2362320" cy="838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0" name=""/>
            <p:cNvGraphicFramePr/>
            <p:nvPr/>
          </p:nvGraphicFramePr>
          <p:xfrm>
            <a:off x="3048120" y="3886200"/>
            <a:ext cx="380880" cy="349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8120" y="3886200"/>
                      <a:ext cx="38088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2" name=""/>
            <p:cNvSpPr/>
            <p:nvPr/>
          </p:nvSpPr>
          <p:spPr>
            <a:xfrm flipV="1">
              <a:off x="3733920" y="3504960"/>
              <a:ext cx="1828800" cy="228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1066680" y="4038840"/>
              <a:ext cx="1905120" cy="761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1371600" y="3276720"/>
              <a:ext cx="1295280" cy="380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2666880" y="3657600"/>
              <a:ext cx="533520" cy="152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6" name=""/>
            <p:cNvGraphicFramePr/>
            <p:nvPr/>
          </p:nvGraphicFramePr>
          <p:xfrm>
            <a:off x="914400" y="4343400"/>
            <a:ext cx="247680" cy="381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914400" y="4343400"/>
                      <a:ext cx="24768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8" name=""/>
            <p:cNvGraphicFramePr/>
            <p:nvPr/>
          </p:nvGraphicFramePr>
          <p:xfrm>
            <a:off x="5257800" y="3581640"/>
            <a:ext cx="270000" cy="380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257800" y="3581640"/>
                      <a:ext cx="27000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0" name=""/>
            <p:cNvGraphicFramePr/>
            <p:nvPr/>
          </p:nvGraphicFramePr>
          <p:xfrm>
            <a:off x="1219320" y="2895840"/>
            <a:ext cx="269640" cy="380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219320" y="2895840"/>
                      <a:ext cx="269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2" name=""/>
            <p:cNvSpPr/>
            <p:nvPr/>
          </p:nvSpPr>
          <p:spPr>
            <a:xfrm flipH="1">
              <a:off x="2285640" y="3124440"/>
              <a:ext cx="76212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3048120" y="3048120"/>
              <a:ext cx="7617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2209320" y="2819160"/>
              <a:ext cx="83844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5" name=""/>
            <p:cNvGraphicFramePr/>
            <p:nvPr/>
          </p:nvGraphicFramePr>
          <p:xfrm>
            <a:off x="2023920" y="3048120"/>
            <a:ext cx="338400" cy="4478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023920" y="3048120"/>
                      <a:ext cx="3384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7" name=""/>
            <p:cNvGraphicFramePr/>
            <p:nvPr/>
          </p:nvGraphicFramePr>
          <p:xfrm>
            <a:off x="3657600" y="2590920"/>
            <a:ext cx="361800" cy="4478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657600" y="2590920"/>
                      <a:ext cx="3618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9" name=""/>
            <p:cNvGraphicFramePr/>
            <p:nvPr/>
          </p:nvGraphicFramePr>
          <p:xfrm>
            <a:off x="1828800" y="2514600"/>
            <a:ext cx="360360" cy="44784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828800" y="2514600"/>
                      <a:ext cx="36036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1" name=""/>
          <p:cNvSpPr/>
          <p:nvPr/>
        </p:nvSpPr>
        <p:spPr>
          <a:xfrm>
            <a:off x="1828800" y="12193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seph Teran, Victor Ng-Thow-Hing, Ronald Fedki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3F6F-3857-4312-B1F0-CE057029D94C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9th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graphics hardw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w Perform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tium 4 SS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oretical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GHz * 4 wide * .5 inst / cycle =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 GFL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Force FX 5900 (NV35) Fragment Shader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tain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R R0, R0, R0: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 GFL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valent to a 10 GHz P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getting faster: 3x improvement over NV30 (6 month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2 R&amp;D Cos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l: $4 Bill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VIDIA: $150 Mill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238880" y="1523880"/>
          <a:ext cx="167652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1523880"/>
                    <a:ext cx="16765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191120" y="6230880"/>
            <a:ext cx="4114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from Intel P4 Optimization M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67480" y="31240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eForce F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84F9-8ADC-47E5-87D4-FDCC0763B03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9th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macs, Ray Trac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, Gather, GatherOp, Scatte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VM, F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, Gath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rse Matrix Multiply, Batcher Bitonic S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791320" y="1600200"/>
          <a:ext cx="259056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600200"/>
                    <a:ext cx="25905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5791320" y="2819520"/>
          <a:ext cx="2590560" cy="158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2819520"/>
                    <a:ext cx="259056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4495680" y="4419720"/>
            <a:ext cx="4268880" cy="224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A39F-A2A9-4468-961F-719E8599C82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9th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PU Gotch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57909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VIDIA NV3x:   Register usage vs. GFL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5257800" cy="42145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447920" y="3048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988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E38-0414-461F-B1F6-A5F162241D5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9th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PU Gotch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I Radeon 9800 P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dependent texture look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6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4-bit floating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72200" y="1654200"/>
            <a:ext cx="2590920" cy="5554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ure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2187720"/>
            <a:ext cx="2590920" cy="5554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h 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72200" y="2743200"/>
            <a:ext cx="2590920" cy="5554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ure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3276720"/>
            <a:ext cx="2590920" cy="5554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h 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3809880"/>
            <a:ext cx="2590920" cy="5558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ure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4343400"/>
            <a:ext cx="2590920" cy="5554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h 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590920" cy="5554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ure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72200" y="5410080"/>
            <a:ext cx="2590920" cy="5558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h 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1758-164A-42B8-996E-A90189998CE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9th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PU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ing Integer &amp; Bit 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ure Memory Addr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large flat texture addr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back still s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der compiler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 code performance critical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ative reduction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09BF-8608-4080-AC6C-D2CBE0AC8B9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9th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PU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ative Scatt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not do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[i]=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(indirect wri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t Textur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r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x,y inside fragment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programmable bl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herOp / Scatte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Out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4E75-516E-4BD5-B8B9-E54B36B52C9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9th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prog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V30 prototype 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eduled public release 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ember 15,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Fo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ford Streaming Supercomp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uster ver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9CA6-EB97-4E60-BF57-2ABBDCE5165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9th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PUs are faster than CP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etting fa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Paralle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ithmetic Inten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right programming mod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am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ok for GP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C98B-AF3C-4120-A72B-7DD2FF96CAB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9th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processors aspire to be general-purpos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 van Hook, Keynote, Graphics Hardware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6553080" cy="28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0AFE-C733-4B8B-9C6B-F714FA45FA1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9th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PU: Data Parall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fragment shaded independen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dependencies between frag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orary registers are zero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static vari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Read-Modify-Write tex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“pixel pipe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a Paralle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ter ALU u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de Memory Lat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[Torborg and Kajiya 96, Anderson et al. 97, Igehy et al. 98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315200" y="2438280"/>
            <a:ext cx="1285560" cy="2066760"/>
            <a:chOff x="7315200" y="2438280"/>
            <a:chExt cx="1285560" cy="2066760"/>
          </a:xfrm>
        </p:grpSpPr>
        <p:sp>
          <p:nvSpPr>
            <p:cNvPr id="59" name=""/>
            <p:cNvSpPr/>
            <p:nvPr/>
          </p:nvSpPr>
          <p:spPr>
            <a:xfrm>
              <a:off x="7315200" y="3111480"/>
              <a:ext cx="612720" cy="612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36680" y="2508480"/>
              <a:ext cx="1080" cy="571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01400" y="2448360"/>
              <a:ext cx="70200" cy="70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36680" y="3813120"/>
              <a:ext cx="1080" cy="691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46320" y="3101400"/>
              <a:ext cx="612720" cy="612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867800" y="2498400"/>
              <a:ext cx="1080" cy="570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832520" y="2438280"/>
              <a:ext cx="70200" cy="70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67800" y="3803400"/>
              <a:ext cx="1080" cy="691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757280" y="3111480"/>
              <a:ext cx="612720" cy="612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078760" y="2508480"/>
              <a:ext cx="1080" cy="571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043480" y="2448360"/>
              <a:ext cx="70200" cy="70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078760" y="3813120"/>
              <a:ext cx="1080" cy="691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88040" y="3111480"/>
              <a:ext cx="612720" cy="612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09880" y="2508480"/>
              <a:ext cx="1080" cy="571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274240" y="2448360"/>
              <a:ext cx="70200" cy="70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09880" y="3813120"/>
              <a:ext cx="1080" cy="691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D7DE-03F5-42FC-B5CB-B8271410C95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9th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ithmetic Intens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ts of ops per word transfer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ics pip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t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W: 1 triangle = 32 bytes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: 100-500 f32-ops / tria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ster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16-32 fragments per tria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g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W: 1 fragment = 10 by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: 300-1000 i8-ops/frag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83440" y="616284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urtesy of Pat Hanra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D561-5F6B-4D40-BF50-ADE27C2E756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9th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ithmetic Intens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-to-Bandwidth rat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Arithmetic Intensity desi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 limited by ALU performance, not off-chip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chip real estate for ALUs, not ca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057400" y="3276720"/>
            <a:ext cx="4178160" cy="3378240"/>
            <a:chOff x="2057400" y="3276720"/>
            <a:chExt cx="4178160" cy="3378240"/>
          </a:xfrm>
        </p:grpSpPr>
        <p:sp>
          <p:nvSpPr>
            <p:cNvPr id="81" name=""/>
            <p:cNvSpPr/>
            <p:nvPr/>
          </p:nvSpPr>
          <p:spPr>
            <a:xfrm>
              <a:off x="2057400" y="3276720"/>
              <a:ext cx="4178160" cy="3378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2" name=""/>
            <p:cNvGraphicFramePr/>
            <p:nvPr/>
          </p:nvGraphicFramePr>
          <p:xfrm>
            <a:off x="2101680" y="3551400"/>
            <a:ext cx="3772080" cy="2781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01680" y="3551400"/>
                      <a:ext cx="3772080" cy="278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4" name=""/>
          <p:cNvSpPr/>
          <p:nvPr/>
        </p:nvSpPr>
        <p:spPr>
          <a:xfrm>
            <a:off x="6324480" y="58672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urtesy of Bill D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6A2F-2DF7-461F-8391-45F33C94C48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9th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rook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neral purpo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eamin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angu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am Programming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force Data Parallel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Arthithmetic Inten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fundamental ops for stream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67B8-1579-45A6-8A8B-919959B5233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9th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rook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neral purpo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eamin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angu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nstrate GPU streaming coproces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tualize the GP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de texture/pbuffer data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de graphics based constructs in CG/HLS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de rendering p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light GPU areas for impr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tures required general purpose stream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1B8A-CD08-4910-B8F4-710AEAD0E82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9th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reams &amp; Kerne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ams (Da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ction of records requiring similar compu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tex positions, voxels, FEM cell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data paralle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rnels (Func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ctions applied to each element in 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forms, PDE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dependencies between stream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ourage high Arithmetic Inten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68B6-9FFF-4E09-A2BD-C35195B856B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9th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o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with 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language additions for streams/kern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I for managing 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loat s&lt;200,100&gt;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reamread (s, ptr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reamwrite (s, ptr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7A15-FDA2-4C3D-96C9-B71733EA99F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9th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2:06:39Z</dcterms:created>
  <dc:creator>Ian Buck</dc:creator>
  <dc:description/>
  <dc:language>en-US</dc:language>
  <cp:lastModifiedBy>Ian Buck</cp:lastModifiedBy>
  <dcterms:modified xsi:type="dcterms:W3CDTF">2003-10-19T19:05:23Z</dcterms:modified>
  <cp:revision>197</cp:revision>
  <dc:subject/>
  <dc:title>Data Parallel Computing on Graphics hardware</dc:title>
</cp:coreProperties>
</file>