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6b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9d6b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B03D-9548-4478-B7A4-3DAB3933D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5B2-4FAA-4586-A7B7-434471B5A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7C4-B300-4235-A60A-8845D281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95C8-61AE-48EE-966E-50AE9D5A0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9A4B-9FAC-44C4-BA08-92F2CC8E0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D2B8-E74A-4721-940E-9C5B5AB0F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5812-79DA-4987-BC6A-93E0A412E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6603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0350-B6D0-4C6B-B176-F0DA3537D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A9FF-FCB0-42F6-9B22-789726481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C4AF-CCBA-4075-AF94-CE0F90497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20E5-8D11-48D9-882B-60D24F3ED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6603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0194-1197-44CD-B290-48164A856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61A7-0110-430B-8A39-E254808D4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E258-63F9-41C9-B403-2EBD8DE43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C209-56F2-4940-84D9-189915E0C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65160"/>
            <a:ext cx="9144000" cy="5892840"/>
          </a:xfrm>
          <a:prstGeom prst="rect">
            <a:avLst/>
          </a:prstGeom>
          <a:solidFill>
            <a:srgbClr val="0c29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61976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8e2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9440-7BBF-4B94-BAAE-E3958B3BB850}" type="slidenum">
              <a:rPr b="1" lang="en-US" sz="1400" spc="-1" strike="noStrike">
                <a:solidFill>
                  <a:srgbClr val="e8e2d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112160" cy="914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895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6489720"/>
            <a:ext cx="650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c1a7"/>
                </a:solidFill>
                <a:latin typeface="Times New Roman"/>
              </a:rPr>
              <a:t>Workshop on Parallel Visualization and Graph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4991040" y="-720"/>
            <a:ext cx="4152960" cy="2019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089080"/>
            <a:ext cx="8001000" cy="4768920"/>
          </a:xfrm>
          <a:prstGeom prst="rect">
            <a:avLst/>
          </a:prstGeom>
          <a:solidFill>
            <a:srgbClr val="0c29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01400" y="2209320"/>
            <a:ext cx="7442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6b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9d6b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1054080" cy="6324480"/>
          </a:xfrm>
          <a:prstGeom prst="rect">
            <a:avLst/>
          </a:prstGeom>
          <a:solidFill>
            <a:srgbClr val="5f8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896000" cy="444600"/>
          </a:xfrm>
          <a:prstGeom prst="rect">
            <a:avLst/>
          </a:prstGeom>
          <a:solidFill>
            <a:srgbClr val="b5c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3755880" cy="14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9600" y="6499080"/>
            <a:ext cx="650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c1a7"/>
                </a:solidFill>
                <a:latin typeface="Times New Roman"/>
              </a:rPr>
              <a:t>Workshop on Parallel Visualization and Graph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79880" y="552600"/>
            <a:ext cx="41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hop on Parallel Visualization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01400" y="2209320"/>
            <a:ext cx="7442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6bc"/>
                </a:solidFill>
                <a:latin typeface="Arial"/>
              </a:rPr>
              <a:t>Chromium</a:t>
            </a:r>
            <a:endParaRPr b="0" lang="en-US" sz="3200" spc="-1" strike="noStrike">
              <a:solidFill>
                <a:srgbClr val="c9d6b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8800" y="4280040"/>
            <a:ext cx="74293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Mike Houston, Stanford University</a:t>
            </a: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and</a:t>
            </a: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The Chromium Community</a:t>
            </a: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Example: Sort-Last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0760" y="5526000"/>
            <a:ext cx="850104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runs directly on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e application can use sort-last or sort-fi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90720" y="1523880"/>
            <a:ext cx="3047760" cy="3276720"/>
            <a:chOff x="990720" y="1523880"/>
            <a:chExt cx="3047760" cy="3276720"/>
          </a:xfrm>
        </p:grpSpPr>
        <p:sp>
          <p:nvSpPr>
            <p:cNvPr id="173" name=""/>
            <p:cNvSpPr/>
            <p:nvPr/>
          </p:nvSpPr>
          <p:spPr>
            <a:xfrm>
              <a:off x="2361960" y="350532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90720" y="152388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90720" y="259092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90720" y="434340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90720" y="1981080"/>
            <a:ext cx="1523880" cy="3276720"/>
            <a:chOff x="990720" y="1981080"/>
            <a:chExt cx="1523880" cy="3276720"/>
          </a:xfrm>
        </p:grpSpPr>
        <p:sp>
          <p:nvSpPr>
            <p:cNvPr id="178" name=""/>
            <p:cNvSpPr/>
            <p:nvPr/>
          </p:nvSpPr>
          <p:spPr>
            <a:xfrm>
              <a:off x="990720" y="198108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a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304812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a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80060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a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14600" y="1981080"/>
            <a:ext cx="1523880" cy="3276720"/>
            <a:chOff x="2514600" y="1981080"/>
            <a:chExt cx="1523880" cy="3276720"/>
          </a:xfrm>
        </p:grpSpPr>
        <p:sp>
          <p:nvSpPr>
            <p:cNvPr id="182" name=""/>
            <p:cNvSpPr/>
            <p:nvPr/>
          </p:nvSpPr>
          <p:spPr>
            <a:xfrm>
              <a:off x="2514600" y="198108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4600" y="304812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480060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562720" y="2743200"/>
            <a:ext cx="1523880" cy="457200"/>
          </a:xfrm>
          <a:prstGeom prst="rect">
            <a:avLst/>
          </a:prstGeom>
          <a:solidFill>
            <a:srgbClr val="3500b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3200400"/>
            <a:ext cx="1523880" cy="457200"/>
          </a:xfrm>
          <a:prstGeom prst="rect">
            <a:avLst/>
          </a:prstGeom>
          <a:solidFill>
            <a:srgbClr val="1a005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38480" y="2209680"/>
            <a:ext cx="1524240" cy="2819160"/>
            <a:chOff x="4038480" y="2209680"/>
            <a:chExt cx="1524240" cy="2819160"/>
          </a:xfrm>
        </p:grpSpPr>
        <p:sp>
          <p:nvSpPr>
            <p:cNvPr id="188" name=""/>
            <p:cNvSpPr/>
            <p:nvPr/>
          </p:nvSpPr>
          <p:spPr>
            <a:xfrm flipV="1">
              <a:off x="4038480" y="2971440"/>
              <a:ext cx="152424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2209680"/>
              <a:ext cx="152424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038480" y="3047760"/>
              <a:ext cx="1524240" cy="198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82F7-4253-48B5-89FD-2646B65B75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SPU Inheritance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dback and Render SPUs ar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back renders everything except SwapBuf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back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inherits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Render S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ride parent’s implementation of SwapBuf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penGL calls considered “virtu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91AF-A99C-4FF0-98E4-683C2C7DAB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Readback’s SwapBuffer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0760" y="5409720"/>
            <a:ext cx="85010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ily extended to include depth composi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other functions inherited from Render S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1197000"/>
            <a:ext cx="8553600" cy="3506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void RB_SwapBuffers(vo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self.ReadPixels( 0, 0, w, h, ...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child.Clear( GL_COLOR_BUFFER_BI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child.SemaphorePCR( READBACK_SEMAPHORE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child.RasterPos2i( tileX, tileY )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child.DrawPixels( w, h, ...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child.SemaphoreVCR( READBACK_SEMAPHORE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child.SwapBuffers(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D5A9-0E77-42C1-80B0-A25B947BC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eacf"/>
                </a:solidFill>
                <a:latin typeface="Arial"/>
              </a:rPr>
              <a:t>More Complicated Example: Hybrid</a:t>
            </a:r>
            <a:endParaRPr b="0" lang="en-US" sz="2700" spc="-1" strike="noStrike">
              <a:solidFill>
                <a:srgbClr val="daeac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5120" y="1828440"/>
            <a:ext cx="1371600" cy="2819880"/>
            <a:chOff x="1905120" y="1828440"/>
            <a:chExt cx="1371600" cy="2819880"/>
          </a:xfrm>
        </p:grpSpPr>
        <p:sp>
          <p:nvSpPr>
            <p:cNvPr id="198" name=""/>
            <p:cNvSpPr/>
            <p:nvPr/>
          </p:nvSpPr>
          <p:spPr>
            <a:xfrm flipV="1">
              <a:off x="1905120" y="1828440"/>
              <a:ext cx="137160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2438280"/>
              <a:ext cx="13716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438280"/>
              <a:ext cx="1371600" cy="2210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905120" y="1904760"/>
            <a:ext cx="1371600" cy="2895840"/>
            <a:chOff x="1905120" y="1904760"/>
            <a:chExt cx="1371600" cy="2895840"/>
          </a:xfrm>
        </p:grpSpPr>
        <p:sp>
          <p:nvSpPr>
            <p:cNvPr id="202" name=""/>
            <p:cNvSpPr/>
            <p:nvPr/>
          </p:nvSpPr>
          <p:spPr>
            <a:xfrm flipV="1">
              <a:off x="1905120" y="2971800"/>
              <a:ext cx="13716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5120" y="3505320"/>
              <a:ext cx="137160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05120" y="1904760"/>
              <a:ext cx="137160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05120" y="2057400"/>
            <a:ext cx="1371600" cy="3200400"/>
            <a:chOff x="1905120" y="2057400"/>
            <a:chExt cx="1371600" cy="3200400"/>
          </a:xfrm>
        </p:grpSpPr>
        <p:sp>
          <p:nvSpPr>
            <p:cNvPr id="206" name=""/>
            <p:cNvSpPr/>
            <p:nvPr/>
          </p:nvSpPr>
          <p:spPr>
            <a:xfrm flipV="1">
              <a:off x="1905120" y="4876920"/>
              <a:ext cx="1371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905120" y="3048120"/>
              <a:ext cx="1371600" cy="220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905120" y="2057400"/>
              <a:ext cx="1371600" cy="320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1752480"/>
            <a:ext cx="1524240" cy="3276720"/>
            <a:chOff x="380880" y="1752480"/>
            <a:chExt cx="1524240" cy="3276720"/>
          </a:xfrm>
        </p:grpSpPr>
        <p:sp>
          <p:nvSpPr>
            <p:cNvPr id="210" name=""/>
            <p:cNvSpPr/>
            <p:nvPr/>
          </p:nvSpPr>
          <p:spPr>
            <a:xfrm>
              <a:off x="380880" y="1752480"/>
              <a:ext cx="152424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2819520"/>
              <a:ext cx="152424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880" y="4572000"/>
              <a:ext cx="152424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1520" y="374508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880" y="2209680"/>
            <a:ext cx="1524240" cy="3276720"/>
            <a:chOff x="380880" y="2209680"/>
            <a:chExt cx="1524240" cy="3276720"/>
          </a:xfrm>
        </p:grpSpPr>
        <p:sp>
          <p:nvSpPr>
            <p:cNvPr id="215" name=""/>
            <p:cNvSpPr/>
            <p:nvPr/>
          </p:nvSpPr>
          <p:spPr>
            <a:xfrm>
              <a:off x="380880" y="3276720"/>
              <a:ext cx="152424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Tiles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2209680"/>
              <a:ext cx="152424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Tiles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5029200"/>
              <a:ext cx="152424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Tiles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76720" y="1752480"/>
            <a:ext cx="3047760" cy="3276720"/>
            <a:chOff x="3276720" y="1752480"/>
            <a:chExt cx="3047760" cy="3276720"/>
          </a:xfrm>
        </p:grpSpPr>
        <p:sp>
          <p:nvSpPr>
            <p:cNvPr id="219" name=""/>
            <p:cNvSpPr/>
            <p:nvPr/>
          </p:nvSpPr>
          <p:spPr>
            <a:xfrm>
              <a:off x="4647960" y="373392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6720" y="175248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76720" y="281952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720" y="457200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76720" y="2209680"/>
            <a:ext cx="1523880" cy="3276720"/>
            <a:chOff x="3276720" y="2209680"/>
            <a:chExt cx="1523880" cy="3276720"/>
          </a:xfrm>
        </p:grpSpPr>
        <p:sp>
          <p:nvSpPr>
            <p:cNvPr id="224" name=""/>
            <p:cNvSpPr/>
            <p:nvPr/>
          </p:nvSpPr>
          <p:spPr>
            <a:xfrm>
              <a:off x="3276720" y="220968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a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76720" y="327672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a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76720" y="502920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a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0600" y="2209680"/>
            <a:ext cx="1523880" cy="3276720"/>
            <a:chOff x="4800600" y="2209680"/>
            <a:chExt cx="1523880" cy="3276720"/>
          </a:xfrm>
        </p:grpSpPr>
        <p:sp>
          <p:nvSpPr>
            <p:cNvPr id="228" name=""/>
            <p:cNvSpPr/>
            <p:nvPr/>
          </p:nvSpPr>
          <p:spPr>
            <a:xfrm>
              <a:off x="4800600" y="220968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0600" y="327672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0600" y="5029200"/>
              <a:ext cx="152388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238880" y="3124080"/>
            <a:ext cx="1524240" cy="457200"/>
          </a:xfrm>
          <a:prstGeom prst="rect">
            <a:avLst/>
          </a:prstGeom>
          <a:solidFill>
            <a:srgbClr val="3500b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3581280"/>
            <a:ext cx="1524240" cy="457200"/>
          </a:xfrm>
          <a:prstGeom prst="rect">
            <a:avLst/>
          </a:prstGeom>
          <a:solidFill>
            <a:srgbClr val="1a005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324480" y="2438280"/>
            <a:ext cx="914400" cy="2895840"/>
            <a:chOff x="6324480" y="2438280"/>
            <a:chExt cx="914400" cy="2895840"/>
          </a:xfrm>
        </p:grpSpPr>
        <p:sp>
          <p:nvSpPr>
            <p:cNvPr id="234" name=""/>
            <p:cNvSpPr/>
            <p:nvPr/>
          </p:nvSpPr>
          <p:spPr>
            <a:xfrm>
              <a:off x="6324480" y="2438280"/>
              <a:ext cx="914400" cy="83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324480" y="3352680"/>
              <a:ext cx="91440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324480" y="3429000"/>
              <a:ext cx="91440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D0F4-8EA2-42A7-BC99-C8ADC68276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Networks Supported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U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r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band (coming so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E25A-A8D8-4484-A9B5-CBADFFB01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New Things to Chromium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X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list management (DL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C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003400" y="3338640"/>
            <a:ext cx="4149720" cy="520560"/>
            <a:chOff x="2003400" y="3338640"/>
            <a:chExt cx="4149720" cy="520560"/>
          </a:xfrm>
        </p:grpSpPr>
        <p:sp>
          <p:nvSpPr>
            <p:cNvPr id="242" name=""/>
            <p:cNvSpPr/>
            <p:nvPr/>
          </p:nvSpPr>
          <p:spPr>
            <a:xfrm flipH="1">
              <a:off x="2003400" y="3598920"/>
              <a:ext cx="1103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49280" y="3338640"/>
              <a:ext cx="300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ale’s tal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6566-80DD-48B3-9484-0A82566FBB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Extension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ARB_fragment_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ARB_vertex_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NV_fragment_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NV_vertex_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NV_texture_rect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EXT_shadow_fun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EXT_texture_rect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_IBM_raster_pos_c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3F21-F49E-4654-82E2-75DA937F6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DMX Support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Multi-headed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X session across multiple-disp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GL through Chrom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ium “DMX awar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/resizing = ret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 to N 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9185-5581-453F-9F40-45C447478B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DMX In Action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12636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3DB4-A4BE-476E-A14A-DDBFE7360A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Display List Management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List Manager (D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tracking is really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y state calls on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list 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ding Box tracking of displa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broadcasting data in displa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calls once per server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B5C1-ECD1-404E-B60D-38DB8C81A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How Chromium work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s system’s OpenGL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y standard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existing unmodifi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pulates streams of API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/inject/discard commands and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commands over 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 commands using graphics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parallel applications to issue OpenG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 ordering between multiple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F884-114E-4074-B787-2136A427C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VNC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forwar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s GLX calls to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 bypasse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’t get pix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GL apps load Chrom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 on local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back pix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user’s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35AE-CAF8-451C-BBBE-250AC6FA5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07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people doing with Chromiu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B7C4-3B28-491A-BD8E-38B190442A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Dynamic Screen Calibration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98720" y="15620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CA25-7ECD-4743-8EBA-80A8D32CB8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9355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343400" y="1974960"/>
            <a:ext cx="4724280" cy="3287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8600" y="1967040"/>
            <a:ext cx="4114800" cy="32907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Quake3 Arena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84880" y="60674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iederauer,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063D-C59D-40BD-AD62-99E5C6FBA9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496960" y="1569960"/>
            <a:ext cx="6477120" cy="4473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08080" y="1571760"/>
            <a:ext cx="2346120" cy="44751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Viewed in a new way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84880" y="60674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iederauer,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A9C3-15E5-41BD-9E1F-7A53AD7D8A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Architectural Analysi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geo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floor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o orthographic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clip planes at the cei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 floors a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pass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813200"/>
            <a:ext cx="9144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n-Invasive Interactive Visualization of Dynamic Architectural Environmen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ristopher Niederauer, Mike Houston, Maneesh Agrawala, Greg Humphrey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CM SIGGRAPH 2003 Symposium on Interactive 3D Graph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E96D-E95F-43A4-B5B0-35B1E36CB7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Batch Scheduler Integration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line rendering to a web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assive compu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dering with Vis 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support with 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15200" y="6153120"/>
            <a:ext cx="27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ittsburg Supercomputer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D397-1400-431E-910E-472A00BAC1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25760" y="92628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4680" y="1793520"/>
            <a:ext cx="396072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50 Comput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0 EV68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 Tf (peak, est &gt;4Tf on L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TB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7 TB local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-rail fat-tre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ndant monitor/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N/LAN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el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 servers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30TB, ~32 G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s store, ~1 TB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657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/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06440" y="1274760"/>
            <a:ext cx="4211280" cy="4863600"/>
            <a:chOff x="406440" y="1274760"/>
            <a:chExt cx="4211280" cy="4863600"/>
          </a:xfrm>
        </p:grpSpPr>
        <p:sp>
          <p:nvSpPr>
            <p:cNvPr id="275" name=""/>
            <p:cNvSpPr/>
            <p:nvPr/>
          </p:nvSpPr>
          <p:spPr>
            <a:xfrm>
              <a:off x="654120" y="4014720"/>
              <a:ext cx="990720" cy="8218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40560" y="3809160"/>
              <a:ext cx="1796040" cy="890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dr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920" y="1411920"/>
              <a:ext cx="867240" cy="547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6600" y="1891080"/>
              <a:ext cx="267120" cy="2123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83280" y="1274760"/>
              <a:ext cx="3034440" cy="2123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N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35920" y="2302200"/>
              <a:ext cx="1617840" cy="898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335240" y="3192840"/>
              <a:ext cx="804960" cy="890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3160" y="4905360"/>
              <a:ext cx="1114560" cy="5479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1520640" y="4356720"/>
              <a:ext cx="1981800" cy="82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59080" y="4905360"/>
              <a:ext cx="1238760" cy="68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ss 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26320" y="5727600"/>
              <a:ext cx="557280" cy="4107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24360" y="5652000"/>
              <a:ext cx="618840" cy="479520"/>
            </a:xfrm>
            <a:prstGeom prst="flowChartMagneticTap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1211040" y="4836600"/>
              <a:ext cx="309240" cy="342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644840" y="5522040"/>
              <a:ext cx="6192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50160" y="5522040"/>
              <a:ext cx="12348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61200" y="1959840"/>
              <a:ext cx="64440" cy="41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078640" y="4562640"/>
              <a:ext cx="37152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839880" y="2233440"/>
              <a:ext cx="1177560" cy="479520"/>
              <a:chOff x="839880" y="2233440"/>
              <a:chExt cx="1177560" cy="479520"/>
            </a:xfrm>
          </p:grpSpPr>
          <p:sp>
            <p:nvSpPr>
              <p:cNvPr id="293" name=""/>
              <p:cNvSpPr/>
              <p:nvPr/>
            </p:nvSpPr>
            <p:spPr>
              <a:xfrm>
                <a:off x="839880" y="2233800"/>
                <a:ext cx="1114560" cy="47916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999360" y="2233440"/>
                <a:ext cx="956160" cy="464760"/>
                <a:chOff x="999360" y="2233440"/>
                <a:chExt cx="956160" cy="4647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999360" y="2233800"/>
                  <a:ext cx="956160" cy="46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999360" y="2233080"/>
                  <a:ext cx="956160" cy="46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477440" y="2233800"/>
                  <a:ext cx="0" cy="46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855360" y="2284200"/>
                <a:ext cx="116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act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149480" y="2644920"/>
              <a:ext cx="371520" cy="273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h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35240" y="1754280"/>
              <a:ext cx="43344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88920" y="4562640"/>
              <a:ext cx="3715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07800" y="3398400"/>
              <a:ext cx="0" cy="41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06440" y="4151880"/>
              <a:ext cx="37152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Terascale Computing System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15200" y="6153120"/>
            <a:ext cx="27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ittsburg Supercomputer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3BE4-8EC5-4A25-BD88-EA49BEBE4D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sub –l rmsnodes=3:12,other=visnodes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waits until 3 nodes (12 cpus) become available AND 5 vis nodes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esources available, job r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vis web page for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15200" y="6153120"/>
            <a:ext cx="27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ittsburg Supercomputer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DABC-BE7B-4C90-BFB2-A9068868F3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307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ing in the next ye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F15F-CA9C-48F5-B3B6-295C197EF5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Graphics Stream Processing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eat OpenGL calls as a stream of comm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m a DAG of stream transformation n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are computers in a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s are OpenGL API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node has a </a:t>
            </a:r>
            <a:r>
              <a:rPr b="0" i="1" lang="en-US" sz="2600" spc="-1" strike="noStrike">
                <a:solidFill>
                  <a:srgbClr val="bbe0e3"/>
                </a:solidFill>
                <a:latin typeface="Arial"/>
              </a:rPr>
              <a:t>serial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tage and a </a:t>
            </a:r>
            <a:r>
              <a:rPr b="0" i="1" lang="en-US" sz="2600" spc="-1" strike="noStrike">
                <a:solidFill>
                  <a:srgbClr val="bbe0e3"/>
                </a:solidFill>
                <a:latin typeface="Arial"/>
              </a:rPr>
              <a:t>transformation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D467-A201-4BFC-BCAE-951E9776BE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General Improvement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track OpenG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lis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les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Compos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931A-EEFB-4259-A3B3-1F31CF2A62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PICA Support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Image Compositing API (P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I for hardware and software compos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supported by most hardware compos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ium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 almost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software compos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back (N to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-sw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info from hardware fo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7647-98F4-46D6-A9FA-6D5FAE4BE5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Vis as a service”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integration with sched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/Render/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event model (CR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et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DCE5-87CC-4845-B019-AE86185747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Look at how much was done last year!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 bug 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890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ium is used in the real worl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895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ium is supported by a large communit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961-48EF-470D-A468-AD1AE6A7E1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Go get it!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040" y="1306440"/>
            <a:ext cx="821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1040" y="3251160"/>
            <a:ext cx="77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chromium.sourceforge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3F01-80EF-4D71-B790-6804149B45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Acknowlegement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romium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 Humphr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an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l W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n Hourih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BEDB-96E9-42BD-AB8B-80AA6F6BD8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Stream Serialization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vert multiple streams into a single 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fficiently context-switch between stre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ain ordering using Parallel OpenGL extensions [Igehy98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kinds of serializer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serv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modified serial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ustom parallel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77040" y="3419640"/>
            <a:ext cx="1776240" cy="1447200"/>
            <a:chOff x="5477040" y="3419640"/>
            <a:chExt cx="1776240" cy="1447200"/>
          </a:xfrm>
        </p:grpSpPr>
        <p:sp>
          <p:nvSpPr>
            <p:cNvPr id="104" name=""/>
            <p:cNvSpPr/>
            <p:nvPr/>
          </p:nvSpPr>
          <p:spPr>
            <a:xfrm>
              <a:off x="6262920" y="3946320"/>
              <a:ext cx="990360" cy="626760"/>
            </a:xfrm>
            <a:prstGeom prst="rect">
              <a:avLst/>
            </a:prstGeom>
            <a:solidFill>
              <a:srgbClr val="3500b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rebuchet MS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7040" y="3419640"/>
              <a:ext cx="762120" cy="60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77040" y="3814560"/>
              <a:ext cx="762120" cy="290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77040" y="420840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477040" y="4333320"/>
              <a:ext cx="76212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477040" y="4485960"/>
              <a:ext cx="76212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96080" y="4562280"/>
              <a:ext cx="0" cy="26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29440" y="5272200"/>
            <a:ext cx="990360" cy="969840"/>
            <a:chOff x="6229440" y="5272200"/>
            <a:chExt cx="990360" cy="969840"/>
          </a:xfrm>
        </p:grpSpPr>
        <p:sp>
          <p:nvSpPr>
            <p:cNvPr id="112" name=""/>
            <p:cNvSpPr/>
            <p:nvPr/>
          </p:nvSpPr>
          <p:spPr>
            <a:xfrm>
              <a:off x="6229440" y="5272200"/>
              <a:ext cx="990360" cy="496800"/>
            </a:xfrm>
            <a:prstGeom prst="rect">
              <a:avLst/>
            </a:prstGeom>
            <a:solidFill>
              <a:srgbClr val="3500b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9440" y="5769000"/>
              <a:ext cx="990360" cy="264960"/>
            </a:xfrm>
            <a:prstGeom prst="rect">
              <a:avLst/>
            </a:prstGeom>
            <a:solidFill>
              <a:srgbClr val="3500b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OpenG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62600" y="6033960"/>
              <a:ext cx="0" cy="20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8D3F-A2BB-4993-8985-165286216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Stream Transformation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ized stream is dispatched to “Stream Processing Units” (SP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PU is a shared libr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s a (partial) OpenG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node loads a </a:t>
            </a:r>
            <a:r>
              <a:rPr b="0" i="1" lang="en-US" sz="2600" spc="-1" strike="noStrike">
                <a:solidFill>
                  <a:srgbClr val="c8e1cf"/>
                </a:solidFill>
                <a:latin typeface="Arial"/>
              </a:rPr>
              <a:t>cha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SPUs at run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Us are generic and interchange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11D1-0510-4CA5-9234-9853C616D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SPU Chains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01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Us are loaded as parts of linear ch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usage: intercept a few OpenGL calls, pass all others to downstream S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simple state changes, such as “wireframe” 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CADB-A6A8-429A-A61D-A551E55FB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Output Scalability (Sort-First)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528624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displays with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unmodif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ossibilities: broadcast, ring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66880" y="1676160"/>
            <a:ext cx="1371600" cy="2895840"/>
            <a:chOff x="2666880" y="1676160"/>
            <a:chExt cx="1371600" cy="2895840"/>
          </a:xfrm>
        </p:grpSpPr>
        <p:sp>
          <p:nvSpPr>
            <p:cNvPr id="122" name=""/>
            <p:cNvSpPr/>
            <p:nvPr/>
          </p:nvSpPr>
          <p:spPr>
            <a:xfrm flipV="1">
              <a:off x="2666880" y="2743200"/>
              <a:ext cx="137160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3200400"/>
              <a:ext cx="137160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666880" y="1676160"/>
              <a:ext cx="1371600" cy="15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143000" y="2743200"/>
            <a:ext cx="1523880" cy="914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38480" y="1219320"/>
            <a:ext cx="1524240" cy="3733560"/>
            <a:chOff x="4038480" y="1219320"/>
            <a:chExt cx="1524240" cy="3733560"/>
          </a:xfrm>
        </p:grpSpPr>
        <p:sp>
          <p:nvSpPr>
            <p:cNvPr id="127" name=""/>
            <p:cNvSpPr/>
            <p:nvPr/>
          </p:nvSpPr>
          <p:spPr>
            <a:xfrm>
              <a:off x="4038480" y="1219320"/>
              <a:ext cx="15242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8480" y="2286000"/>
              <a:ext cx="1524240" cy="914400"/>
            </a:xfrm>
            <a:prstGeom prst="rect">
              <a:avLst/>
            </a:prstGeom>
            <a:solidFill>
              <a:srgbClr val="77777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8480" y="4038480"/>
              <a:ext cx="1524240" cy="9144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74960" y="319896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62720" y="1219320"/>
            <a:ext cx="1828800" cy="3733560"/>
            <a:chOff x="5562720" y="1219320"/>
            <a:chExt cx="1828800" cy="3733560"/>
          </a:xfrm>
        </p:grpSpPr>
        <p:sp>
          <p:nvSpPr>
            <p:cNvPr id="132" name=""/>
            <p:cNvSpPr/>
            <p:nvPr/>
          </p:nvSpPr>
          <p:spPr>
            <a:xfrm>
              <a:off x="5867280" y="1219320"/>
              <a:ext cx="15242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2286000"/>
              <a:ext cx="15242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4038480"/>
              <a:ext cx="15242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27440" y="320040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167652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27432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44956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D915-EA7D-4EA9-9614-F37ACE754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eacf"/>
                </a:solidFill>
                <a:latin typeface="Arial"/>
              </a:rPr>
              <a:t>Example: Sort-First</a:t>
            </a:r>
            <a:endParaRPr b="0" lang="en-US" sz="2700" spc="-1" strike="noStrike">
              <a:solidFill>
                <a:srgbClr val="daeac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63720" y="2020680"/>
            <a:ext cx="1371600" cy="2895840"/>
            <a:chOff x="2763720" y="2020680"/>
            <a:chExt cx="1371600" cy="2895840"/>
          </a:xfrm>
        </p:grpSpPr>
        <p:sp>
          <p:nvSpPr>
            <p:cNvPr id="141" name=""/>
            <p:cNvSpPr/>
            <p:nvPr/>
          </p:nvSpPr>
          <p:spPr>
            <a:xfrm flipV="1">
              <a:off x="2763720" y="3087720"/>
              <a:ext cx="13716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63720" y="3621240"/>
              <a:ext cx="137160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763720" y="2020680"/>
              <a:ext cx="137160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44480" y="2892600"/>
            <a:ext cx="2032200" cy="457200"/>
          </a:xfrm>
          <a:prstGeom prst="rect">
            <a:avLst/>
          </a:prstGeom>
          <a:solidFill>
            <a:srgbClr val="3500b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480" y="3349800"/>
            <a:ext cx="2032200" cy="457200"/>
          </a:xfrm>
          <a:prstGeom prst="rect">
            <a:avLst/>
          </a:prstGeom>
          <a:solidFill>
            <a:srgbClr val="1a005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il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133880" y="1752480"/>
            <a:ext cx="3047760" cy="3276720"/>
            <a:chOff x="4133880" y="1752480"/>
            <a:chExt cx="3047760" cy="3276720"/>
          </a:xfrm>
        </p:grpSpPr>
        <p:sp>
          <p:nvSpPr>
            <p:cNvPr id="147" name=""/>
            <p:cNvSpPr/>
            <p:nvPr/>
          </p:nvSpPr>
          <p:spPr>
            <a:xfrm>
              <a:off x="5505120" y="373392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3880" y="175248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33880" y="281952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33880" y="4572000"/>
              <a:ext cx="3047760" cy="457200"/>
            </a:xfrm>
            <a:prstGeom prst="rect">
              <a:avLst/>
            </a:prstGeom>
            <a:solidFill>
              <a:srgbClr val="3500b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33880" y="2209680"/>
            <a:ext cx="3045960" cy="3276720"/>
            <a:chOff x="4133880" y="2209680"/>
            <a:chExt cx="3045960" cy="3276720"/>
          </a:xfrm>
        </p:grpSpPr>
        <p:sp>
          <p:nvSpPr>
            <p:cNvPr id="152" name=""/>
            <p:cNvSpPr/>
            <p:nvPr/>
          </p:nvSpPr>
          <p:spPr>
            <a:xfrm>
              <a:off x="4133880" y="2209680"/>
              <a:ext cx="304596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3880" y="3276720"/>
              <a:ext cx="304596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33880" y="5029200"/>
              <a:ext cx="3045960" cy="457200"/>
            </a:xfrm>
            <a:prstGeom prst="rect">
              <a:avLst/>
            </a:prstGeom>
            <a:solidFill>
              <a:srgbClr val="1a005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72AD-C6AC-49F0-ADAD-E033DB274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Input Scalability (Sort-Last)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5760" y="5246640"/>
            <a:ext cx="847116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geometry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data sub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66680" y="1219320"/>
            <a:ext cx="1524240" cy="3733560"/>
            <a:chOff x="1066680" y="1219320"/>
            <a:chExt cx="1524240" cy="3733560"/>
          </a:xfrm>
        </p:grpSpPr>
        <p:sp>
          <p:nvSpPr>
            <p:cNvPr id="158" name=""/>
            <p:cNvSpPr/>
            <p:nvPr/>
          </p:nvSpPr>
          <p:spPr>
            <a:xfrm>
              <a:off x="1066680" y="1219320"/>
              <a:ext cx="1524240" cy="91440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6680" y="2286000"/>
              <a:ext cx="1524240" cy="914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66680" y="4038480"/>
              <a:ext cx="1524240" cy="91440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3160" y="3198960"/>
              <a:ext cx="354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486400" y="2819520"/>
            <a:ext cx="1828800" cy="914400"/>
            <a:chOff x="5486400" y="2819520"/>
            <a:chExt cx="1828800" cy="914400"/>
          </a:xfrm>
        </p:grpSpPr>
        <p:sp>
          <p:nvSpPr>
            <p:cNvPr id="163" name=""/>
            <p:cNvSpPr/>
            <p:nvPr/>
          </p:nvSpPr>
          <p:spPr>
            <a:xfrm>
              <a:off x="5790960" y="2819520"/>
              <a:ext cx="15242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6400" y="327672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962520" y="2819520"/>
            <a:ext cx="1523880" cy="914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90920" y="1676520"/>
            <a:ext cx="1371600" cy="2895480"/>
            <a:chOff x="2590920" y="1676520"/>
            <a:chExt cx="1371600" cy="2895480"/>
          </a:xfrm>
        </p:grpSpPr>
        <p:sp>
          <p:nvSpPr>
            <p:cNvPr id="167" name=""/>
            <p:cNvSpPr/>
            <p:nvPr/>
          </p:nvSpPr>
          <p:spPr>
            <a:xfrm>
              <a:off x="2590920" y="1676520"/>
              <a:ext cx="1371600" cy="1447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0920" y="2743200"/>
              <a:ext cx="137160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590920" y="3276720"/>
              <a:ext cx="137160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3147-EFDF-46FE-998A-29763236F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8:41:10Z</dcterms:created>
  <dc:creator>Melissa Kingman</dc:creator>
  <dc:description/>
  <dc:language>en-US</dc:language>
  <cp:lastModifiedBy>Guardian</cp:lastModifiedBy>
  <dcterms:modified xsi:type="dcterms:W3CDTF">2003-10-19T17:19:03Z</dcterms:modified>
  <cp:revision>122</cp:revision>
  <dc:subject/>
  <dc:title>PowerPoint Presentation</dc:title>
</cp:coreProperties>
</file>