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39FC-9625-4110-A1DD-E2C4CC123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91600" y="396216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C03C-195E-4FF8-BC0C-00EAABC9FC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248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9BEA-6696-4FBA-9929-EB6CAE549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576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92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9160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576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92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9C4C-9409-48B4-94CB-3522E18B1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4160" y="0"/>
            <a:ext cx="66038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88EF7-C011-4CE4-9DBC-0E475BA17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248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91600" y="396216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248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5576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992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9160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5576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992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2D43F-7FA4-4615-96D3-00BB3FA77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389C2-A6B2-41A0-AA1F-BA6B591B7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21C4-B8C7-4543-87FF-7B72ECD78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4160" y="0"/>
            <a:ext cx="66038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6F1A-A733-47B4-A327-2F868B4B4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6A69-78D2-42FA-997D-3E4D977E8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248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40143-7ED5-484D-A08F-48A15902D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82326-6EE4-4C1C-9BFC-D6BD4C1D6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65160"/>
            <a:ext cx="9144000" cy="5892840"/>
          </a:xfrm>
          <a:prstGeom prst="rect">
            <a:avLst/>
          </a:prstGeom>
          <a:solidFill>
            <a:srgbClr val="0c29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eac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619760" y="640080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8e2d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9CB4-3368-45FC-988D-778D807FB1C0}" type="slidenum">
              <a:rPr b="1" lang="en-US" sz="1400" spc="-1" strike="noStrike">
                <a:solidFill>
                  <a:srgbClr val="e8e2d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7112160" cy="9144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eac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72280" y="0"/>
            <a:ext cx="1971720" cy="895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6489720"/>
            <a:ext cx="650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c1a7"/>
                </a:solidFill>
                <a:latin typeface="Times New Roman"/>
              </a:rPr>
              <a:t>Workshop on Parallel Visualization and Graph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4991040" y="-720"/>
            <a:ext cx="4152960" cy="201924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089080"/>
            <a:ext cx="8001000" cy="4768920"/>
          </a:xfrm>
          <a:prstGeom prst="rect">
            <a:avLst/>
          </a:prstGeom>
          <a:solidFill>
            <a:srgbClr val="0c29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01400" y="2209320"/>
            <a:ext cx="7442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d6b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9d6b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3520"/>
            <a:ext cx="1054080" cy="6324480"/>
          </a:xfrm>
          <a:prstGeom prst="rect">
            <a:avLst/>
          </a:prstGeom>
          <a:solidFill>
            <a:srgbClr val="5f8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4896000" cy="444600"/>
          </a:xfrm>
          <a:prstGeom prst="rect">
            <a:avLst/>
          </a:prstGeom>
          <a:solidFill>
            <a:srgbClr val="b5c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43000" y="533520"/>
            <a:ext cx="3755880" cy="14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09600" y="6499080"/>
            <a:ext cx="650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c1a7"/>
                </a:solidFill>
                <a:latin typeface="Times New Roman"/>
              </a:rPr>
              <a:t>Workshop on Parallel Visualization and Graph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21440" y="552600"/>
            <a:ext cx="377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shop on Parallel Visualization and 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be0e3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01400" y="2209320"/>
            <a:ext cx="7442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6b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88800" y="4280040"/>
            <a:ext cx="74293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eac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E46A-EA05-48E5-B80A-0C345E372D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8:41:10Z</dcterms:created>
  <dc:creator>Melissa Kingman</dc:creator>
  <dc:description/>
  <dc:language>en-US</dc:language>
  <cp:lastModifiedBy>Guardian</cp:lastModifiedBy>
  <dcterms:modified xsi:type="dcterms:W3CDTF">2003-10-17T01:07:43Z</dcterms:modified>
  <cp:revision>63</cp:revision>
  <dc:subject/>
  <dc:title>PowerPoint Presentation</dc:title>
</cp:coreProperties>
</file>